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47B3C-816C-4CA3-8D16-09CAA530F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9D61-C0E1-4C53-A800-D1CFC1D9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7FFC4-0BA1-4B13-A4D4-A89B2A0CE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1207F-DF63-4460-A62C-F9FF57D67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81703-EE7B-4B5F-A042-DA73FEC15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00DA4-192B-4234-9875-539745E05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EF91C-A57A-4DFB-B37D-8D6A3AE38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C92F5-6875-4E98-A650-87DA9B79D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7B037-C80C-4C1B-BC95-326C7F9B6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EB190-7162-4BCD-8B0A-B8B929740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A6A42-DD64-4E60-8C10-3BCFC839B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1817-CB88-4072-BF99-C1205611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DF6E1-36BD-405B-9572-56B3AD862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F9038-8B2C-463E-B066-0D263DA93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ECBD7-CA16-4042-A086-E043209B8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44B76-927A-4BE9-92C2-CA35075D0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52B80-6363-48FA-8897-362527982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3CDB7-A9E0-401D-9B64-55CD1EAF6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B1E3-F4CA-4017-88A2-69C12746C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0E1F-D300-4163-857D-F8D70DC2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CBEC-150A-448E-859C-9BFE4D68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A989-235C-48A3-ABEB-4287B4C0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B8245-CDBE-456F-BCA1-1804D342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44F5-2D4D-4151-8389-3BDA70525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7164-3527-4963-8F63-E772B6329E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DBF0-DA73-42CA-A87A-6A71229A9BE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MULTIAGENT REINFORCEMENT LEARNING</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y Utku Tatlıdede</a:t>
            </a:r>
            <a:endParaRPr b="0" lang="en-US" sz="3200" spc="-1" strike="noStrike">
              <a:solidFill>
                <a:srgbClr val="000000"/>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tkutatlidede@yahoo.co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Q Lambda Learning</a:t>
            </a:r>
            <a:endParaRPr b="0" lang="en-US" sz="4400" spc="-1" strike="noStrike">
              <a:solidFill>
                <a:srgbClr val="333399"/>
              </a:solidFill>
              <a:latin typeface="Tahoma"/>
            </a:endParaRPr>
          </a:p>
        </p:txBody>
      </p:sp>
      <p:sp>
        <p:nvSpPr>
          <p:cNvPr id="118"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Tahoma"/>
            </a:endParaRPr>
          </a:p>
        </p:txBody>
      </p:sp>
      <p:pic>
        <p:nvPicPr>
          <p:cNvPr id="119" name="qlambda" descr=""/>
          <p:cNvPicPr/>
          <p:nvPr/>
        </p:nvPicPr>
        <p:blipFill>
          <a:blip r:embed="rId1"/>
          <a:stretch/>
        </p:blipFill>
        <p:spPr>
          <a:xfrm>
            <a:off x="990720" y="205740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CMAC</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t is a common belief that using function approximation methods to represent value functions in RL algorithms may not only save memory, but also allow for generalization over the state space, and thus make it possible to successfully apply these algorithms to large task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MAC seems particularly attractive because of its </a:t>
            </a:r>
            <a:endParaRPr b="0" lang="en-US" sz="20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gh learning speed</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utational efficiency</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pability of on­line learning</a:t>
            </a:r>
            <a:r>
              <a:rPr b="0" lang="en-US" sz="1800" spc="-1" strike="noStrike">
                <a:solidFill>
                  <a:srgbClr val="000000"/>
                </a:solidFill>
                <a:latin typeface="Tahoma"/>
                <a:ea typeface="Arial"/>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CMAC</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 sparse coarse­coded look­up table which uses multiple overlapping tilings to cover the input 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ach input point is contained in a number of overlapping til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ilings are displaced relative to each other by a fixed interva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a:t>
            </a:r>
            <a:r>
              <a:rPr b="0" lang="en-US" sz="2000" spc="-1" strike="noStrike">
                <a:solidFill>
                  <a:srgbClr val="000000"/>
                </a:solidFill>
                <a:latin typeface="Tahoma"/>
                <a:ea typeface="Arial"/>
              </a:rPr>
              <a:t>he state space is effectively partitioned into small regions, the size of which determines the resolution of this represen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o each tile corresponds one element of the CMAC weights vector</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CMAC</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There are K tilings 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K weights k</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Value is calculated by w</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W is  updated by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6" name="c1" descr=""/>
          <p:cNvPicPr/>
          <p:nvPr/>
        </p:nvPicPr>
        <p:blipFill>
          <a:blip r:embed="rId1"/>
          <a:stretch/>
        </p:blipFill>
        <p:spPr>
          <a:xfrm>
            <a:off x="5334120" y="4648320"/>
            <a:ext cx="2771640" cy="771480"/>
          </a:xfrm>
          <a:prstGeom prst="rect">
            <a:avLst/>
          </a:prstGeom>
          <a:ln w="0">
            <a:noFill/>
          </a:ln>
        </p:spPr>
      </p:pic>
      <p:pic>
        <p:nvPicPr>
          <p:cNvPr id="127" name="c2" descr=""/>
          <p:cNvPicPr/>
          <p:nvPr/>
        </p:nvPicPr>
        <p:blipFill>
          <a:blip r:embed="rId2"/>
          <a:stretch/>
        </p:blipFill>
        <p:spPr>
          <a:xfrm>
            <a:off x="5257800" y="2362320"/>
            <a:ext cx="2685960" cy="333360"/>
          </a:xfrm>
          <a:prstGeom prst="rect">
            <a:avLst/>
          </a:prstGeom>
          <a:ln w="0">
            <a:noFill/>
          </a:ln>
        </p:spPr>
      </p:pic>
      <p:pic>
        <p:nvPicPr>
          <p:cNvPr id="128" name="c3" descr=""/>
          <p:cNvPicPr/>
          <p:nvPr/>
        </p:nvPicPr>
        <p:blipFill>
          <a:blip r:embed="rId3"/>
          <a:stretch/>
        </p:blipFill>
        <p:spPr>
          <a:xfrm>
            <a:off x="5257800" y="3124080"/>
            <a:ext cx="2828880" cy="343080"/>
          </a:xfrm>
          <a:prstGeom prst="rect">
            <a:avLst/>
          </a:prstGeom>
          <a:ln w="0">
            <a:noFill/>
          </a:ln>
        </p:spPr>
      </p:pic>
      <p:pic>
        <p:nvPicPr>
          <p:cNvPr id="129" name="c4" descr=""/>
          <p:cNvPicPr/>
          <p:nvPr/>
        </p:nvPicPr>
        <p:blipFill>
          <a:blip r:embed="rId4"/>
          <a:stretch/>
        </p:blipFill>
        <p:spPr>
          <a:xfrm>
            <a:off x="3429000" y="3886200"/>
            <a:ext cx="4667400" cy="3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CMAC</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o use the function representation method presented above with the Q­learning algorithm, it is natural to assign a separate CMAC module to each of the possible actions. Each of these CMAC modules receives states as inputs and incrementally learns Q­values for the corresponding action and all stat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Learning Phase</a:t>
            </a:r>
            <a:endParaRPr b="0" lang="en-US" sz="4400" spc="-1" strike="noStrike">
              <a:solidFill>
                <a:srgbClr val="333399"/>
              </a:solidFill>
              <a:latin typeface="Tahoma"/>
            </a:endParaRPr>
          </a:p>
        </p:txBody>
      </p:sp>
      <p:sp>
        <p:nvSpPr>
          <p:cNvPr id="133"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c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ve to Bal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lock Closest Oppon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t Behind Bal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ve To Backfiel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ve To Downfiel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ve to Ball / Kick Bal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State Representation</a:t>
            </a:r>
            <a:endParaRPr b="0" lang="en-US" sz="3600" spc="-1" strike="noStrike">
              <a:solidFill>
                <a:srgbClr val="333399"/>
              </a:solidFill>
              <a:latin typeface="Tahoma"/>
            </a:endParaRPr>
          </a:p>
        </p:txBody>
      </p:sp>
      <p:sp>
        <p:nvSpPr>
          <p:cNvPr id="135"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te Represent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sition vector is measured relatively to ag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y) transformed to (r,tetha) valu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he transformation yileds more general policy compared to x,y notation.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uantiz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R values are fuzzy quantized as close, reachable and fa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etha is quantized as octan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State Representation</a:t>
            </a:r>
            <a:endParaRPr b="0" lang="en-US" sz="3600" spc="-1" strike="noStrike">
              <a:solidFill>
                <a:srgbClr val="333399"/>
              </a:solidFill>
              <a:latin typeface="Tahoma"/>
            </a:endParaRPr>
          </a:p>
        </p:txBody>
      </p:sp>
      <p:sp>
        <p:nvSpPr>
          <p:cNvPr id="137"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te variables ar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all, Our Goal,Opponent Goa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sition of teammates and oppone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te Monito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ll sid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ll posses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s agent in active zone </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Reward Schemas</a:t>
            </a:r>
            <a:endParaRPr b="0" lang="en-US" sz="3600" spc="-1" strike="noStrike">
              <a:solidFill>
                <a:srgbClr val="333399"/>
              </a:solidFill>
              <a:latin typeface="Tahoma"/>
            </a:endParaRPr>
          </a:p>
        </p:txBody>
      </p:sp>
      <p:sp>
        <p:nvSpPr>
          <p:cNvPr id="139"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Reward is 1 for our goal, -1 for opponent goal and 0 for the rest of the gam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iscounted reward is applyied to all tests. But the rewarded agent selected using different approach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One specified player (preliminary te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l Team (First Tea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losest agent to ball (Second Tea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Reward Schemas</a:t>
            </a:r>
            <a:endParaRPr b="0" lang="en-US" sz="3600" spc="-1" strike="noStrike">
              <a:solidFill>
                <a:srgbClr val="333399"/>
              </a:solidFill>
              <a:latin typeface="Tahoma"/>
            </a:endParaRPr>
          </a:p>
        </p:txBody>
      </p:sp>
      <p:sp>
        <p:nvSpPr>
          <p:cNvPr id="141"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earning started against a simple tea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l teams were able to win against simple tea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est the teams against each oth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0" lang="tr-TR" sz="2400" spc="-1" strike="noStrike">
                <a:solidFill>
                  <a:srgbClr val="000000"/>
                </a:solidFill>
                <a:latin typeface="Tahoma"/>
              </a:rPr>
              <a:t>Closest agent to the ball” schema is bett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earning continued against a harder tea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l teams were beaten by harder tea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0" lang="tr-TR" sz="2400" spc="-1" strike="noStrike">
                <a:solidFill>
                  <a:srgbClr val="000000"/>
                </a:solidFill>
                <a:latin typeface="Tahoma"/>
              </a:rPr>
              <a:t>All team” schema is better than “Closest agent to the bal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Outlin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RL Overvie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 / Qlambda Learn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MA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earning Phase</a:t>
            </a:r>
            <a:endParaRPr b="0" lang="en-US" sz="24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ction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State Representa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Reward Schema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onclusion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rioritized Sweep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Questions</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Conclusions</a:t>
            </a:r>
            <a:endParaRPr b="0" lang="en-US" sz="3600" spc="-1" strike="noStrike">
              <a:solidFill>
                <a:srgbClr val="333399"/>
              </a:solidFill>
              <a:latin typeface="Tahoma"/>
            </a:endParaRPr>
          </a:p>
        </p:txBody>
      </p:sp>
      <p:sp>
        <p:nvSpPr>
          <p:cNvPr id="143"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onclusion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econd Team’s policy is more offen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rst Team’s policy is more collect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econd Team’s bitter defeat is due to polic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uture Direc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ry a more specific reward function depending on football gam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imit the learning task to a specified action in football ga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Back Tracking</a:t>
            </a:r>
            <a:endParaRPr b="0" lang="en-US" sz="3600" spc="-1" strike="noStrike">
              <a:solidFill>
                <a:srgbClr val="333399"/>
              </a:solidFill>
              <a:latin typeface="Tahoma"/>
            </a:endParaRPr>
          </a:p>
        </p:txBody>
      </p:sp>
      <p:sp>
        <p:nvSpPr>
          <p:cNvPr id="145"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el Free Learn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 learning do not back-trac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 Lambda back-trace only the eligibility trace.</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el Based Learn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yna back-trace all states and unfeasable for geral applicatio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rioritized Sweeping traces the states which changes bigger than a threshold. Also has a size limit.</a:t>
            </a:r>
            <a:br>
              <a:rPr sz="2400"/>
            </a:br>
            <a:r>
              <a:rPr b="0" lang="tr-TR"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ioritized Sweeping</a:t>
            </a:r>
            <a:endParaRPr b="0" lang="en-US" sz="4400" spc="-1" strike="noStrike">
              <a:solidFill>
                <a:srgbClr val="333399"/>
              </a:solidFill>
              <a:latin typeface="Tahoma"/>
            </a:endParaRPr>
          </a:p>
        </p:txBody>
      </p:sp>
      <p:pic>
        <p:nvPicPr>
          <p:cNvPr id="147" name="ps1" descr=""/>
          <p:cNvPicPr/>
          <p:nvPr/>
        </p:nvPicPr>
        <p:blipFill>
          <a:blip r:embed="rId1"/>
          <a:stretch/>
        </p:blipFill>
        <p:spPr>
          <a:xfrm>
            <a:off x="914400" y="2514600"/>
            <a:ext cx="7067520" cy="254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ioritized Sweeping</a:t>
            </a:r>
            <a:endParaRPr b="0" lang="en-US" sz="4400" spc="-1" strike="noStrike">
              <a:solidFill>
                <a:srgbClr val="333399"/>
              </a:solidFill>
              <a:latin typeface="Tahoma"/>
            </a:endParaRPr>
          </a:p>
        </p:txBody>
      </p:sp>
      <p:pic>
        <p:nvPicPr>
          <p:cNvPr id="149" name="ps2" descr=""/>
          <p:cNvPicPr/>
          <p:nvPr/>
        </p:nvPicPr>
        <p:blipFill>
          <a:blip r:embed="rId1"/>
          <a:stretch/>
        </p:blipFill>
        <p:spPr>
          <a:xfrm>
            <a:off x="838080" y="2057400"/>
            <a:ext cx="7620120" cy="360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ioritized Sweeping</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el is learned by counting the state transitions. Allows probablistic modell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te value is the best actions Q val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 value is of an action is the weighted average of next states state values and the total reward acquired by taking this a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State Quantization</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neral model definition is s,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ransform this to f,a,f’ (active ti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ncreased learning performance at maze probl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he team with PS is not readily availabl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ference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itman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tari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on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icho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ier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al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omains</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ulti Agent Domai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ambots by Tucker Balch</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gent Domain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outain Ca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art Pole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ar Park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aze 1D, 2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Questions</a:t>
            </a:r>
            <a:endParaRPr b="0" lang="en-US" sz="4400" spc="-1" strike="noStrike">
              <a:solidFill>
                <a:srgbClr val="333399"/>
              </a:solidFill>
              <a:latin typeface="Tahoma"/>
            </a:endParaRPr>
          </a:p>
        </p:txBody>
      </p:sp>
      <p:pic>
        <p:nvPicPr>
          <p:cNvPr id="159" name="BD00028_" descr=""/>
          <p:cNvPicPr/>
          <p:nvPr/>
        </p:nvPicPr>
        <p:blipFill>
          <a:blip r:embed="rId1"/>
          <a:stretch/>
        </p:blipFill>
        <p:spPr>
          <a:xfrm>
            <a:off x="3962520" y="335268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hank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tkutatlidede@yahoo.c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inforcement Learning</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Reinforcement learning is the problem faced by an agent that must learn behavior through trial and error interactions with a dynamic environ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gent's job is to find a policy </a:t>
            </a:r>
            <a:r>
              <a:rPr b="0" lang="tr-TR" sz="2400" spc="-1" strike="noStrike">
                <a:solidFill>
                  <a:srgbClr val="000000"/>
                </a:solidFill>
                <a:latin typeface="Tahoma"/>
              </a:rPr>
              <a:t>P</a:t>
            </a:r>
            <a:r>
              <a:rPr b="0" lang="en-US" sz="2400" spc="-1" strike="noStrike">
                <a:solidFill>
                  <a:srgbClr val="000000"/>
                </a:solidFill>
                <a:latin typeface="Tahoma"/>
                <a:ea typeface="Courier New"/>
              </a:rPr>
              <a:t>, mapping states to actions, that maximizes some long-run measure of reinforceme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inforcement Learning</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Formally, the model consists of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a discrete set of environment states, 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a discrete set of agent actions, A; an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a set of scalar reinforcement signa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inforcement Learning</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Reinforcement learning differs from the more widely studied problem of supervised learning in several ways. </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re is no presentation of input/output pairs agent needs to learn them. </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nline performance is important: the evaluation of the system is often concurrent with learning. </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reinforcement learning methods are general.</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reinforcement learning, assumes that the entire state space can be enumerated and stored in memory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inforcement Learning</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a:t>
            </a:r>
            <a:r>
              <a:rPr b="0" lang="en-US" sz="2000" spc="-1" strike="noStrike">
                <a:solidFill>
                  <a:srgbClr val="000000"/>
                </a:solidFill>
                <a:latin typeface="Tahoma"/>
                <a:ea typeface="Courier New"/>
              </a:rPr>
              <a:t>xploration vs </a:t>
            </a:r>
            <a:r>
              <a:rPr b="0" lang="tr-TR" sz="2000" spc="-1" strike="noStrike">
                <a:solidFill>
                  <a:srgbClr val="000000"/>
                </a:solidFill>
                <a:latin typeface="Tahoma"/>
              </a:rPr>
              <a:t>E</a:t>
            </a:r>
            <a:r>
              <a:rPr b="0" lang="en-US" sz="2000" spc="-1" strike="noStrike">
                <a:solidFill>
                  <a:srgbClr val="000000"/>
                </a:solidFill>
                <a:latin typeface="Tahoma"/>
                <a:ea typeface="Courier New"/>
              </a:rPr>
              <a:t>xploit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Courier New"/>
              </a:rPr>
              <a:t>The agent might believe that a particular </a:t>
            </a:r>
            <a:r>
              <a:rPr b="0" lang="tr-TR" sz="2000" spc="-1" strike="noStrike">
                <a:solidFill>
                  <a:srgbClr val="000000"/>
                </a:solidFill>
                <a:latin typeface="Tahoma"/>
              </a:rPr>
              <a:t>action</a:t>
            </a:r>
            <a:r>
              <a:rPr b="0" lang="en-US" sz="2000" spc="-1" strike="noStrike">
                <a:solidFill>
                  <a:srgbClr val="000000"/>
                </a:solidFill>
                <a:latin typeface="Tahoma"/>
                <a:ea typeface="Courier New"/>
              </a:rPr>
              <a:t> has a fairly high payoff probability; should it choose that </a:t>
            </a:r>
            <a:r>
              <a:rPr b="0" lang="tr-TR" sz="2000" spc="-1" strike="noStrike">
                <a:solidFill>
                  <a:srgbClr val="000000"/>
                </a:solidFill>
                <a:latin typeface="Tahoma"/>
              </a:rPr>
              <a:t>action</a:t>
            </a:r>
            <a:r>
              <a:rPr b="0" lang="en-US" sz="2000" spc="-1" strike="noStrike">
                <a:solidFill>
                  <a:srgbClr val="000000"/>
                </a:solidFill>
                <a:latin typeface="Tahoma"/>
                <a:ea typeface="Courier New"/>
              </a:rPr>
              <a:t> all the time, or should it choose another one that it has less information about, but seems to be wors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Reinforcement Learning</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Courier New"/>
              </a:rPr>
              <a:t>Finding a Policy Given a Mode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Courier New"/>
              </a:rPr>
              <a:t>Value Itera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Courier New"/>
              </a:rPr>
              <a:t>Policy Iter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Courier New"/>
              </a:rPr>
              <a:t>Model Fre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Courier New"/>
              </a:rPr>
              <a:t>TD(lambda)</a:t>
            </a:r>
            <a:r>
              <a:rPr b="0" lang="en-US" sz="1600" spc="-1" strike="noStrike">
                <a:solidFill>
                  <a:srgbClr val="000000"/>
                </a:solidFill>
                <a:latin typeface="Tahoma"/>
                <a:ea typeface="Courier New"/>
              </a:rPr>
              <a:t>	</a:t>
            </a:r>
            <a:r>
              <a:rPr b="0" lang="en-US" sz="1600" spc="-1" strike="noStrike">
                <a:solidFill>
                  <a:srgbClr val="000000"/>
                </a:solidFill>
                <a:latin typeface="Tahoma"/>
                <a:ea typeface="Courier New"/>
              </a:rPr>
              <a:t>eligibility traces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Courier New"/>
              </a:rPr>
              <a:t>Q-Learning</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Courier New"/>
              </a:rPr>
              <a:t>Model learning </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Courier New"/>
              </a:rPr>
              <a:t>Dyna</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Courier New"/>
              </a:rPr>
              <a:t>Prioritized Sweeping</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Q Learning</a:t>
            </a:r>
            <a:endParaRPr b="0" lang="en-US" sz="4400" spc="-1" strike="noStrike">
              <a:solidFill>
                <a:srgbClr val="333399"/>
              </a:solidFill>
              <a:latin typeface="Tahoma"/>
            </a:endParaRPr>
          </a:p>
        </p:txBody>
      </p:sp>
      <p:pic>
        <p:nvPicPr>
          <p:cNvPr id="114" name="q" descr=""/>
          <p:cNvPicPr/>
          <p:nvPr/>
        </p:nvPicPr>
        <p:blipFill>
          <a:blip r:embed="rId1"/>
          <a:stretch/>
        </p:blipFill>
        <p:spPr>
          <a:xfrm>
            <a:off x="1295280" y="2209680"/>
            <a:ext cx="7162920" cy="27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Q Learning</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Q Learning does not converge for big proble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Only the last state is updated by Reinforcement signa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revious states leading to terminal state are not handl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o use Eligibility Traces </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23:02:09Z</dcterms:created>
  <dc:creator>Administrator</dc:creator>
  <dc:description/>
  <dc:language>en-US</dc:language>
  <cp:lastModifiedBy>utatlidede</cp:lastModifiedBy>
  <dcterms:modified xsi:type="dcterms:W3CDTF">2002-12-10T12:44:56Z</dcterms:modified>
  <cp:revision>158</cp:revision>
  <dc:subject/>
  <dc:title>MULTIAGENT REINFORCEMENT LEARNING</dc:title>
</cp:coreProperties>
</file>