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1B0-8873-4606-99A6-0C68C09E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9AC-0DF6-46D8-8377-EE2E56BA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B9C-F372-4686-8900-8F454044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C76-A47C-4B65-BE66-72CA932D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C672-E183-4222-8016-6E63FFF0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C581-CFF3-4630-BFFB-EE50F9DB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9006-A2C2-4A20-8218-5CAFC6C2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0932-D069-4E3A-A0DC-09074482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FEB3-1C75-4A14-9577-CB2893A1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1AA4-84BD-499C-86BD-693A3A8C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2B97-48A2-4996-A55C-196E1162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334-A9DB-46B8-BAE4-D306AAD4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0BAC-69BB-42F1-A962-27D21FF6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F979-C06C-495A-AEF2-6AEC32BA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DD47-09D0-4AC2-9158-8F6C2406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D2CF-C145-4959-8489-E261B0DB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C026-0F59-4422-B358-04BE4BA6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FED-0558-42FA-917D-1FA693D2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479-23C3-4F31-B26B-C1B5DAEA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E4A-839B-4A1C-962B-27D48340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4DA-9589-4576-A7BE-4F160980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01E-5366-4D3C-91F7-C58361E6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F03-E112-4DC3-ADA5-1EE25A39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874-54D6-4E48-B714-A4A53024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1D47-922F-41AE-BB58-15DD87128C82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3686-8130-44E6-8AC0-EF1379DDB572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AIBO Robotu Üzerinde </a:t>
            </a:r>
            <a:br>
              <a:rPr sz="4400"/>
            </a:b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Hızlı Hareket Tiplerinin Geliştirilme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7162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Levent Santemiz</a:t>
            </a:r>
            <a:r>
              <a:rPr b="0" lang="tr-TR" sz="3200" spc="-1" strike="noStrike" baseline="30000">
                <a:solidFill>
                  <a:srgbClr val="40458c"/>
                </a:solidFill>
                <a:latin typeface="Tahoma"/>
              </a:rPr>
              <a:t>1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İlkem Ahu Şahin</a:t>
            </a:r>
            <a:r>
              <a:rPr b="0" lang="tr-TR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Burak Turhan</a:t>
            </a:r>
            <a:r>
              <a:rPr b="0" lang="tr-TR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ve H. Levent Akın</a:t>
            </a:r>
            <a:r>
              <a:rPr b="0" lang="tr-TR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br>
              <a:rPr sz="3200"/>
            </a:b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baseline="30000">
                <a:solidFill>
                  <a:srgbClr val="40458c"/>
                </a:solidFill>
                <a:latin typeface="Tahoma"/>
              </a:rPr>
              <a:t>1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istem ve Kontrol Mühendisliği Anabilim Dalı, Boğaziçi Üniversitesi, 80815, Bebek, İstanbu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Bilgisayar Mühendisliği Bölümü, Boğaziçi Üniversitesi, 80815, Bebek, İstanbul</a:t>
            </a: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Geliştirilen Hareket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Robot üzerindeki çalışmalarımız ilk olarak düzgün bir yürüme şekli amaçlanarak başlamıştı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Oyun sırasında robotun hedef olan topu yeteri derecede iyi ve düzgün görebilmesi, hareket sırasında bu görüntüyü mümkün olduğunca kaybetmemesi gerekmektedi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Hedef aramada veya değişik yönlere yönelim sırasında kullanılacak olan dönüş tipleri daha sonra bu yürümeden esinlenilerek geliştirilmişt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 Çalışma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Robot ile birlikte bize sağlanan platformda öngörülen bazı yürüme ve dönme şekilleri istenilen hız ve doğruluğu sağlamamıştı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lk olarak denetleme yapısındaki en alt seviye olan robotun eklemlerine istenilen açıları verilerek hareketlerin oluşturulduğu bölgede hareketler geliştirilmişti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Bu seviyede eklemlerin tam olarak nasıl hareket etmesi gerektiği ve eklem sınırlarına erişim incelenmişti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 Çalışmalar-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Hareketlerin geliştirilmesinde öncelikle PID değerlerinin hassasiyetleri belirlenmişti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PID değerlerinin değiştirilerek köpeğin bacak açılarına erişme değerlerindeki esneklik deneysel olarak saptanmıştı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Uygun P, I ve D parametre değerleri ayarlandıktan sonra hareketlerin geliştirilmesine devam edilmişt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enge Problem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İnsan yapısı nedeniyle özerk bir şekilde dengesini sağlayabili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İnsana göre oluşturulan hareketler  robot köpeğin insana benzer özerk bir yapıya sahip olmaması nedeniyle uygulanması mümkün değildi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Yürüme Hareket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Yürüme hareketleri geliştirilirken aşağıdaki gerekirlerin sağlanması amaçlanmıştır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Yürüme şeklinin rakiplerden hızlı olması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Kafadan alınan görüntünün sabit ve düzgün olması için de mümkün olduğunca dengeli olması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Yürüme sırasında ayakların kaymaması, mümkün olan en kuvvetli biçimde robotun yere basmas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Geliştirilen Yürüme Hareket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ki tip yürüme şekli geliştirilmişt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Her iki tipte de asıl yük arka ayaklar üzerinde olup ön ayaklar dengeyi sağlamak için kullanılmıştı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Yürüme şekillerinin, çapraz ayakların aynı anda adım atması sayesinde hem hızlı hem de dengeli olmaları sağlanmıştı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Robotun yere yakın hareket etmesi, hem görüş açısını sahaya yönelttiği için hem de  vücudun atalet merkezini yere yakınlaştırarak dengeyi arttırması nedeniyle tercih edilmişti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660066"/>
                </a:solidFill>
                <a:latin typeface="Tahoma"/>
              </a:rPr>
              <a:t>Birinci Tip Yürüme Hareke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lk tipin ikincisinden farkı hız ve dengedi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Büyük adım atması nedeniyle daha hızlı ancak ikincisine göre atalet merkezinin yerden biraz daha yüksek olması nedeniyle daha az dengelidi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Bu şekilde kafa yer hizasından ikinci tipe göre yaklaşık 1 cm daha yüksekte tutulmuştu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irinci Tip Yürüme Hareke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754380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İkinci Tip Yürüme Hareke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kinci tip ise atalet merkezi yönünden yere daha yakındı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Kafa düzeyi bu nedenle ilk tipten daha aşağıda yer almıştı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Yere yakınlık ilk duruma göre daha dengeli sonuçlar elde edilmesini sağlamıştı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Ayrıca yine dengenin iyileştirilmesi için adım aralıkları ilk duruma göre daha küçük tutulmuş böylece yürüme uzun mesafede daha düzgün sonuçlar vermişt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önüş Hareket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Dönüşler vücudun en dengesiz olduğu hareket şeklidi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Dört bacağın birden dengeyi sağlamak açısından eş derecede önemi bulunmaktadı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Dönüş düzgünlüğü ve hızı, belirli bir süre içerisinde kat edilen açı ve dönüş sırasında merkezden olan uzaklığa göre karşılaştırılmıştı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İçeri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Giri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Robocup yarışmasının yapıs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AIBO robotun yapısal özellikle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Robot zerinde geliştirilen hareket türle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Yürüme hareketler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Dönüş hareketler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Hareketler için kullanılan algoritma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Genetik Algoritma ile optimizasy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onuç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önüş Hareket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Dört tip dönüş şekli geliştirilmişti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Çok hızlı, hızlı ve yavaş dış bükey dönüş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Hızlı iç bükey dönüş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lk üç tip dönüş, sağ veya sol yönde belirli bir merkeze olan sabit bir uzaklıkla dairesel olarak dış bükey bir dönüş sağlamaktadı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Bu dönüş tipleri top, rakip kale veya rakibin pozisyonunu bulmak amaçlı olarak geliştirilmişt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İlk Üç Tip Dönüş Hareketi </a:t>
            </a: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   (Arkadan Görünüm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565280" y="1057320"/>
            <a:ext cx="6067440" cy="6837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693396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ördüncü Tip Dönüş Hareke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Dördüncü tip dönüş ilk üç dönüşün tersine sağ veya sol yönde belirli bir merkeze olan sabit bir uzaklıkla dairesel olarak içbükey bir dönüş sağlamaktadı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Bu hareket yerinde dönüş hareketi gerektiren, örneğin oyun sırasında top etrafında pozisyon almak gereksinimi duyulduğunda kullanılması amacıyla geliştirilmişt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Tüm dönüş tiplerinde olduğu gibi çapraz ayakları kullanarak vücudu zıt yönlere doğru iterek ve aynı zamanda ortanca eklemleri kullanarak vücudun atalet merkezinin yerden yüksekliğini değiştirerek kayma sağlanarak dönüşler sağlanmıştı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Vücut arkadan bakıldığında kaba bir elips oluşturacak şekilde hareket etmekted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660066"/>
                </a:solidFill>
                <a:latin typeface="Tahoma"/>
              </a:rPr>
              <a:t>Eliptik Hareke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74064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eneme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apılan denemelerde dönüş ve düz yürüme stillerinin birbirleri arasındaki geçişi de sorunsuz sonuç vermiştir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tür geçişlerde ortaya çıkan yön kaybı ve dengenin bozulması gibi sorunlar giderilmişti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yrıca hareketler arası geçişler yeteri derecede hızlı sonuç vermişti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Genetik Algoritma ile Optimizasyo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proje dahilinde elde edilen hareketlerin optimizasyonu için robot üzerinde genetik algoritma kullanarak çalışacak bir yazılım geliştirilmiştir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Geliştirilen yazılım test ortamının ve robotun modüllerinin eksiksiz olarak çalışmasını gerektirmektedir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eney Ortamı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Genetik algoritma ile yapılan çalışmalar, normal saha koşulları altında düz bir çizgi üzerinde yapılmıştır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Çizgi üzerinde katedilen yol ve referans çizgiye kayma sonucu oluşan uzaklık ölçülmüş ve bu parametrelere göre türetme gerçekleştirilmişti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Uygunluk Fonksiyon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Genetik algoritmada kullanılan uygunluk fonksiyonu, robotun yaptığı hareket sonucunda söz konusu hedeften kaç santimetre saptığı, katedilen uzaklığı ve denge kaybı yüzünden yere düşüp düşmemesini ölçen bileşenlerden oluşmaktadı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5 saniye içerisinde robotun belirlenen hareket ile aldığı yol, hareket sırasında ulaştığı hız ve kayma uzaklığı ile başarı düzeyi hesaplanmaktadı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Kısıt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Hareketler bir açı türetici fonksiyon sayesinde oluşturulmakta ve hareket modülü sayesinde eklemlere  fiziksel sınırları içerisinde olma koşulu ile söz konusu türetilen açılar atanmaktadı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Örneğin, üst bacak eklemi için fiziksel açı aralığı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–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140, 140 olarak belirlenmişti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Doğru gözlem yapabilmek ve denemelerin süresini kısaltmak amacıyla kendi çalışmalarımız sırasında edindiğimiz tecrübelerden de yararlanarak açı aralıkları kısıtlanmıştı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Hareket sırasında kullanılan 12 eklemin her biri için bu kısıtlama ayrı ayrı uygulanmaktadı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Genetik Algoritma ile Test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Oluşturulan her yeni hareket tekrar denenmekte, deneme sonucu elde edilen tüm hareketlerin en iyi 10 tanesi bir küme oluşturacak şekilde gruplanmaktadı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Küme sürekli olarak en iyi iki üyesini genetik algoritma yöntemiyle türetme fonksiyonunu kullanarak birleştirmektedi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istem, oluşan yeni üyeleri tekrar denemekte ve başarı seviyelerinin küme düzeyine uygun olması haline göre kümeye dahil etmektedi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Eğer oluşan yeni üyelerin başarı seviyeleri kümeye göre düşük seviyede ise o zaman yeni üyeler yok edilmekte ve mutasyon fonksiyonu aracılığıyla küme üyelerinden bağımsız yeni bir üye yaratılmaktadı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Giri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ony RoboCup yarışması hareketli robotlar üzerindeki araştırmalara bir futbol oyunu ortamı sağlayarak bir uygulama alanı oluşturmayı amaçlayan bir organizasyondu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40458c"/>
                </a:solidFill>
                <a:latin typeface="Tahoma"/>
              </a:rPr>
              <a:t>Amaç: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0458c"/>
                </a:solidFill>
                <a:latin typeface="Tahoma"/>
              </a:rPr>
              <a:t>Robocup Sony Ayaklı robot kategorisinde yarışacak Boğaziçi Üniversitesi Cerberus takımının Aibo tipi robotları için hızlı hareket tipleri geliştirilmesi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0458c"/>
                </a:solidFill>
                <a:latin typeface="Tahoma"/>
              </a:rPr>
              <a:t>Bir futbol karşılaşması sırasında dört ayaklı robotların hızlı hareket etme, dengeli görme ve yer bulma gibi işlevleri kolaylaştıracak etkin hareketleri yapabilmesi gereklid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Genetik Algoritma Yazılımı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Yeni üyenin kümeye eklenmesi durumunda, küme içerisindeki başarı seviyesi en düşük üye kümeden silinmekte ve yerine yeni üye atanmaktadı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Küme popülasyonu daima sabit tutulmaktadı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Tüm genetik algoritma işlemleri, yürüme modülü içerisinde gerçekleştirilmektedi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Diğer modüller ölçüm parametrelerini yürüme modülüne aktarmakta ve tüm hesaplamalar yürüme modülünde gerçekleştirilmekted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Bu sayede hareket kümesi oluşturulmaktadı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eney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üm deneyler başarıyla sonuçlanmış ve 2 adet yürüme şekli türetilmişt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üretilen yürüme şekillerinin her ikisi de belirli bir kaymaya sebep olmaktadırl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lk bölümde üretilen yürüme şekilleri, türetilenlere göre kayma ve hız bakımından daha iyi sonuç vermişler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Hızlı yürüme 10 cm/s hız ve 2 cm/sn kayma, Yavas yurume ise 6 cm/s hız ve 2 cm/sn kayma gerçekleştirmişt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P, I, D Türetilme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Yürüme modülü için Sony tarafından önerilen P, I, D değerleri de aynı yazılım yardımıyla çeşitli popülasyon değerlerinde test edilmişler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Başarı fonksiyon parametresi hedef açıya en yakın ulaşılan değer olarak seçilmişt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üretilen P, I, D değerleri %0,06 değerinde hata ile önerilen değerlerden çok üstün sonuçlar vermişt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Sonuç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2 adet düz yürüme ve 4 adet dönüş hareketi geliştirilmişt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Yazılım uygulaması ile 2 adet düz yürüme hareketi türetilmişt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Geliştirilen hareketler tatmin edici sonuçlar vermişler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yileştirme amacıyla önerilen P, I, D değerlerinde optimizasyon çalışması gerçekleştirilmişti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estekleyen Kuruluş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oğaziçi Üniversitesi Araştırma Fonu 01A101 numaralı proj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ony Euras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tro AG Hold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ROBOC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Hareketli robot türlerinin üstünde çalışan araştırmacılar için düşünülmüş bir yarışma ortamıdı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Eş türden robotlar ligler halinde birbirleriyle bir futbol turnuvasında karşılaşmalar yapmaktadırl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Neden Futbol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Futbolun bir ortam olarak seçilmesinin nede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Olası olduğu kadar gerçek dünya ile koşutluk elde etmek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Tüm dinamik etkenlere maruz kalarak (sürtünme, aydınlatma vs.) bir takım oyununun oynanmasını sağlamak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Yazılım ve donanım açısından yapay zeka uygulamalarının geliştirilmesini teşvik etmek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AIBO Robo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AIBO ERS-210 Sony tarafından geliştirilmiş evcil köpek biçiminde ticari bir hareketli robot türüdü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AIBO Robot’un üzerinde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renkli bir video kame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kızılötesi algaç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dokunma algaçlar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akselerometrel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ve ısıya duyarlı algaç bulunmaktadı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AIBO Robo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IBO’da hareket donanımı olarak dört bacak ve 16 eklem bulunmaktadı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Her bacak biri dizde ve diğer ikisi omuz bölgesinde olmak üzere 3 eklem ile hareketi sağlamaktadı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Her eklemde hareketleri sağlayan bir servomotor, bir PID denetleyicisi bulunmaktadır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AIBO’nun ayağı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905120" y="1563840"/>
            <a:ext cx="54864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AIBO’nun Yazılım Geliştirme Ortam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AIBO’nun 64 bitlik bir RISC işlemcisi ve 32MB belleği bulunmaktadı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ony tarafından geliştirilen Aperios adlı nesneye dayalı bir işletim sistemi içermekt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Robot üzerindeki yazılımlar, OPEN-R adı verilen robotu denetlemek için geliştirilmiş bir yazılım platformu kullanılarak C++ yazılım dili ile Windows ortamında geliştirilmekte ve çapraz derleyicide derlenerek bir bellek ünitesi sayesinde robota yüklenmekt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4:40:45Z</dcterms:created>
  <dc:creator>Levent Santemiz</dc:creator>
  <dc:description/>
  <dc:language>en-US</dc:language>
  <cp:lastModifiedBy>Levent Santemiz</cp:lastModifiedBy>
  <dcterms:modified xsi:type="dcterms:W3CDTF">2002-12-17T09:56:57Z</dcterms:modified>
  <cp:revision>59</cp:revision>
  <dc:subject/>
  <dc:title>AIBO Robotu Üzerinde  Hızlı Hareket Tiplerinin Geliştirilmesi* </dc:title>
</cp:coreProperties>
</file>