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8A2-4229-4A0E-BEFB-FE67D74E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4FB-BF1C-47D0-B404-DD6DB325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961-CB4B-41DE-88FD-C80856F5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6EC-0E21-4229-B343-0AD5B5F5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1C3-888D-42FF-A893-E63E731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9AF-6944-4A94-95BD-7B9A385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204-7C10-4CC5-AD6A-AC80A27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958-824C-43EE-84B5-8579F8E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516-2EEB-4A71-9437-45504C29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739-CAAE-4AEE-AA3D-252A22A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CF4-B65E-41BF-9BD4-73179912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0B6-7C33-4B48-BE7D-75493320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86A-517A-48A3-A0A8-05D7E5CDF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890640" cy="3429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0" y="3429000"/>
            <a:ext cx="89208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An Overview to Wireless Communication Methods in Robotic Soccer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48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66"/>
                </a:solidFill>
                <a:latin typeface="Times New Roman"/>
              </a:rPr>
              <a:t>Çetin Meriçl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tificial Intelligence Laborat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partment of Computer Engine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ogazici Univers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133720"/>
            <a:ext cx="5334120" cy="0"/>
          </a:xfrm>
          <a:prstGeom prst="line">
            <a:avLst/>
          </a:prstGeom>
          <a:ln w="38160">
            <a:solidFill>
              <a:srgbClr val="00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Data Structure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eamMessa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imeStam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: Time Stamp of send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astReceivedTimeStam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: Time Stamp of last message received by recei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obotPo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allPer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haviorTeamMess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Actual(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: return true if communication took less than 1 secon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Data Structures (cont’d)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obotPo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domet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g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o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alid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Data Structures (cont’d)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allPer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ffse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: Offset to the ball, relative to the robo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alid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Data Structures (cont’d)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ehaviorTeamMess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nder's ro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stimated time to reach the bal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 Following the ball : Player keeps some distance, not play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 Playing the ball : Dribbling (?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 Playing the ball at opponent border : Probably in the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ttacking m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llaboration Change Messag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ady to Rota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top Rota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ady to Pus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top Pus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wo main usa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changing ball and robot posi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gotiations in plan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Examined Team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rnegie-Mellon Univers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rman Tea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Carnegie-Mellon University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ach robot broadcasts a message twice a secon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changed information 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urrent position of the rob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certainty in that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certainty assoc. with that measur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bot’s estimation on ball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certainty assoc. with that measur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bot is goalie or n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bot actually sees the ball or n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Flag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obot is goalie or no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sed in role assig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obot actually sees the ball or no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sed to avoid the believes of robots do not seeing the ball at the momen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Data Structure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tMsgHead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DLis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 {ERS01 = 1, ERS02,..., ERS08, Linux, BCast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bsystemLis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 { Sub_Main, Sub_WLO,Sub_NumOfSubsystems 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essageType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 {MsgText = 1, WLOStream, MsgThresholdSelect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sgWorldInfo, MsgBallCollection, MsgBarChallenge }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talLength : Message Length (?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nderID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nderSubsyste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ceiverI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ceiverSubsyste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essageTyp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ad[1] : ?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Data Structures (cont’d)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orldModelMs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tMsgHeader head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haredModelEntry da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German Team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exchange robot and ball 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resolve the conflict when two robots attempts to kick the ball at the same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Robot and ball position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robot believes in that the position information sent by a robot is precise than its calculated pos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eived information is considered if it is recent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Conflict Resolution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more than one robot attempts to kick the ball at the same time, a negotiation between robots is done in order to decide the one to attac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fter it is decided, other robot moves to a safe distanc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21:17:49Z</dcterms:created>
  <dc:creator>bahar</dc:creator>
  <dc:description/>
  <dc:language>en-US</dc:language>
  <cp:lastModifiedBy>2 Mericli</cp:lastModifiedBy>
  <dcterms:modified xsi:type="dcterms:W3CDTF">2002-12-24T01:27:37Z</dcterms:modified>
  <cp:revision>54</cp:revision>
  <dc:subject/>
  <dc:title>PowerPoint Presentation</dc:title>
</cp:coreProperties>
</file>