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54B-77D8-42A5-BE0C-08FDF365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FCE-96E4-412D-9237-FADE767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B51-08EB-4634-9DF6-23BCC79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54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4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54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4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751-BD4A-47BE-838B-6339A202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684-0CD3-4921-A39D-6351C5D5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EAF-68D6-40F4-8626-8BE186D8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55B-9DC3-4C0C-90C7-40992B4B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DD4-6374-454A-A7D1-442CA1CB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F5E-2FF0-41B7-886D-97FD1EF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034-10AE-454F-B863-6EB3912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8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BC0-9D31-46D3-859B-4EA402E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8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3F9-1DC4-4279-A71C-241EDC0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B1CA-6E3D-4296-8F83-05DE587C1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890640" cy="3429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89208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ABU Asia-Pacific Robot Contest </a:t>
            </a:r>
            <a:br>
              <a:rPr sz="3600"/>
            </a:b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Bangkok 2003 </a:t>
            </a:r>
            <a:br>
              <a:rPr sz="3600"/>
            </a:b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Contest Theme and Rule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Times New Roman"/>
              </a:rPr>
              <a:t>Çetin Meriçl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tificial Intelligence Laborat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partment of Computer Engine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ogazici Univers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133720"/>
            <a:ext cx="5334120" cy="0"/>
          </a:xfrm>
          <a:prstGeom prst="line">
            <a:avLst/>
          </a:prstGeom>
          <a:ln w="38160">
            <a:solidFill>
              <a:srgbClr val="00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Award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re will be awards for winners, runner-ups, Best Technology, Best Idea and Best Artistic Desig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Overview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in aim is to shoot Takraw Balls into 9 baskets hanged on the game fie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uration of each game is 3 min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team with higher points will be the winn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f a team fills all baskets and 3 nets at the center basket, it is considered to have “Conquered the Space” and wins the mat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Game Field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924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Game Field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924680" cy="424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Game Field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Automatic Zon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anual Zon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Team Member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4 members from same university / polytechnic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3 Students and 1 instructor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nly 3 students are permitted to enter the game field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Machine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utomatic Machin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nual Machin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e operator per team is permitt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trol via cable or by remote control is allowed (IR, visible rays, sound wave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RF permitted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Machines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re are no limited number of robo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re are size constrai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l equipment including cables and control units must not exceed 50 Kg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machines must be packed so that they fit insid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one crate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easuring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500mm x 1500mm x 1500 m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Comic Sans MS"/>
              </a:rPr>
              <a:t>Financial Stuff</a:t>
            </a:r>
            <a:endParaRPr b="0" lang="en-US" sz="3600" spc="-1" strike="noStrike">
              <a:solidFill>
                <a:srgbClr val="000098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l transportation and living costs during the contest will be paid by AB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ach participant organization is provided an amount of $1000 as a subsid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21:17:49Z</dcterms:created>
  <dc:creator>bahar</dc:creator>
  <dc:description/>
  <dc:language>en-US</dc:language>
  <cp:lastModifiedBy>ailab</cp:lastModifiedBy>
  <dcterms:modified xsi:type="dcterms:W3CDTF">2002-12-24T13:09:31Z</dcterms:modified>
  <cp:revision>62</cp:revision>
  <dc:subject/>
  <dc:title>PowerPoint Presentation</dc:title>
</cp:coreProperties>
</file>