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6989-AF78-429C-8FCD-566863206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robot 2 subcontracts task B to save 150 in cost; robot 1 sees that the new route will add 110 in cost; so they negotiate a price of 130.  Both robots profit, and the global task is accomplished at a lower cost.  Note that robot 2 was a leader; all it did was generate and sell a p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40D-0B68-48EB-B7FE-8010FBDC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393264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6C0-D440-48DF-A59A-427F1C4F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3368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8F1-B0D5-4DA3-9D16-3751EFE6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948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968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948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968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9AD-D441-4DC0-9B82-8F19B9E7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F294-AD56-4AB9-8565-C3BA2038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9496-A760-4D90-81BE-2CDE49C2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011C-5FFB-48D3-B9E8-C1621183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0405-8FC7-46E6-8A4A-D0064D10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BD88-E03D-4082-87D4-2F597CC3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B5D2-5849-4498-9C3F-D8584E4E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0186-4441-4F1F-BBF8-481DF29D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991-61B1-47F2-A38D-E5A5A97C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368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F965-BA35-4B30-A822-A9AAB1D9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393264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0BA6-40AE-4812-8DAC-8B192F22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393264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9789-30F5-4CD1-8C6B-21223963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3368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C18C-4D24-45D0-9BAA-74814C1E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5948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968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5948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968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969E-001B-41E0-8906-FCF11CEC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DDF-2CE1-44E6-B462-EB5AB14B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420-86BD-4267-81CB-7E178BF6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989-C962-46F9-907A-F626CBB3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F79-9420-4B9D-B363-52F91736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DDE-9DBA-4325-BCE5-1D27A86E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3368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1BB-A58F-487B-AFE5-890DCF0D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393264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39E-86D8-4A94-9CB6-43773483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616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6160"/>
            <a:ext cx="289584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2616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6D4A-64D0-4D0B-957E-7055F8EA4A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760" y="2895120"/>
            <a:ext cx="38098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2616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6160"/>
            <a:ext cx="289584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2616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A5EE-A94A-418F-B4D3-7B333C8A3D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0760" y="2362320"/>
            <a:ext cx="38098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ulti-Robot Coordination Using a Market-based Approach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90760" y="40384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entralized Approach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ot team treated as a single “system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many degrees of freed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ingle robot or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entr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is the “leader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er plans optimal actions for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he enti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members send information to leader and carry out 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entralized Methods: Pro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er can take all relevant inform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 accou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ory, coordination can be perfe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plans possible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entralized Methods: Con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ally h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Best known algorithms exponential in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table for more than a few robo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s unrealistic assump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relevant info can be transmitted to l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nfo doesn’t change during plan constr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lo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inaccurate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ulnerable to malfunction of l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Leader selection algorithm requi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vy communicat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istributed Approach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ing responsibility spread over t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obot basically indepen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ots use locally observable information to make their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istributed Methods: Pro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response to dynamic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or no communication requi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computation requi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Divide a problem into subtas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ooth response to environmental ch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robu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ingle point of fail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istributed Methods: Con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Works best for sub-task decomposab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roblem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ll problems can be decomposed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s based only on local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 solutions are often highly sub-opti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ecause they are based on local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utlin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multiple robo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appro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rket-based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Multi-robot expl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Market-based Approach:</a:t>
            </a:r>
            <a:r>
              <a:rPr b="1" i="1" lang="tr-TR" sz="4000" spc="-1" strike="noStrike">
                <a:solidFill>
                  <a:srgbClr val="ffffff"/>
                </a:solidFill>
                <a:latin typeface="Times New Roman"/>
              </a:rPr>
              <a:t> The Basic Idea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the economic model of a fre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obot seeks to maximize individual “profi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ots can negotiate and bid for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 profit helps the common go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s are made locally but effects approach optim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rves advantages of distributed appro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nalogy To Real Econom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ots must be self-interes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robots coope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To achieve a greater consequen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they comp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Provide goods at lower cost, eliminating inefficien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s reap benefits of their good decisions, suffer consequences of bad 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 like a real market economy, the result is global ef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he Market Mechanism In Detail: Background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eam of robots assembled to perform a particular set of tas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obot is a self-interested ag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am of robots is an econom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oal is to complete the tasks while minimizing overall costs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, since each robot aim to minimize its individual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utlin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ultiple robot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appro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rket-based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Multi-robot expl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How Do We Determine Profit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t = Revenue –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Revnue and cost reflect nature of application dom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Priorities on task comple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Hard dead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Acceptable margins for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 revenue is sum of individual revenues, and team cost is sum of individual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 and revenues set up per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imizing individual profits must move team towards globally optimal 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ots that produce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 l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low cost receive a larger share of the overall pro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functions may be compl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on distance travel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on time ta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function of fuel expended, CPU cycle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based on completion of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ing a goal 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ing an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rices and Bidding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ots can receive revenue from oth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ots in exchange for goods or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haulage rob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robots can produce more profit together than apart, they should deal with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ne is good at finding objects and another is good at transporting them, they can both g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No Communicat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01028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contracting a Task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71629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How Are Prices Determined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d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bots negotiate until price is mutually benefic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this moves global solution towards optim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ots can negotiate several deals at o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ls can potentially be multi-par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s determined by supply and dem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If there are a lot of haulers, they won’t be able to command a high pr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helps distribute robots among “occupations”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NOTE : price and bid are low bandwith mechanism for communicating aggregate cost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mpetition vs. Coordinat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mentary robots will coope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rasper and a transporter could offer a combined “pick up and place”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Result : heterogenous robot 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robots will comp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rives prices dow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n’t always tru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groups of robots could comp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Heterogenous robots could compete if task accomplished in different w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ilar robots could agree to segment the 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grasping robots might coordinate to move a heavy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Leader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obot can offer its services as a l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 leader must convince the group that they will make more money by following its ad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eader investigates plans for other robo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it finds a way for other robots to coordinate to maximize profi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this profit to bid for the services of the robo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s some profit for itsel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this introduces a notion of central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icult for more than a few robo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hy Is This Good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ust to changing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robot breaks, tasks can be re-bid to oth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nature allows for quick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local communication necess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t resource utilization and role ado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distributed system with optimality approaching centralized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utlin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multiple robo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appro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rket-based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Multi-robot explo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hy Multiple Robots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tasks require a t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botic socc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tasks can be decomposed and divided for ef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a large area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, Searching landm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specialists preferable to one genera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ore effective localization by exchanging in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robustness with redunda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s of robots allow for more varied and creative solutions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he Robotics Institute, Carnegie Mellon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ulti-Robot Explorat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 explore and map unknown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 may be hostile and uncert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may be diffic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robo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ver more territory more quick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bust if some robots f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mpt to minimize repeated cove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: coord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imize information gain, reduce total c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revious Work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ch and Arki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Eliminates dir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No role adoption, efficient resource utiliz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imer: can provably cover a region with minimal repeated cove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high communication requi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ils if one robot f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Chaimowic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ightly coupled multirobot coord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agent greedily assigns tas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Not robus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optimal, centralized, high commun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am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daptive te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General purpose teamwork capabilities via machine lear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Highly adaptable but lack to reason and optimize the use of limited 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rchitecture of the Market Approach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Distributed travelling salesman probl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Each robot equipped with a map of the 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Goal to visit a set of preselected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points to visit are the main commodity exchanged in mark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ny goal square in the gri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based on distance traveled to reach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thr c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nue based on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negotiated price to reach the go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The maximum team revenue chosen as to exceed team c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9*(r-c) +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am profit = sum of individual profi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individual robots maximize profit, the whole team ga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xample World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62120" y="1905120"/>
          <a:ext cx="6933960" cy="366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6933960" cy="36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400" spc="-1" strike="noStrike">
                <a:solidFill>
                  <a:srgbClr val="ffffff"/>
                </a:solidFill>
                <a:latin typeface="Times New Roman"/>
              </a:rPr>
              <a:t>Operator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Algorithm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orithm for each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self interested oper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Anounce all cities to all robots and wait for incoming b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each incoming bid in a priority queue with the lowest bid claiming the highest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 m cities (one to each robot) starting with the highest priority bid. (Note, once a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y is assigned from the priority queue, all other bids for that city and all other bids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mitted by that robot are removed from the queue before making the next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men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 all bids, and call for re-bids for all remaining c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procedure until all n cities are assig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xploration Algorithm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dea : “city-for-revenue deals” minimize team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espite increasing some robot’s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xploration Algorithm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gorithm for each robot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erate goals (based on goal selection strategy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OpExec (human operator) is reachable, check with OpExec to make sure goals are new to colon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nk goals greedily based on expected profi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y to auction off goals to each reachable robo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82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bid is worth more than you would profit from reaching the goal yourself (plus a markup), sell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xploration Algorithm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all auctions are closed, explore highest-profit go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on reaching goal, generate new goal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382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imum # of goal points is limi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 this algorithm until map is comp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idding Exampl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04920" y="2057400"/>
          <a:ext cx="3238560" cy="37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057400"/>
                    <a:ext cx="323856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306680" y="3003120"/>
            <a:ext cx="415116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1 auctions goal to R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xpected vs. Real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ots make decisions based on expected pro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cted cost and revenue based on current 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 profit may be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foreseen obstacles may increase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real costs exceed expected costs by some margin, abandon go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get stuck trying for unreachable go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 Few Multi-robot Scenario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ed warehouse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ploration and colonization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of hazardous environments (planetary, disaster, minefield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otic cleanup of hazardous si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oal Selection Strategi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strateg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ly select points, discard if already visi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edy explor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goal point in closest unexplored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enefit of Pric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-bandwidth mechanisms for communicating aggregate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ike other systems, map info doesn’t need to be communicated repeatedly for coord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nformation Sharing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n auctioneer tries to auction a goal point already covered by a bidd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dder tells auctioneer to update 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s goal 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ots can sell map information to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negotiated based on information ga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s overlapping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needed, OpExec sends a map request to all reachable robo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bots respond by sending current ma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xec combines the maps by adding up cell val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xperimental Setup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04920" y="1905120"/>
          <a:ext cx="3770280" cy="302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377028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06680" y="2151000"/>
            <a:ext cx="415116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or 5 robo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ped with fiber optic gyrosco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ultrasonic sen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xperimental Setup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61840" y="1676520"/>
          <a:ext cx="6264360" cy="203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1840" y="1676520"/>
                    <a:ext cx="62643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3903480"/>
            <a:ext cx="8458200" cy="26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test environ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room cluttered with obstac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door patio, with open areas as well as walls and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nference room with tables and 100 people wandering arou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k between 5 and 10 minutes to map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-based approach for multi-robot coordination is promi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bustness and quickness of distributed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es optimality of centralized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communication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ly not perf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heuristics can be inaccu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ch of this approach is still specula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pieces, such as leaders, may be too hard to 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utlin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multiple robo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appro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rket-based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Multi-robot expl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 Good Multi-robot System Is: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ust: no single point of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ed, even under dynamic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to respond to ch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le to deal with imperfec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le to allocate limited resources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: optimized resource util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terogeneous and able to make use of different robot ski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utlin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multiple robo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pproach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rket-based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Multi-robot expl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400" spc="-1" strike="noStrike">
                <a:solidFill>
                  <a:srgbClr val="ffffff"/>
                </a:solidFill>
                <a:latin typeface="Times New Roman"/>
              </a:rPr>
              <a:t>Difficult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ncreased number of robo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h requirement of working togeth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Dynamic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alfunctionning robo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asic Approach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mpting optimal p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man for himsel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-ba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03:52:26Z</dcterms:created>
  <dc:creator>Gabe Reinstein</dc:creator>
  <dc:description/>
  <dc:language>en-US</dc:language>
  <cp:lastModifiedBy>H. Levent AKIN</cp:lastModifiedBy>
  <dcterms:modified xsi:type="dcterms:W3CDTF">2003-04-03T12:13:14Z</dcterms:modified>
  <cp:revision>135</cp:revision>
  <dc:subject/>
  <dc:title>Multi-robot Coordination Using A Market-based Approach</dc:title>
</cp:coreProperties>
</file>