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6.wmf" ContentType="image/x-wmf"/>
  <Override PartName="/ppt/media/image45.png" ContentType="image/png"/>
  <Override PartName="/ppt/media/image10.wmf" ContentType="image/x-wmf"/>
  <Override PartName="/ppt/media/image47.wmf" ContentType="image/x-wmf"/>
  <Override PartName="/ppt/media/image34.wmf" ContentType="image/x-wmf"/>
  <Override PartName="/ppt/media/image33.wmf" ContentType="image/x-wmf"/>
  <Override PartName="/ppt/media/image1.png" ContentType="image/png"/>
  <Override PartName="/ppt/media/image29.wmf" ContentType="image/x-wmf"/>
  <Override PartName="/ppt/media/image20.wmf" ContentType="image/x-wmf"/>
  <Override PartName="/ppt/media/image57.wmf" ContentType="image/x-wmf"/>
  <Override PartName="/ppt/media/image19.wmf" ContentType="image/x-wmf"/>
  <Override PartName="/ppt/media/image61.wmf" ContentType="image/x-wmf"/>
  <Override PartName="/ppt/media/image21.wmf" ContentType="image/x-wmf"/>
  <Override PartName="/ppt/media/image67.wmf" ContentType="image/x-wmf"/>
  <Override PartName="/ppt/media/image30.wmf" ContentType="image/x-wmf"/>
  <Override PartName="/ppt/media/image4.wmf" ContentType="image/x-wmf"/>
  <Override PartName="/ppt/media/image16.wmf" ContentType="image/x-wmf"/>
  <Override PartName="/ppt/media/image66.wmf" ContentType="image/x-wmf"/>
  <Override PartName="/ppt/media/image17.wmf" ContentType="image/x-wmf"/>
  <Override PartName="/ppt/media/image5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62.wmf" ContentType="image/x-wmf"/>
  <Override PartName="/ppt/media/image68.png" ContentType="image/png"/>
  <Override PartName="/ppt/media/image25.wmf" ContentType="image/x-wmf"/>
  <Override PartName="/ppt/media/image59.wmf" ContentType="image/x-wmf"/>
  <Override PartName="/ppt/media/image22.wmf" ContentType="image/x-wmf"/>
  <Override PartName="/ppt/media/image24.wmf" ContentType="image/x-wmf"/>
  <Override PartName="/ppt/media/image60.wmf" ContentType="image/x-wmf"/>
  <Override PartName="/ppt/media/image23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3.wmf" ContentType="image/x-wmf"/>
  <Override PartName="/ppt/media/image58.png" ContentType="image/png"/>
  <Override PartName="/ppt/media/image15.wmf" ContentType="image/x-wmf"/>
  <Override PartName="/ppt/media/image40.wmf" ContentType="image/x-wmf"/>
  <Override PartName="/ppt/media/image11.wmf" ContentType="image/x-wmf"/>
  <Override PartName="/ppt/media/image8.wmf" ContentType="image/x-wmf"/>
  <Override PartName="/ppt/media/image38.wmf" ContentType="image/x-wmf"/>
  <Override PartName="/ppt/media/image31.wmf" ContentType="image/x-wmf"/>
  <Override PartName="/ppt/media/image13.wmf" ContentType="image/x-wmf"/>
  <Override PartName="/ppt/media/image2.png" ContentType="image/png"/>
  <Override PartName="/ppt/media/image14.png" ContentType="image/png"/>
  <Override PartName="/ppt/media/image54.wmf" ContentType="image/x-wmf"/>
  <Override PartName="/ppt/media/image9.wmf" ContentType="image/x-wmf"/>
  <Override PartName="/ppt/media/image39.wmf" ContentType="image/x-wmf"/>
  <Override PartName="/ppt/media/image55.png" ContentType="image/png"/>
  <Override PartName="/ppt/media/image12.wmf" ContentType="image/x-wmf"/>
  <Override PartName="/ppt/media/image49.wmf" ContentType="image/x-wmf"/>
  <Override PartName="/ppt/media/image32.wmf" ContentType="image/x-wmf"/>
  <Override PartName="/ppt/media/image35.png" ContentType="image/png"/>
  <Override PartName="/ppt/media/image37.wmf" ContentType="image/x-wmf"/>
  <Override PartName="/ppt/media/image7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46F-79AE-42DD-BD08-24642DA7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8CA-7AB8-42AE-890E-901E6CF7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AC35-9F7A-42F5-AD3D-135C93FB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57F-E186-4197-B0C0-67C37618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CFAF-5203-444A-85D4-F769288C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E271-90E1-4BB8-BD7B-3A3B16C4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1D08-F4CD-4CA1-97BD-5FFBBB6C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D0D7-6C53-4B7E-B6D0-63559C1B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FE68-1D3B-40C8-A10E-671622A3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4CB9-73BB-492F-B114-C8A73004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B6EE-9524-49FD-9789-D45B8375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685-3F86-432E-8101-18361159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986A-94A5-477D-908E-6E092D9E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2823-66E0-4CC1-A3A4-223B820C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3FB4-E4F5-4684-8EA6-61209B25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678B-13F3-40FC-9732-F28D9C0E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24B7-D848-4D2B-9C14-2624FD19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8055-E7CC-4857-BBE9-1691CB6D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D18-96B3-47DF-B941-B3DA9DD5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BE3-BE75-4974-8943-BEE8CA3D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FA8F-E6DB-47A0-8E5B-5178AC24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4D6-A5FF-482C-B83D-180222AA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9F82-7AC9-4634-BD5F-76A680F1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FE2-4CF9-42F3-A754-7D01946C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8DFA-5FDD-4921-B7EA-FD4FE2388AF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2F7D-E2C3-43AB-BB87-A2749FD0988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1DCC-96FF-43D1-973A-8080338AAB1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3D16-7676-4CFD-A9BA-64B92CC5919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4.wmf"/><Relationship Id="rId2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7.wmf"/><Relationship Id="rId2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4.wmf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4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0.wmf"/><Relationship Id="rId9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image" Target="../media/image4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828440" y="3200040"/>
            <a:ext cx="65530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21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equency Response of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tinuous-Time System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FF28-6640-4F4F-BFED-359D3661040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198571D-FE6E-4809-9B03-099D7B4286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ppose that h(t) i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305560" cy="16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4495680" y="2155680"/>
          <a:ext cx="2590920" cy="64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155680"/>
                    <a:ext cx="259092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279440" y="3726000"/>
          <a:ext cx="7026480" cy="122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79440" y="3726000"/>
                    <a:ext cx="702648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914400" y="4952880"/>
          <a:ext cx="7794720" cy="1316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4400" y="4952880"/>
                    <a:ext cx="779472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066680" y="258840"/>
          <a:ext cx="6858000" cy="1265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66680" y="258840"/>
                    <a:ext cx="6858000" cy="12650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09480" y="2362320"/>
          <a:ext cx="1051200" cy="506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480" y="2362320"/>
                    <a:ext cx="1051200" cy="5061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28600" y="4724280"/>
          <a:ext cx="1017720" cy="454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8600" y="4724280"/>
                    <a:ext cx="1017720" cy="454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8800-8F91-472D-8720-55CE0903EA5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8BC91-FC88-467D-999A-CE91E8435B1A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agnitude and Phase Plo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22440" y="1925640"/>
            <a:ext cx="7988040" cy="44751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graphicFrame>
        <p:nvGraphicFramePr>
          <p:cNvPr id="137" name=""/>
          <p:cNvGraphicFramePr/>
          <p:nvPr/>
        </p:nvGraphicFramePr>
        <p:xfrm>
          <a:off x="5867280" y="2057400"/>
          <a:ext cx="2629080" cy="96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2057400"/>
                    <a:ext cx="2629080" cy="9651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638680" y="4495680"/>
          <a:ext cx="2921040" cy="34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38680" y="4495680"/>
                    <a:ext cx="2921040" cy="3430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28600" y="1676520"/>
          <a:ext cx="3235320" cy="1201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1676520"/>
                    <a:ext cx="3235320" cy="1201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52280" y="5956200"/>
          <a:ext cx="3870360" cy="673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280" y="5956200"/>
                    <a:ext cx="3870360" cy="6732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829-D5E2-4F3E-B310-ED0C3410F7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E9EE5-31F8-4B9E-8078-F8BDEBBD9A4C}" type="datetime1">
              <a:rPr lang="en-US"/>
              <a:t>07/30/26</a:t>
            </a:fld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380880"/>
            <a:ext cx="8508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 Response of Integrator?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18920"/>
            <a:ext cx="817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ulse Respon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(t) = u(t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T a Stable Syste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equency response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H(j</a:t>
            </a:r>
            <a:r>
              <a:rPr b="0" i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oes NOT exis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3809880"/>
          <a:ext cx="746136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9880"/>
                    <a:ext cx="7461360" cy="1111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454800" y="4952880"/>
            <a:ext cx="25369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eed another ter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09480" y="5353200"/>
            <a:ext cx="7377120" cy="1123920"/>
            <a:chOff x="609480" y="5353200"/>
            <a:chExt cx="7377120" cy="1123920"/>
          </a:xfrm>
        </p:grpSpPr>
        <p:graphicFrame>
          <p:nvGraphicFramePr>
            <p:cNvPr id="151" name=""/>
            <p:cNvGraphicFramePr/>
            <p:nvPr/>
          </p:nvGraphicFramePr>
          <p:xfrm>
            <a:off x="6781680" y="5715000"/>
            <a:ext cx="1204920" cy="45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81680" y="5715000"/>
                      <a:ext cx="1204920" cy="45396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609480" y="5353200"/>
              <a:ext cx="6019920" cy="11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Leaky” Integrator  (a is small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Cannot build a perfect Integra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249-CB52-46A0-9B96-8C138DAEFD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35A87-755D-405E-83C1-F84FE8DC0F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88960" y="4900680"/>
                <a:ext cx="703116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↦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jωt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Delay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48320" y="533520"/>
          <a:ext cx="365760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533520"/>
                    <a:ext cx="3657600" cy="6602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981080" y="3429000"/>
          <a:ext cx="4749840" cy="98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429000"/>
                    <a:ext cx="4749840" cy="985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609480" y="1600200"/>
          <a:ext cx="7772400" cy="16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1600200"/>
                    <a:ext cx="777240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"/>
          <p:cNvGrpSpPr/>
          <p:nvPr/>
        </p:nvGrpSpPr>
        <p:grpSpPr>
          <a:xfrm>
            <a:off x="6662880" y="4724280"/>
            <a:ext cx="2252160" cy="1219320"/>
            <a:chOff x="6662880" y="4724280"/>
            <a:chExt cx="2252160" cy="1219320"/>
          </a:xfrm>
        </p:grpSpPr>
        <p:graphicFrame>
          <p:nvGraphicFramePr>
            <p:cNvPr id="164" name=""/>
            <p:cNvGraphicFramePr/>
            <p:nvPr/>
          </p:nvGraphicFramePr>
          <p:xfrm>
            <a:off x="6891120" y="4724280"/>
            <a:ext cx="2023920" cy="70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91120" y="4724280"/>
                      <a:ext cx="2023920" cy="70020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 flipH="1">
              <a:off x="6662880" y="5410080"/>
              <a:ext cx="228240" cy="5335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DD02-4641-4751-8CA6-DE99233E0E7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C518C-D15D-4A3E-B723-95B3D08B6F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080" y="304560"/>
            <a:ext cx="8356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Lowpass Filter w/ Dela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7760" y="1658880"/>
          <a:ext cx="502776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60" y="1658880"/>
                    <a:ext cx="5027760" cy="13129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0" name=""/>
          <p:cNvGrpSpPr/>
          <p:nvPr/>
        </p:nvGrpSpPr>
        <p:grpSpPr>
          <a:xfrm>
            <a:off x="900360" y="3200400"/>
            <a:ext cx="7576920" cy="3047760"/>
            <a:chOff x="900360" y="3200400"/>
            <a:chExt cx="7576920" cy="3047760"/>
          </a:xfrm>
        </p:grpSpPr>
        <p:sp>
          <p:nvSpPr>
            <p:cNvPr id="171" name=""/>
            <p:cNvSpPr/>
            <p:nvPr/>
          </p:nvSpPr>
          <p:spPr>
            <a:xfrm>
              <a:off x="4419720" y="4038480"/>
              <a:ext cx="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073480" y="3276360"/>
              <a:ext cx="3308400" cy="990720"/>
              <a:chOff x="5073480" y="3276360"/>
              <a:chExt cx="3308400" cy="990720"/>
            </a:xfrm>
          </p:grpSpPr>
          <p:graphicFrame>
            <p:nvGraphicFramePr>
              <p:cNvPr id="173" name=""/>
              <p:cNvGraphicFramePr/>
              <p:nvPr/>
            </p:nvGraphicFramePr>
            <p:xfrm>
              <a:off x="5638680" y="3276360"/>
              <a:ext cx="2743200" cy="3812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7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276360"/>
                        <a:ext cx="2743200" cy="381240"/>
                      </a:xfrm>
                      <a:prstGeom prst="rect">
                        <a:avLst/>
                      </a:prstGeom>
                      <a:ln w="9360">
                        <a:solidFill>
                          <a:srgbClr val="ff66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75" name=""/>
              <p:cNvSpPr/>
              <p:nvPr/>
            </p:nvSpPr>
            <p:spPr>
              <a:xfrm flipH="1">
                <a:off x="5073480" y="3657600"/>
                <a:ext cx="533520" cy="6094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568520" y="3504960"/>
              <a:ext cx="6476760" cy="838440"/>
            </a:xfrm>
            <a:custGeom>
              <a:avLst/>
              <a:gdLst/>
              <a:ahLst/>
              <a:rect l="l" t="t" r="r" b="b"/>
              <a:pathLst>
                <a:path w="4080" h="528">
                  <a:moveTo>
                    <a:pt x="0" y="528"/>
                  </a:moveTo>
                  <a:lnTo>
                    <a:pt x="1152" y="528"/>
                  </a:lnTo>
                  <a:lnTo>
                    <a:pt x="1152" y="0"/>
                  </a:lnTo>
                  <a:lnTo>
                    <a:pt x="2160" y="0"/>
                  </a:lnTo>
                  <a:lnTo>
                    <a:pt x="2160" y="528"/>
                  </a:lnTo>
                  <a:lnTo>
                    <a:pt x="4080" y="528"/>
                  </a:lnTo>
                </a:path>
              </a:pathLst>
            </a:custGeom>
            <a:noFill/>
            <a:ln w="76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09800" y="3733560"/>
              <a:ext cx="13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Magnitud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00360" y="4876560"/>
              <a:ext cx="168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Linear Phas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191120" y="3200400"/>
              <a:ext cx="0" cy="30477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66680" y="4343400"/>
              <a:ext cx="7315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47920" y="4647960"/>
              <a:ext cx="6400800" cy="1524240"/>
            </a:xfrm>
            <a:custGeom>
              <a:avLst/>
              <a:gdLst/>
              <a:ahLst/>
              <a:rect l="l" t="t" r="r" b="b"/>
              <a:pathLst>
                <a:path w="4032" h="960">
                  <a:moveTo>
                    <a:pt x="0" y="480"/>
                  </a:moveTo>
                  <a:lnTo>
                    <a:pt x="1200" y="480"/>
                  </a:lnTo>
                  <a:lnTo>
                    <a:pt x="1200" y="0"/>
                  </a:lnTo>
                  <a:lnTo>
                    <a:pt x="2256" y="960"/>
                  </a:lnTo>
                  <a:lnTo>
                    <a:pt x="2256" y="480"/>
                  </a:lnTo>
                  <a:lnTo>
                    <a:pt x="3984" y="480"/>
                  </a:lnTo>
                  <a:lnTo>
                    <a:pt x="4032" y="480"/>
                  </a:ln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183" name=""/>
            <p:cNvGraphicFramePr/>
            <p:nvPr/>
          </p:nvGraphicFramePr>
          <p:xfrm>
            <a:off x="8001000" y="4419360"/>
            <a:ext cx="399960" cy="328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001000" y="4419360"/>
                      <a:ext cx="399960" cy="3286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8077320" y="5486400"/>
            <a:ext cx="399960" cy="328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7320" y="5486400"/>
                      <a:ext cx="399960" cy="32832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54A7-FE8E-490B-AE72-3AE31D68C34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579C5-E3E2-4766-B3AE-659F49B10F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in Gives Sinusoid o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0880" y="995400"/>
            <a:ext cx="8209080" cy="57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455-A8CE-4866-8579-91A282A00CF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BED12-FF9D-4C49-B96D-15773DB3BD28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: Ideal Low Pas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66760" y="1703520"/>
          <a:ext cx="5818320" cy="16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1703520"/>
                    <a:ext cx="5818320" cy="16491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52280" y="3733920"/>
                <a:ext cx="5408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↦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562720" y="3794040"/>
                <a:ext cx="32954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39680" y="4915080"/>
                <a:ext cx="87123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95F-0E8B-4F5E-9351-62A69B598E5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43F5D-11BC-4B98-B8E2-8DAFE6544D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sine Inp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04920" y="1747800"/>
          <a:ext cx="8534160" cy="10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47800"/>
                    <a:ext cx="853416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52280" y="3043080"/>
          <a:ext cx="8686800" cy="10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043080"/>
                    <a:ext cx="868680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838080" y="4417920"/>
          <a:ext cx="5334120" cy="68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417920"/>
                    <a:ext cx="533412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80880" y="5394240"/>
          <a:ext cx="8458200" cy="77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5394240"/>
                    <a:ext cx="8458200" cy="777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3E0-032A-4B3D-9F1D-8902E6957EB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313A1-DC98-45E3-8836-503A00EE58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view Fourier Ser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et representation from the signa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orks for PERIODIC Sign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ier Seri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GRAL over one perio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828800" y="4495680"/>
          <a:ext cx="5334120" cy="18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495680"/>
                    <a:ext cx="5334120" cy="18687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A5F0-E029-4AAB-9FFD-FE3B93396F9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CDD6E-48C4-4387-80E9-96DC722C53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Periodic Signal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3120" cy="205884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028880" y="1676520"/>
            <a:ext cx="7664400" cy="2133360"/>
            <a:chOff x="1028880" y="1676520"/>
            <a:chExt cx="7664400" cy="2133360"/>
          </a:xfrm>
        </p:grpSpPr>
        <p:graphicFrame>
          <p:nvGraphicFramePr>
            <p:cNvPr id="212" name=""/>
            <p:cNvGraphicFramePr/>
            <p:nvPr/>
          </p:nvGraphicFramePr>
          <p:xfrm>
            <a:off x="3429000" y="1676520"/>
            <a:ext cx="217188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29000" y="1676520"/>
                      <a:ext cx="217188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14" name=""/>
            <p:cNvGraphicFramePr/>
            <p:nvPr/>
          </p:nvGraphicFramePr>
          <p:xfrm>
            <a:off x="6019920" y="3429000"/>
            <a:ext cx="34272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19920" y="3429000"/>
                      <a:ext cx="342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16" name=""/>
            <p:cNvGraphicFramePr/>
            <p:nvPr/>
          </p:nvGraphicFramePr>
          <p:xfrm>
            <a:off x="1028880" y="3429000"/>
            <a:ext cx="72360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028880" y="3429000"/>
                      <a:ext cx="72360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"/>
            <p:cNvGraphicFramePr/>
            <p:nvPr/>
          </p:nvGraphicFramePr>
          <p:xfrm>
            <a:off x="2711520" y="3429000"/>
            <a:ext cx="55872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711520" y="3429000"/>
                      <a:ext cx="558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"/>
            <p:cNvGraphicFramePr/>
            <p:nvPr/>
          </p:nvGraphicFramePr>
          <p:xfrm>
            <a:off x="7524720" y="3429000"/>
            <a:ext cx="533520" cy="380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524720" y="3429000"/>
                      <a:ext cx="5335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"/>
            <p:cNvGraphicFramePr/>
            <p:nvPr/>
          </p:nvGraphicFramePr>
          <p:xfrm>
            <a:off x="4419720" y="3429000"/>
            <a:ext cx="203040" cy="2793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419720" y="3429000"/>
                      <a:ext cx="203040" cy="279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24" name=""/>
            <p:cNvGraphicFramePr/>
            <p:nvPr/>
          </p:nvGraphicFramePr>
          <p:xfrm>
            <a:off x="8566200" y="3429000"/>
            <a:ext cx="127080" cy="2412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8566200" y="3429000"/>
                      <a:ext cx="127080" cy="2412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6" name=""/>
          <p:cNvGraphicFramePr/>
          <p:nvPr/>
        </p:nvGraphicFramePr>
        <p:xfrm>
          <a:off x="1371600" y="3878280"/>
          <a:ext cx="3809880" cy="1303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371600" y="3878280"/>
                    <a:ext cx="3809880" cy="1303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447920" y="5299200"/>
          <a:ext cx="3809880" cy="13302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447920" y="5299200"/>
                    <a:ext cx="3809880" cy="1330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715000" y="4699080"/>
          <a:ext cx="3048120" cy="10476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715000" y="4699080"/>
                    <a:ext cx="3048120" cy="10476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34" name=""/>
          <p:cNvGrpSpPr/>
          <p:nvPr/>
        </p:nvGrpSpPr>
        <p:grpSpPr>
          <a:xfrm>
            <a:off x="5181480" y="3962520"/>
            <a:ext cx="3322080" cy="520560"/>
            <a:chOff x="5181480" y="3962520"/>
            <a:chExt cx="3322080" cy="520560"/>
          </a:xfrm>
        </p:grpSpPr>
        <p:sp>
          <p:nvSpPr>
            <p:cNvPr id="235" name=""/>
            <p:cNvSpPr/>
            <p:nvPr/>
          </p:nvSpPr>
          <p:spPr>
            <a:xfrm>
              <a:off x="5704560" y="3962520"/>
              <a:ext cx="2799000" cy="52056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imes New Roman"/>
                </a:rPr>
                <a:t>Fourier Synthesis</a:t>
              </a:r>
              <a:endParaRPr b="0" lang="en-US" sz="2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5181480" y="4191120"/>
              <a:ext cx="533520" cy="2286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257800" y="5881680"/>
            <a:ext cx="3198600" cy="520560"/>
            <a:chOff x="5257800" y="5881680"/>
            <a:chExt cx="3198600" cy="520560"/>
          </a:xfrm>
        </p:grpSpPr>
        <p:sp>
          <p:nvSpPr>
            <p:cNvPr id="238" name=""/>
            <p:cNvSpPr/>
            <p:nvPr/>
          </p:nvSpPr>
          <p:spPr>
            <a:xfrm>
              <a:off x="5796000" y="5881680"/>
              <a:ext cx="2660400" cy="52056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imes New Roman"/>
                </a:rPr>
                <a:t>Fourier Analysis</a:t>
              </a:r>
              <a:endParaRPr b="0" lang="en-US" sz="2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5257800" y="5943240"/>
              <a:ext cx="533520" cy="2286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B7C-B1F1-43CD-9358-7F435951DED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1399E-8290-4407-806E-F9D871BCDF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4EF-BF27-403F-A266-DFFB5537C4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E85DD-A5A2-430D-8BA6-DD0B0E4FCD9D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quare Wave Signal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381880" cy="190476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685800" y="1523880"/>
            <a:ext cx="8128080" cy="1600200"/>
            <a:chOff x="685800" y="1523880"/>
            <a:chExt cx="8128080" cy="1600200"/>
          </a:xfrm>
        </p:grpSpPr>
        <p:graphicFrame>
          <p:nvGraphicFramePr>
            <p:cNvPr id="245" name=""/>
            <p:cNvGraphicFramePr/>
            <p:nvPr/>
          </p:nvGraphicFramePr>
          <p:xfrm>
            <a:off x="3733920" y="1523880"/>
            <a:ext cx="2171520" cy="38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733920" y="1523880"/>
                      <a:ext cx="2171520" cy="38124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47" name=""/>
            <p:cNvGraphicFramePr/>
            <p:nvPr/>
          </p:nvGraphicFramePr>
          <p:xfrm>
            <a:off x="6362640" y="2743200"/>
            <a:ext cx="34308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362640" y="2743200"/>
                      <a:ext cx="34308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49" name=""/>
            <p:cNvGraphicFramePr/>
            <p:nvPr/>
          </p:nvGraphicFramePr>
          <p:xfrm>
            <a:off x="685800" y="2743200"/>
            <a:ext cx="72396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85800" y="2743200"/>
                      <a:ext cx="72396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1" name=""/>
            <p:cNvGraphicFramePr/>
            <p:nvPr/>
          </p:nvGraphicFramePr>
          <p:xfrm>
            <a:off x="2514600" y="2743200"/>
            <a:ext cx="55872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514600" y="2743200"/>
                      <a:ext cx="558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"/>
            <p:cNvGraphicFramePr/>
            <p:nvPr/>
          </p:nvGraphicFramePr>
          <p:xfrm>
            <a:off x="8001000" y="2743200"/>
            <a:ext cx="533520" cy="380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001000" y="2743200"/>
                      <a:ext cx="5335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"/>
            <p:cNvGraphicFramePr/>
            <p:nvPr/>
          </p:nvGraphicFramePr>
          <p:xfrm>
            <a:off x="4572000" y="2743200"/>
            <a:ext cx="203040" cy="2793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572000" y="2743200"/>
                      <a:ext cx="203040" cy="279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"/>
            <p:cNvGraphicFramePr/>
            <p:nvPr/>
          </p:nvGraphicFramePr>
          <p:xfrm>
            <a:off x="8686800" y="2666880"/>
            <a:ext cx="127080" cy="2415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5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8686800" y="2666880"/>
                      <a:ext cx="127080" cy="2415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59" name=""/>
          <p:cNvGraphicFramePr/>
          <p:nvPr/>
        </p:nvGraphicFramePr>
        <p:xfrm>
          <a:off x="838080" y="5214960"/>
          <a:ext cx="7543800" cy="1465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38080" y="5214960"/>
                    <a:ext cx="75438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914400" y="3695760"/>
          <a:ext cx="7543800" cy="1388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14400" y="3695760"/>
                    <a:ext cx="754380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F01F-8DAE-40A5-8CED-820F655440F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E25EF-18BC-4120-AE86-FD78E94F00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pectrum from Fourier Ser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838080" y="3201840"/>
            <a:ext cx="7937640" cy="327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1600200" y="1676520"/>
          <a:ext cx="6789600" cy="150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676520"/>
                    <a:ext cx="6789600" cy="15062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7086600" y="3429000"/>
          <a:ext cx="182880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86600" y="3429000"/>
                    <a:ext cx="1828800" cy="3808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387-9538-47CE-8FDD-A68DDC0D887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FEA5E-6507-4208-A553-72793E57FB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 Systems with Periodic Inpu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y superposition,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35040" y="1600200"/>
            <a:ext cx="8280360" cy="204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685800" y="2681280"/>
          <a:ext cx="1905120" cy="92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681280"/>
                    <a:ext cx="1905120" cy="9270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5334120" y="2765520"/>
          <a:ext cx="3504960" cy="76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2765520"/>
                    <a:ext cx="3504960" cy="7682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80880" y="4348080"/>
          <a:ext cx="8534520" cy="13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4348080"/>
                    <a:ext cx="85345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438280" y="5904000"/>
          <a:ext cx="3810240" cy="741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38280" y="5904000"/>
                    <a:ext cx="3810240" cy="7412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5157360" y="3510000"/>
            <a:ext cx="37454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utput has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sam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requenci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52C7-EA98-4936-9213-EB56BF37C42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F90D3-2602-401A-BAD2-9480F83BAB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152280"/>
            <a:ext cx="8432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Lowpass Filter (100 H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43000" y="1316160"/>
            <a:ext cx="6781680" cy="27986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419720" y="3886200"/>
            <a:ext cx="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295280" y="4500720"/>
            <a:ext cx="6782040" cy="23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"/>
          <p:cNvGraphicFramePr/>
          <p:nvPr/>
        </p:nvGraphicFramePr>
        <p:xfrm>
          <a:off x="2909880" y="4114800"/>
          <a:ext cx="347832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9880" y="4114800"/>
                    <a:ext cx="3478320" cy="565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88" name=""/>
          <p:cNvGrpSpPr/>
          <p:nvPr/>
        </p:nvGrpSpPr>
        <p:grpSpPr>
          <a:xfrm>
            <a:off x="4038480" y="1295280"/>
            <a:ext cx="5105520" cy="2362320"/>
            <a:chOff x="4038480" y="1295280"/>
            <a:chExt cx="5105520" cy="2362320"/>
          </a:xfrm>
        </p:grpSpPr>
        <p:sp>
          <p:nvSpPr>
            <p:cNvPr id="289" name=""/>
            <p:cNvSpPr/>
            <p:nvPr/>
          </p:nvSpPr>
          <p:spPr>
            <a:xfrm flipV="1">
              <a:off x="4038480" y="2362320"/>
              <a:ext cx="0" cy="12952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38480" y="2362320"/>
              <a:ext cx="137160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10080" y="2362320"/>
              <a:ext cx="0" cy="12952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292" name=""/>
            <p:cNvGraphicFramePr/>
            <p:nvPr/>
          </p:nvGraphicFramePr>
          <p:xfrm>
            <a:off x="5867280" y="1295280"/>
            <a:ext cx="3276720" cy="932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67280" y="1295280"/>
                      <a:ext cx="3276720" cy="93204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 flipH="1">
              <a:off x="5333760" y="1752480"/>
              <a:ext cx="533160" cy="60984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5410080" y="2666880"/>
              <a:ext cx="3308400" cy="990720"/>
              <a:chOff x="5410080" y="2666880"/>
              <a:chExt cx="3308400" cy="990720"/>
            </a:xfrm>
          </p:grpSpPr>
          <p:graphicFrame>
            <p:nvGraphicFramePr>
              <p:cNvPr id="296" name=""/>
              <p:cNvGraphicFramePr/>
              <p:nvPr/>
            </p:nvGraphicFramePr>
            <p:xfrm>
              <a:off x="5975280" y="2666880"/>
              <a:ext cx="2743200" cy="381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9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975280" y="2666880"/>
                        <a:ext cx="2743200" cy="381240"/>
                      </a:xfrm>
                      <a:prstGeom prst="rect">
                        <a:avLst/>
                      </a:prstGeom>
                      <a:ln w="9360">
                        <a:solidFill>
                          <a:srgbClr val="ff66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298" name=""/>
              <p:cNvSpPr/>
              <p:nvPr/>
            </p:nvSpPr>
            <p:spPr>
              <a:xfrm flipH="1">
                <a:off x="5410080" y="3048120"/>
                <a:ext cx="533520" cy="6094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CB3F-EC0D-4A31-9F2D-E0D28492070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0338B-D422-4E02-9C96-345B157C42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080" y="152280"/>
            <a:ext cx="835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Lowpass Filter (200 H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0" name=""/>
          <p:cNvSpPr/>
          <p:nvPr/>
        </p:nvSpPr>
        <p:spPr>
          <a:xfrm>
            <a:off x="4419720" y="3886200"/>
            <a:ext cx="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295280" y="4470480"/>
            <a:ext cx="6782040" cy="23875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143000" y="1316160"/>
            <a:ext cx="6781680" cy="279864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3276720" y="1295280"/>
            <a:ext cx="5867280" cy="2362320"/>
            <a:chOff x="3276720" y="1295280"/>
            <a:chExt cx="5867280" cy="2362320"/>
          </a:xfrm>
        </p:grpSpPr>
        <p:sp>
          <p:nvSpPr>
            <p:cNvPr id="304" name=""/>
            <p:cNvSpPr/>
            <p:nvPr/>
          </p:nvSpPr>
          <p:spPr>
            <a:xfrm>
              <a:off x="6095880" y="2362320"/>
              <a:ext cx="0" cy="12952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3276720" y="2362320"/>
              <a:ext cx="0" cy="12952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76720" y="2362320"/>
              <a:ext cx="281916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307" name=""/>
            <p:cNvGraphicFramePr/>
            <p:nvPr/>
          </p:nvGraphicFramePr>
          <p:xfrm>
            <a:off x="5867280" y="1295280"/>
            <a:ext cx="3276720" cy="932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67280" y="1295280"/>
                      <a:ext cx="3276720" cy="93204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 flipH="1">
              <a:off x="5333760" y="1752480"/>
              <a:ext cx="533160" cy="60984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310" name=""/>
            <p:cNvGraphicFramePr/>
            <p:nvPr/>
          </p:nvGraphicFramePr>
          <p:xfrm>
            <a:off x="6673680" y="2666880"/>
            <a:ext cx="1994040" cy="381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73680" y="2666880"/>
                      <a:ext cx="1994040" cy="38124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12" name=""/>
            <p:cNvSpPr/>
            <p:nvPr/>
          </p:nvSpPr>
          <p:spPr>
            <a:xfrm flipH="1">
              <a:off x="6095880" y="3048120"/>
              <a:ext cx="533520" cy="60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aphicFrame>
        <p:nvGraphicFramePr>
          <p:cNvPr id="313" name=""/>
          <p:cNvGraphicFramePr/>
          <p:nvPr/>
        </p:nvGraphicFramePr>
        <p:xfrm>
          <a:off x="1246320" y="4114800"/>
          <a:ext cx="6807240" cy="56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46320" y="4114800"/>
                    <a:ext cx="6807240" cy="565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515C-24E5-460F-878A-A066B6AEADC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6C26C-172B-43CB-85EE-CA6D585BF0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Bandpass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3886200"/>
            <a:ext cx="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99960" y="5334120"/>
          <a:ext cx="8591760" cy="87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5334120"/>
                    <a:ext cx="8591760" cy="8744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228600" y="1287360"/>
            <a:ext cx="8229600" cy="339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"/>
          <p:cNvGraphicFramePr/>
          <p:nvPr/>
        </p:nvGraphicFramePr>
        <p:xfrm>
          <a:off x="4952880" y="1281240"/>
          <a:ext cx="4038840" cy="104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1281240"/>
                    <a:ext cx="4038840" cy="10443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 flipH="1">
            <a:off x="6095880" y="2895480"/>
            <a:ext cx="533520" cy="2286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1240" y="480060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t is the ouput signal ?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31800" y="2514600"/>
            <a:ext cx="1194120" cy="368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Pass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84680" y="2514600"/>
            <a:ext cx="1194120" cy="368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Pass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280" y="2819520"/>
            <a:ext cx="8763120" cy="1295280"/>
            <a:chOff x="152280" y="2819520"/>
            <a:chExt cx="8763120" cy="1295280"/>
          </a:xfrm>
        </p:grpSpPr>
        <p:sp>
          <p:nvSpPr>
            <p:cNvPr id="327" name=""/>
            <p:cNvSpPr/>
            <p:nvPr/>
          </p:nvSpPr>
          <p:spPr>
            <a:xfrm>
              <a:off x="3200400" y="2819520"/>
              <a:ext cx="0" cy="12952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2819520" y="2819520"/>
              <a:ext cx="0" cy="12952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19520" y="2819520"/>
              <a:ext cx="38088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5867280" y="2819520"/>
              <a:ext cx="380880" cy="1295280"/>
              <a:chOff x="5867280" y="2819520"/>
              <a:chExt cx="380880" cy="1295280"/>
            </a:xfrm>
          </p:grpSpPr>
          <p:sp>
            <p:nvSpPr>
              <p:cNvPr id="331" name=""/>
              <p:cNvSpPr/>
              <p:nvPr/>
            </p:nvSpPr>
            <p:spPr>
              <a:xfrm>
                <a:off x="6248160" y="2819520"/>
                <a:ext cx="0" cy="129528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5867280" y="2819520"/>
                <a:ext cx="0" cy="129528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867280" y="2819520"/>
                <a:ext cx="38088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3200400" y="4114800"/>
              <a:ext cx="266688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48520" y="4114800"/>
              <a:ext cx="266688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2280" y="4114800"/>
              <a:ext cx="266724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1D1B-D93A-468E-B4A6-FAA88E7632E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26974-FAAB-4365-BB70-2A1073A7BA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53880" y="4334040"/>
          <a:ext cx="8358480" cy="12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4334040"/>
                    <a:ext cx="8358480" cy="12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1319040" y="3276720"/>
          <a:ext cx="6504120" cy="84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9040" y="3276720"/>
                    <a:ext cx="6504120" cy="8474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3962520" y="344520"/>
          <a:ext cx="396216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344520"/>
                    <a:ext cx="3962160" cy="8668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25600" y="1751040"/>
          <a:ext cx="8084880" cy="129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600" y="1751040"/>
                    <a:ext cx="808488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1859040" y="5927760"/>
          <a:ext cx="4894200" cy="70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59040" y="5927760"/>
                    <a:ext cx="4894200" cy="7016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4E5B-D94F-4651-BF66-1ABAAA14CD4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83348-41BD-485A-82DE-B1AED5657F53}" type="datetime1">
              <a:rPr lang="en-US"/>
              <a:t>07/30/26</a:t>
            </a:fld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GUI: Sinusoid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57200" y="1033560"/>
            <a:ext cx="8226360" cy="582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056A-C343-4906-9476-68D04387063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49184-2513-4BC0-9918-3694ACCF523D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10, al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10 all, start Ch 11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ter 11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9EF5-0615-413A-8B5F-5EED7678E9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15BD1-CB09-4718-AA4E-80A22E009A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7120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view of convolu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operation for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TI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Syste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lex exponential input signa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Frequency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sine sign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al part of complex exponent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ier Series thru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H(j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se are Analog Filt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162F-A3B8-4805-97F0-9FC6D51874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B398D-46C2-4B9E-8CE8-F9507243CE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olution defines an LTI syste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ponse to a complex exponential gives frequency response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H(j</a:t>
            </a:r>
            <a:r>
              <a:rPr b="0" i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1481040"/>
            <a:ext cx="8610480" cy="212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1219320" y="4210200"/>
          <a:ext cx="5790960" cy="119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210200"/>
                    <a:ext cx="5790960" cy="11998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970-0D47-4FBA-B6A7-E214435F08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AB1F7-6542-4A89-A541-C590ACBE9A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ought Process #1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712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UPERPOSITION  (Linearity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ke x(t) a weighted sum of signa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n y(t) is also a sum—same weigh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t DIFFERENT OUTPUT SIGNALS usually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INUSOI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NUSOID IN GIVES SINUSOID OUT”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ke x(t) a weighted sum of sinusoid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n y(t) is also a sum of sinusoid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fferent Magnitudes and Phas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TI SYSTEM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Sinusoidal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CCC-FEBA-4609-BCC7-AE916DCEC6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88E00-A23C-4DFB-981C-05AE6EDA91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ought Process #2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956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UPERPOSITION   (Linearity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ke x(t) a weighted sum of signa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Use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SINUSOI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Any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x(t) = weighted sum of sinusoid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HOW?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Use FOURIER ANALYSIS INTEGR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To find the weights from x(t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TI SYSTEM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uency Response changes each sinusoidal compon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53A-392E-497C-B3BD-7D8641AB10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9082F-7C61-4795-B236-6C10BAC5DE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lex Exponential Inp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80880" y="1676520"/>
                <a:ext cx="83822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↦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057400" y="2438280"/>
                <a:ext cx="4419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05" name=""/>
          <p:cNvGrpSpPr/>
          <p:nvPr/>
        </p:nvGrpSpPr>
        <p:grpSpPr>
          <a:xfrm>
            <a:off x="2590920" y="1752480"/>
            <a:ext cx="6340320" cy="4965840"/>
            <a:chOff x="2590920" y="1752480"/>
            <a:chExt cx="6340320" cy="4965840"/>
          </a:xfrm>
        </p:grpSpPr>
        <p:sp>
          <p:nvSpPr>
            <p:cNvPr id="106" name=""/>
            <p:cNvSpPr/>
            <p:nvPr/>
          </p:nvSpPr>
          <p:spPr>
            <a:xfrm>
              <a:off x="7086600" y="5486400"/>
              <a:ext cx="1844640" cy="82548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Frequency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419720" y="4647960"/>
              <a:ext cx="0" cy="6094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2590920" y="5257800"/>
                  <a:ext cx="434340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</m:sup>
                          </m:sSup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"/>
            <p:cNvSpPr/>
            <p:nvPr/>
          </p:nvSpPr>
          <p:spPr>
            <a:xfrm>
              <a:off x="5486400" y="1752480"/>
              <a:ext cx="1447920" cy="68580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81080" y="3733920"/>
                <a:ext cx="500400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</m:e>
                    </m: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132-E200-4137-BDE8-4816A9C734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D626C-C117-418C-A0B5-28B60E4028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When does 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H(j</a:t>
            </a:r>
            <a:r>
              <a:rPr b="0" i="1" lang="en-US" sz="4000" spc="-1" strike="noStrike">
                <a:solidFill>
                  <a:srgbClr val="0000cc"/>
                </a:solidFill>
                <a:latin typeface="Symbol"/>
                <a:ea typeface="Symbol"/>
              </a:rPr>
              <a:t>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)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Exist?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n is                            ?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us the frequency response exists if the LTI system i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abl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system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6680" y="2514600"/>
          <a:ext cx="7239240" cy="13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14600"/>
                    <a:ext cx="723924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989520" y="3886200"/>
          <a:ext cx="401148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89520" y="3886200"/>
                    <a:ext cx="4011480" cy="11365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362320" y="1752480"/>
          <a:ext cx="2438280" cy="57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1752480"/>
                    <a:ext cx="24382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FD75-F250-4F03-AFB7-016C0E34A7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14FC0-6F14-4678-B10C-7B737E67E4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1999-11-11T16:03:31Z</cp:lastPrinted>
  <dcterms:modified xsi:type="dcterms:W3CDTF">2006-04-03T14:46:28Z</dcterms:modified>
  <cp:revision>439</cp:revision>
  <dc:subject/>
  <dc:title>SPFirst Lecture #2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