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2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4.wmf" ContentType="image/x-wmf"/>
  <Override PartName="/ppt/media/image49.png" ContentType="image/png"/>
  <Override PartName="/ppt/media/image52.wmf" ContentType="image/x-wmf"/>
  <Override PartName="/ppt/media/image32.png" ContentType="image/png"/>
  <Override PartName="/ppt/media/image39.wmf" ContentType="image/x-wmf"/>
  <Override PartName="/ppt/media/image41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54.wmf" ContentType="image/x-wmf"/>
  <Override PartName="/ppt/media/image9.png" ContentType="image/png"/>
  <Override PartName="/ppt/media/image40.wmf" ContentType="image/x-wmf"/>
  <Override PartName="/ppt/media/image37.png" ContentType="image/png"/>
  <Override PartName="/ppt/media/image36.png" ContentType="image/png"/>
  <Override PartName="/ppt/media/image31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126-490A-4F71-A21B-4B7DF757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668-7D35-40FF-8E76-21C34F48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D8B-5A5D-4DD3-A0FC-527EF2A2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CCE-7B27-41E9-8212-EDD7C11C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AAC-6E3F-41A3-B465-1EAB8876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D63A-9409-4CD1-A35E-B8616BB8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1B78-2937-4B7C-8744-5346838E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CBE-DFF9-41D8-91F0-6F7AA673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D69C-ED2D-4FC2-B52A-593FFAFB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3D52-64F8-4F0F-BEAD-9FC3020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FA1D-D728-4630-9390-E7B4D7A9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BE0-03A1-4296-9485-C2721763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33CE-BFCD-4463-901E-12E2B0F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309E-1254-4657-AB38-10B537A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CB7A-16B3-406A-9BF7-2D34494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CE26-3A14-4301-B4B2-AB9E0A75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8DD4-2574-438D-B6E2-2228DA99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E46-99F8-47A0-AAEE-8303D06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62D-59BD-4308-BEAE-335443DD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0B1-7538-4C3C-B75F-DE74E60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A7E-60B4-4737-85D9-79FEB108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72D-088B-46B2-86AD-157E331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0EA-0DA0-46DA-BE10-796A2C3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C1D-C300-450D-928F-0FD6616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22C-E74A-44E4-AA60-11E0B1208DC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4A6A-9906-4164-8357-A90211E9528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B93-E704-4FB8-AE52-46B83033975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9E75-EDC1-48B1-BE1A-87CC0DD21D4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360" y="34286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IR Filters: H(z) a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CA82-F6D4-4982-B955-716FD8BF39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0402CD-1151-4E9A-A395-AA6B9A04C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990720" y="2819520"/>
          <a:ext cx="68580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6858000" cy="5983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I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RIVE the SYSTEM FUNCTION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ELA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PROPER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5800" y="4792680"/>
            <a:ext cx="76201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914400" y="3429000"/>
            <a:ext cx="7016760" cy="1058760"/>
            <a:chOff x="914400" y="3429000"/>
            <a:chExt cx="7016760" cy="1058760"/>
          </a:xfrm>
        </p:grpSpPr>
        <p:graphicFrame>
          <p:nvGraphicFramePr>
            <p:cNvPr id="149" name=""/>
            <p:cNvGraphicFramePr/>
            <p:nvPr/>
          </p:nvGraphicFramePr>
          <p:xfrm>
            <a:off x="914400" y="3809880"/>
            <a:ext cx="7016760" cy="67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4400" y="3809880"/>
                      <a:ext cx="7016760" cy="677880"/>
                    </a:xfrm>
                    <a:prstGeom prst="rect">
                      <a:avLst/>
                    </a:prstGeom>
                    <a:ln w="2844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>
              <a:off x="3048120" y="3429000"/>
              <a:ext cx="30456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857640" y="3429000"/>
              <a:ext cx="30492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61360" y="4648320"/>
            <a:ext cx="4107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ASIER with DELAY PROPERT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43D-FDA9-4321-97FE-1FA8E5FF44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092E3-E5F8-4189-B307-EA69259AA6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371600" y="4780080"/>
          <a:ext cx="621828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780080"/>
                    <a:ext cx="6218280" cy="1315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FUNCTION of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E the FILTER COEFFICI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724280"/>
            <a:ext cx="2286000" cy="13716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2666880"/>
          <a:ext cx="70167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7016760" cy="67788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71600" y="3657600"/>
          <a:ext cx="621972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657600"/>
                    <a:ext cx="6219720" cy="67788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1CD-537F-4228-972F-26DE34E868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A48C4-25F7-41DA-AE06-13132BE047F1}" type="datetime1">
              <a:rPr lang="en-US"/>
              <a:t>07/30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FUN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REA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ILTER COEFF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12840" y="2590920"/>
                <a:ext cx="717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25760" y="4262400"/>
                <a:ext cx="591804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6095880" y="3449520"/>
            <a:ext cx="1866600" cy="1274760"/>
            <a:chOff x="6095880" y="3449520"/>
            <a:chExt cx="1866600" cy="1274760"/>
          </a:xfrm>
        </p:grpSpPr>
        <p:sp>
          <p:nvSpPr>
            <p:cNvPr id="168" name=""/>
            <p:cNvSpPr/>
            <p:nvPr/>
          </p:nvSpPr>
          <p:spPr>
            <a:xfrm flipH="1">
              <a:off x="6095880" y="3657600"/>
              <a:ext cx="990720" cy="10666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2080" y="3449520"/>
              <a:ext cx="950400" cy="5814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H(z)</a:t>
              </a:r>
              <a:endParaRPr b="0" lang="en-US" sz="3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9CC-B900-4874-BD1C-8E10A2C07B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A43DE-CD3C-4A3F-B3D3-885850B10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z-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2590920"/>
                <a:ext cx="3422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447920" y="2666880"/>
                <a:ext cx="1044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14680" y="504972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99548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236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748040" y="4648320"/>
                <a:ext cx="3419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905120" y="476568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19520" y="2819520"/>
            <a:ext cx="1447560" cy="914400"/>
          </a:xfrm>
          <a:prstGeom prst="rect">
            <a:avLst/>
          </a:prstGeom>
          <a:solidFill>
            <a:srgbClr val="ff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487692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48120" y="2971800"/>
                <a:ext cx="108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 flipV="1">
            <a:off x="2133720" y="5486040"/>
            <a:ext cx="137160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91320"/>
            <a:ext cx="19810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89C-0F20-4E47-9C34-1A868CE6FF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5FABF-7198-43D7-B5B7-BA59BFDA407C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&amp;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OTS of Numerator &amp; Denomin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5594400"/>
            <a:ext cx="29718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: H(z)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n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267080"/>
            <a:ext cx="13716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: H(z)=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514600"/>
          <a:ext cx="64580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6458040" cy="12319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600200" y="3962520"/>
          <a:ext cx="4441680" cy="11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962520"/>
                    <a:ext cx="4441680" cy="11556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828800" y="5486400"/>
          <a:ext cx="36576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486400"/>
                    <a:ext cx="3657600" cy="522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8D0-D384-46A1-BFBB-8319D98214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8057D-E6BD-4A41-AC96-F9EAD7515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Poles &amp;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UE of H(z) at POLES is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INIT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05320"/>
            <a:ext cx="25146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 at z=0.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086360"/>
            <a:ext cx="23619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 at z= -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43000" y="2563920"/>
                <a:ext cx="4572000" cy="38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0A4-06C3-45FD-B300-A35A935594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D27A0-F44E-472B-B2BD-7C9BEB106CE5}" type="datetime1">
              <a:rPr lang="en-US"/>
              <a:t>07/30/26</a:t>
            </a:fld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991400" cy="397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5280" y="4495680"/>
                <a:ext cx="204300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533520" y="2257560"/>
            <a:ext cx="3733560" cy="1247760"/>
            <a:chOff x="533520" y="2257560"/>
            <a:chExt cx="3733560" cy="1247760"/>
          </a:xfrm>
        </p:grpSpPr>
        <p:sp>
          <p:nvSpPr>
            <p:cNvPr id="205" name=""/>
            <p:cNvSpPr/>
            <p:nvPr/>
          </p:nvSpPr>
          <p:spPr>
            <a:xfrm>
              <a:off x="533520" y="2257560"/>
              <a:ext cx="251460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ZERO at z = -1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8120" y="2425680"/>
              <a:ext cx="1218960" cy="1079640"/>
            </a:xfrm>
            <a:custGeom>
              <a:avLst/>
              <a:gdLst/>
              <a:ahLst/>
              <a:rect l="l" t="t" r="r" b="b"/>
              <a:pathLst>
                <a:path w="768" h="680">
                  <a:moveTo>
                    <a:pt x="0" y="56"/>
                  </a:moveTo>
                  <a:cubicBezTo>
                    <a:pt x="224" y="28"/>
                    <a:pt x="448" y="0"/>
                    <a:pt x="576" y="104"/>
                  </a:cubicBezTo>
                  <a:cubicBezTo>
                    <a:pt x="703" y="207"/>
                    <a:pt x="735" y="443"/>
                    <a:pt x="768" y="68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50000" y="3657600"/>
            <a:ext cx="1936800" cy="1359000"/>
            <a:chOff x="6750000" y="3657600"/>
            <a:chExt cx="1936800" cy="1359000"/>
          </a:xfrm>
        </p:grpSpPr>
        <p:sp>
          <p:nvSpPr>
            <p:cNvPr id="208" name=""/>
            <p:cNvSpPr/>
            <p:nvPr/>
          </p:nvSpPr>
          <p:spPr>
            <a:xfrm>
              <a:off x="7162920" y="4191120"/>
              <a:ext cx="15238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OLE a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z = 0.8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6750000" y="3657600"/>
              <a:ext cx="488880" cy="533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568-04C8-44AD-A051-35A19CB079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FE2F1-6CED-4A35-8B3E-CFF4C3849A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FUNCTION: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(z) has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NOMIN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of I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have H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429000" y="3886200"/>
                <a:ext cx="5715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09680" y="5486400"/>
                <a:ext cx="5791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743200" y="61722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58672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6248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1905120"/>
            <a:ext cx="1676520" cy="380880"/>
          </a:xfrm>
          <a:prstGeom prst="leftArrow">
            <a:avLst>
              <a:gd name="adj1" fmla="val 55833"/>
              <a:gd name="adj2" fmla="val 77213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62920" y="1981080"/>
            <a:ext cx="380880" cy="2210040"/>
          </a:xfrm>
          <a:prstGeom prst="downArrow">
            <a:avLst>
              <a:gd name="adj1" fmla="val 50000"/>
              <a:gd name="adj2" fmla="val 110891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2FB-9230-4C2D-92E8-5DD69AC7D4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D0DFE-1E30-4B07-8478-B943D09857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E on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19320" y="2438280"/>
                <a:ext cx="5715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6896160" cy="2629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629400" y="3505320"/>
            <a:ext cx="1828800" cy="1600200"/>
          </a:xfrm>
          <a:custGeom>
            <a:avLst/>
            <a:gdLst/>
            <a:ahLst/>
            <a:rect l="l" t="t" r="r" b="b"/>
            <a:pathLst>
              <a:path w="1032" h="912">
                <a:moveTo>
                  <a:pt x="0" y="192"/>
                </a:moveTo>
                <a:cubicBezTo>
                  <a:pt x="180" y="96"/>
                  <a:pt x="360" y="0"/>
                  <a:pt x="528" y="48"/>
                </a:cubicBezTo>
                <a:cubicBezTo>
                  <a:pt x="695" y="95"/>
                  <a:pt x="983" y="335"/>
                  <a:pt x="1008" y="480"/>
                </a:cubicBezTo>
                <a:cubicBezTo>
                  <a:pt x="1032" y="624"/>
                  <a:pt x="852" y="768"/>
                  <a:pt x="672" y="91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2F7-4B3D-4DB8-B7EC-B599B250D8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2106F-DC05-4453-888B-F97039198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9480" y="1565280"/>
                <a:ext cx="73152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8600" y="3124080"/>
                <a:ext cx="1905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362320" y="2908440"/>
                <a:ext cx="59436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" y="4383000"/>
                <a:ext cx="518148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38680" y="4419720"/>
                <a:ext cx="2770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4360" y="5692680"/>
                <a:ext cx="77389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2A0-BD5A-4CF5-8813-C89C2F59A6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B6E11-E920-425E-B1CB-A0B0E5A223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EA2-7C75-491D-B076-0AEF9A65CD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7169B-7AF7-4843-96C9-00522F8AC099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7086600" cy="520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638680" y="1101600"/>
                <a:ext cx="32767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B5E-4DE2-459C-A6B6-18BE89AB32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E1CFD-E3C7-4B01-B5E0-196F3657F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 CIRC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PING BETWE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638680" y="251460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2403360"/>
            <a:ext cx="4419720" cy="399744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371240" y="4186080"/>
            <a:ext cx="7544160" cy="1909800"/>
            <a:chOff x="1371240" y="4186080"/>
            <a:chExt cx="7544160" cy="19098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724280" y="4186080"/>
                  <a:ext cx="4191120" cy="19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mr>
                        <m:mr>
                          <m:e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-</m:t>
                            </m:r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p</m:t>
                            </m:r>
                          </m:e>
                        </m:mr>
                        <m:m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j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p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 flipH="1" flipV="1">
              <a:off x="3962520" y="4343040"/>
              <a:ext cx="91440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1371240" y="4343400"/>
              <a:ext cx="3429000" cy="83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2666520" y="5638320"/>
              <a:ext cx="213372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0360" y="1600200"/>
                <a:ext cx="1741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and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4F9-6351-4800-923F-90841D375C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2E0C2-FF41-476C-BCDB-BB0B531F0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D 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585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6520" y="230040"/>
            <a:ext cx="5481360" cy="9471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-D VIEWPOINT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E H(z) EVERYWHER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72680" y="5105520"/>
            <a:ext cx="2651400" cy="1538640"/>
            <a:chOff x="472680" y="5105520"/>
            <a:chExt cx="2651400" cy="1538640"/>
          </a:xfrm>
        </p:grpSpPr>
        <p:sp>
          <p:nvSpPr>
            <p:cNvPr id="248" name=""/>
            <p:cNvSpPr/>
            <p:nvPr/>
          </p:nvSpPr>
          <p:spPr>
            <a:xfrm flipV="1">
              <a:off x="1828800" y="5105520"/>
              <a:ext cx="1295280" cy="1218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680" y="6245280"/>
              <a:ext cx="17931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UNIT CIRCL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949440" y="1757520"/>
            <a:ext cx="155088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ERE i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POLE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300-7199-4C7E-8C16-9299AA7E01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CEF25-2284-4728-B3AD-0859D995E9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VIE for H(z) in 3-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ES to H(z) to Frequency Re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POLES SHOW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82932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468-128E-49B0-AB42-2E73B22105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B4FB6-A16F-4276-BF05-0B8E3B0E368F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from H(z)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alking around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438280" y="2363760"/>
            <a:ext cx="4686480" cy="44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668-A49E-49C1-A797-86BCC8A06A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5CEBD-835A-4AF7-A713-418CF68541C5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67760" cy="5386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5840" y="4267080"/>
            <a:ext cx="1846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 MOV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7400" y="5867280"/>
            <a:ext cx="6624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51680" y="175248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895480"/>
            <a:ext cx="2133720" cy="137160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924680" y="4521240"/>
                <a:ext cx="1067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8F8-D85A-472C-9200-B2E3837385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4296B-9AEE-4870-884D-1E7E12498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eZ Demo: Pole-Zero Plac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56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B39-0004-443E-ABB7-7F5383FEA39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03096-9B0F-48A4-9A1B-46E20376766A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 =&gt; y[n] is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MAGNITUDE &amp; PHASE from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477120" y="3048120"/>
            <a:ext cx="838080" cy="25146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90560" y="3244680"/>
                <a:ext cx="6496200" cy="30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EF6-BA85-464F-BB64-CDEB849252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B9DBD-E3FC-4A69-8652-F3802C90E85C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438280" y="4973760"/>
                <a:ext cx="44593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0C1-C4B2-43D5-9EE9-2B515F95F6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969C6-FA0C-4A30-9D2F-6DE97CBCF8CE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91520" cy="51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791320" y="1600200"/>
          <a:ext cx="3200400" cy="85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600200"/>
                    <a:ext cx="3200400" cy="851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248520" y="3733920"/>
            <a:ext cx="228600" cy="457200"/>
          </a:xfrm>
          <a:prstGeom prst="upArrow">
            <a:avLst>
              <a:gd name="adj1" fmla="val 51037"/>
              <a:gd name="adj2" fmla="val 4583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3733920"/>
            <a:ext cx="228600" cy="457200"/>
          </a:xfrm>
          <a:prstGeom prst="upArrow">
            <a:avLst>
              <a:gd name="adj1" fmla="val 51037"/>
              <a:gd name="adj2" fmla="val 4583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6160" y="3784680"/>
            <a:ext cx="16912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ro at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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1676520"/>
            <a:ext cx="137160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200400"/>
            <a:ext cx="228600" cy="533520"/>
          </a:xfrm>
          <a:prstGeom prst="upArrow">
            <a:avLst>
              <a:gd name="adj1" fmla="val 51037"/>
              <a:gd name="adj2" fmla="val 5348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952880" y="4190400"/>
            <a:ext cx="228600" cy="1523880"/>
          </a:xfrm>
          <a:prstGeom prst="upArrow">
            <a:avLst>
              <a:gd name="adj1" fmla="val 51037"/>
              <a:gd name="adj2" fmla="val 15276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114800" y="3733920"/>
          <a:ext cx="167652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3733920"/>
                    <a:ext cx="1676520" cy="420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23880" y="1447920"/>
                <a:ext cx="16891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is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163-69FA-478F-801D-89BA322C58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559B8-51E8-4AFC-AA6B-822F848E141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Sects. 8-4 8-5 &amp; 8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-ZERO PLO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132-ACBA-4A24-9F2E-A12FBD99FF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4A1F8-06FF-4BAC-A553-E23C23FA0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Eval Freq. Resp.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output, y[n], 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aluate a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91320" y="3114720"/>
          <a:ext cx="31240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114720"/>
                    <a:ext cx="3124080" cy="466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438280" y="1752480"/>
                <a:ext cx="3135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92" name=""/>
          <p:cNvGraphicFramePr/>
          <p:nvPr/>
        </p:nvGraphicFramePr>
        <p:xfrm>
          <a:off x="3505320" y="3733920"/>
          <a:ext cx="156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733920"/>
                    <a:ext cx="1562040" cy="466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57200" y="5943600"/>
          <a:ext cx="815328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943600"/>
                    <a:ext cx="8153280" cy="68112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14400" y="4516560"/>
                <a:ext cx="6858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π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3C9-D6FD-4EF8-B8A2-D548BD37DA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645AB-11BE-44C2-9712-FDB511C62B16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1160" y="40384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604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747960" y="4213080"/>
                <a:ext cx="118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584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79720" y="2917800"/>
                <a:ext cx="1320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0680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2917800"/>
                <a:ext cx="136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808440" y="5356080"/>
                <a:ext cx="4192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 flipV="1">
            <a:off x="2743200" y="4876560"/>
            <a:ext cx="5335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2240" y="5105520"/>
            <a:ext cx="22258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682-EEC6-4669-8C10-04D8A52680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35418-D0C7-4CA9-B083-768EAA2DE568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UPERPOS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80880" y="1981080"/>
                <a:ext cx="7396200" cy="378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162920" y="4191120"/>
                <a:ext cx="1295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267680" y="5334120"/>
                <a:ext cx="1724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 flipV="1">
            <a:off x="5791320" y="4495680"/>
            <a:ext cx="1295280" cy="152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7120" y="5410080"/>
            <a:ext cx="761760" cy="152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58E-2277-45A1-85E1-D97D9B8D08F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88935-95F8-4F61-91B2-E60B09CE20A7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BANK in LAB (BPFs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486400" cy="5181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472080" y="1828800"/>
            <a:ext cx="2276280" cy="13136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L is sam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/L controls BW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508800" y="4191120"/>
            <a:ext cx="2077920" cy="161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NDWIDTH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P3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tch hea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nge 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146-DA2D-49ED-8A28-C0355F0634E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E4FE5-ECB1-428C-A60B-B61A6909B88E}" type="datetime1">
              <a:rPr lang="en-US"/>
              <a:t>07/30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P-3 AUDIO COD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0" t="9695" r="0" b="0"/>
          <a:stretch/>
        </p:blipFill>
        <p:spPr>
          <a:xfrm>
            <a:off x="838080" y="16765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600200" y="1523880"/>
            <a:ext cx="1905120" cy="167652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425-A3B7-4B65-82F9-FAA265C017C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A6BEB-01CF-4EDB-A59E-16A8603CFA19}" type="datetime1">
              <a:rPr lang="en-US"/>
              <a:t>07/30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from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with 2 FIR te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4029120"/>
          <a:ext cx="753408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29120"/>
                    <a:ext cx="7534080" cy="8478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990720" y="2286000"/>
          <a:ext cx="685800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86000"/>
                    <a:ext cx="6858000" cy="5983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609480" y="5257800"/>
          <a:ext cx="7413840" cy="13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257800"/>
                    <a:ext cx="7413840" cy="1316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F96-06C4-4825-B1E2-2F47C7A34C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C1CAF-3995-43EA-A84C-C1C7B579CEBF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RPRET RO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UE of H(z) at POLES is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_x0008_FINIT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391160" cy="38908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95880" y="5638680"/>
            <a:ext cx="10670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4495680"/>
            <a:ext cx="1143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BEF-825C-45FC-8832-8FDD27D83B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B6FF7-A93E-4E48-B14B-A65DB11735FD}" type="datetime1">
              <a:rPr lang="en-US"/>
              <a:t>07/30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HASE from 3-D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9BD-F01A-45BF-B795-ABBB350111F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DF175-91BC-4910-8F24-F33416488B5E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1676520"/>
          <a:ext cx="73915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7391520" cy="1157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57200" y="2922480"/>
          <a:ext cx="67183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922480"/>
                    <a:ext cx="6718320" cy="14209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15800" y="5791320"/>
          <a:ext cx="752976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800" y="5791320"/>
                    <a:ext cx="7529760" cy="91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520" y="4419720"/>
          <a:ext cx="7988040" cy="116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19720"/>
                    <a:ext cx="7988040" cy="11602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468-4F8E-40F4-9AC6-B312C31AD4A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EBC00-647D-4C6D-B300-C914A8E1CEC3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458200" cy="54403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094400" y="1874880"/>
            <a:ext cx="24652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 H(z) to g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q.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1638360"/>
            <a:ext cx="3657600" cy="3009960"/>
          </a:xfrm>
          <a:custGeom>
            <a:avLst/>
            <a:gdLst/>
            <a:ahLst/>
            <a:rect l="l" t="t" r="r" b="b"/>
            <a:pathLst>
              <a:path w="2304" h="1896">
                <a:moveTo>
                  <a:pt x="0" y="1896"/>
                </a:moveTo>
                <a:cubicBezTo>
                  <a:pt x="64" y="1735"/>
                  <a:pt x="128" y="1575"/>
                  <a:pt x="240" y="1320"/>
                </a:cubicBezTo>
                <a:cubicBezTo>
                  <a:pt x="351" y="1064"/>
                  <a:pt x="536" y="575"/>
                  <a:pt x="672" y="360"/>
                </a:cubicBezTo>
                <a:cubicBezTo>
                  <a:pt x="807" y="144"/>
                  <a:pt x="928" y="47"/>
                  <a:pt x="1056" y="24"/>
                </a:cubicBezTo>
                <a:cubicBezTo>
                  <a:pt x="1183" y="0"/>
                  <a:pt x="1272" y="56"/>
                  <a:pt x="1440" y="216"/>
                </a:cubicBezTo>
                <a:cubicBezTo>
                  <a:pt x="1607" y="375"/>
                  <a:pt x="1920" y="712"/>
                  <a:pt x="2064" y="984"/>
                </a:cubicBezTo>
                <a:cubicBezTo>
                  <a:pt x="2208" y="1256"/>
                  <a:pt x="2256" y="1552"/>
                  <a:pt x="2304" y="1848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1447920"/>
            <a:ext cx="38124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629400" y="266688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6D5-1232-4E87-8B4B-2CBA68A5A72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9995A-1445-4A6E-95A1-D882D7794DBE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FUNCTION: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(z) has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OL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ZERO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of I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 H(z) fir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8120" y="3732120"/>
                <a:ext cx="60847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8840" y="5411880"/>
                <a:ext cx="6093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743200" y="61722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8672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6248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05120"/>
            <a:ext cx="1600200" cy="380880"/>
          </a:xfrm>
          <a:prstGeom prst="leftArrow">
            <a:avLst>
              <a:gd name="adj1" fmla="val 55833"/>
              <a:gd name="adj2" fmla="val 73698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1981080"/>
            <a:ext cx="380880" cy="2210040"/>
          </a:xfrm>
          <a:prstGeom prst="downArrow">
            <a:avLst>
              <a:gd name="adj1" fmla="val 50000"/>
              <a:gd name="adj2" fmla="val 110891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662-93DD-4830-A587-2F9EA7D3CC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D4941-6FEE-4F7B-9750-ACE7593562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731960"/>
          <a:ext cx="73915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31960"/>
                    <a:ext cx="7391520" cy="10447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362320" y="3056040"/>
          <a:ext cx="59436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056040"/>
                    <a:ext cx="5943600" cy="10587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28480" y="5791320"/>
          <a:ext cx="730260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480" y="5791320"/>
                    <a:ext cx="7302600" cy="91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57200" y="4514760"/>
          <a:ext cx="5189400" cy="104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514760"/>
                    <a:ext cx="5189400" cy="10479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697360" y="4495680"/>
          <a:ext cx="2913120" cy="10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97360" y="4495680"/>
                    <a:ext cx="2913120" cy="10479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80880" y="3200400"/>
          <a:ext cx="1752840" cy="71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3200400"/>
                    <a:ext cx="1752840" cy="716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B1F-E65B-43FB-BB74-1C1F66B823C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D99D3-5A4D-4C94-8F4D-A971C742B573}" type="datetime1">
              <a:rPr lang="en-US"/>
              <a:t>07/30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rom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6858000" cy="509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5" name=""/>
          <p:cNvGraphicFramePr/>
          <p:nvPr/>
        </p:nvGraphicFramePr>
        <p:xfrm>
          <a:off x="6515280" y="1811160"/>
          <a:ext cx="2535120" cy="12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5280" y="1811160"/>
                    <a:ext cx="2535120" cy="12924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249-F44E-4D48-B053-BC7A062F1CA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A1452-9429-4127-8022-FC1884328293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255600" y="4479840"/>
            <a:ext cx="2230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5105520"/>
          <a:ext cx="578952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05520"/>
                    <a:ext cx="57895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6450840" y="4419720"/>
            <a:ext cx="2347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147840" y="3587760"/>
          <a:ext cx="24908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7840" y="3587760"/>
                    <a:ext cx="2490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2514600" y="4800600"/>
            <a:ext cx="396252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386" name="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390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6320" y="2684520"/>
                <a:ext cx="34290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47160" y="1752480"/>
            <a:ext cx="2090160" cy="7038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e H(z) to g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. Respon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858000" y="28195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C3B-4E08-4768-A2E2-56C20E8AF48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387B7-1F7A-4279-BD4B-0B6FB3307C8A}" type="datetime1">
              <a:rPr lang="en-US"/>
              <a:t>07/30/26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438280" y="4973760"/>
                <a:ext cx="44593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EBF-73F1-406F-9E0F-3A582A65DF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AEDF5-3168-42E9-AB5D-F30E60BEA688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Invert 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the DELAY PROPER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38080" y="4857840"/>
          <a:ext cx="78012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857840"/>
                    <a:ext cx="7801200" cy="70488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371600" y="2438280"/>
          <a:ext cx="5943600" cy="8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38280"/>
                    <a:ext cx="5943600" cy="8845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82A-A4FE-4CB5-A428-25C9678F30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FE4D5-FAA4-4D28-A8A7-96777E4564FB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01" name="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05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715000" y="4419720"/>
            <a:ext cx="3276720" cy="2415960"/>
            <a:chOff x="5715000" y="4419720"/>
            <a:chExt cx="3276720" cy="2415960"/>
          </a:xfrm>
        </p:grpSpPr>
        <p:sp>
          <p:nvSpPr>
            <p:cNvPr id="108" name="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5715000" y="4910040"/>
                  <a:ext cx="3276720" cy="19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ℓ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ℓ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ℓ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3360" y="4479840"/>
            <a:ext cx="4465800" cy="1489320"/>
            <a:chOff x="63360" y="4479840"/>
            <a:chExt cx="4465800" cy="1489320"/>
          </a:xfrm>
        </p:grpSpPr>
        <p:sp>
          <p:nvSpPr>
            <p:cNvPr id="111" name="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3360" y="5029200"/>
                  <a:ext cx="4465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ℓ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ℓ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ℓ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"/>
          <p:cNvGrpSpPr/>
          <p:nvPr/>
        </p:nvGrpSpPr>
        <p:grpSpPr>
          <a:xfrm>
            <a:off x="2514600" y="3724200"/>
            <a:ext cx="3962520" cy="1076400"/>
            <a:chOff x="2514600" y="3724200"/>
            <a:chExt cx="3962520" cy="1076400"/>
          </a:xfrm>
        </p:grpSpPr>
        <p:sp>
          <p:nvSpPr>
            <p:cNvPr id="114" name="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352680" y="3724200"/>
                  <a:ext cx="214812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ℓ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"/>
          <p:cNvGrpSpPr/>
          <p:nvPr/>
        </p:nvGrpSpPr>
        <p:grpSpPr>
          <a:xfrm>
            <a:off x="168840" y="1752480"/>
            <a:ext cx="8746560" cy="2743200"/>
            <a:chOff x="168840" y="1752480"/>
            <a:chExt cx="8746560" cy="2743200"/>
          </a:xfrm>
        </p:grpSpPr>
        <p:sp>
          <p:nvSpPr>
            <p:cNvPr id="117" name=""/>
            <p:cNvSpPr/>
            <p:nvPr/>
          </p:nvSpPr>
          <p:spPr>
            <a:xfrm>
              <a:off x="168840" y="2286000"/>
              <a:ext cx="24652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Use H(z) to ge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eq. 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00200" y="1752480"/>
              <a:ext cx="5715000" cy="2743200"/>
            </a:xfrm>
            <a:custGeom>
              <a:avLst/>
              <a:gdLst/>
              <a:ahLst/>
              <a:rect l="l" t="t" r="r" b="b"/>
              <a:pathLst>
                <a:path w="2304" h="1896">
                  <a:moveTo>
                    <a:pt x="0" y="1896"/>
                  </a:moveTo>
                  <a:cubicBezTo>
                    <a:pt x="64" y="1735"/>
                    <a:pt x="128" y="1575"/>
                    <a:pt x="240" y="1320"/>
                  </a:cubicBezTo>
                  <a:cubicBezTo>
                    <a:pt x="351" y="1064"/>
                    <a:pt x="536" y="575"/>
                    <a:pt x="672" y="360"/>
                  </a:cubicBezTo>
                  <a:cubicBezTo>
                    <a:pt x="807" y="144"/>
                    <a:pt x="928" y="47"/>
                    <a:pt x="1056" y="24"/>
                  </a:cubicBezTo>
                  <a:cubicBezTo>
                    <a:pt x="1183" y="0"/>
                    <a:pt x="1272" y="56"/>
                    <a:pt x="1440" y="216"/>
                  </a:cubicBezTo>
                  <a:cubicBezTo>
                    <a:pt x="1607" y="375"/>
                    <a:pt x="1920" y="712"/>
                    <a:pt x="2064" y="984"/>
                  </a:cubicBezTo>
                  <a:cubicBezTo>
                    <a:pt x="2208" y="1256"/>
                    <a:pt x="2256" y="1552"/>
                    <a:pt x="2304" y="1848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7162920" y="3048120"/>
                  <a:ext cx="1752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4114800" y="1752480"/>
              <a:ext cx="380880" cy="38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FD6-69C7-481F-AD4C-6D9037A6F6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5837B-E8BE-44C9-BA51-607AAAC98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19400" y="2514600"/>
          <a:ext cx="5476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5476680" cy="6969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781280" y="4678200"/>
          <a:ext cx="33242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4678200"/>
                    <a:ext cx="3324240" cy="132084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62120" y="3429000"/>
                <a:ext cx="41907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94C-7DD7-4D42-858F-F0C62549FB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4EF9E-8408-47BF-A8D2-1E881F15378E}" type="datetime1">
              <a:rPr lang="en-US"/>
              <a:t>07/30/2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ypical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79400" y="1859040"/>
                <a:ext cx="7581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9360" y="3048120"/>
            <a:ext cx="8864640" cy="309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38480" y="2590920"/>
            <a:ext cx="3886200" cy="1904760"/>
          </a:xfrm>
          <a:custGeom>
            <a:avLst/>
            <a:gdLst/>
            <a:ahLst/>
            <a:rect l="l" t="t" r="r" b="b"/>
            <a:pathLst>
              <a:path w="1655" h="1056">
                <a:moveTo>
                  <a:pt x="1008" y="0"/>
                </a:moveTo>
                <a:cubicBezTo>
                  <a:pt x="1331" y="128"/>
                  <a:pt x="1655" y="256"/>
                  <a:pt x="1488" y="432"/>
                </a:cubicBezTo>
                <a:cubicBezTo>
                  <a:pt x="1320" y="607"/>
                  <a:pt x="660" y="831"/>
                  <a:pt x="0" y="10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1A1-AFA9-4B99-9E51-EF7E2F8125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AEE9D-632B-46BD-A722-95FF7AD1F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st-Order Transform Pa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17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OMETRIC SEQUENC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725480"/>
          <a:ext cx="792504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25480"/>
                    <a:ext cx="7925040" cy="1322640"/>
                  </a:xfrm>
                  <a:prstGeom prst="rect">
                    <a:avLst/>
                  </a:prstGeom>
                  <a:ln w="7632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3930480"/>
                <a:ext cx="5637240" cy="24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DAD-7C86-433E-B4BC-C0CA695F07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734B8-EADF-4800-9C44-AA9B4E1C22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 of X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AY in TIME&lt;--&gt;Multiply X(z) by z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8280" y="2494080"/>
          <a:ext cx="362916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94080"/>
                    <a:ext cx="3629160" cy="1315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82680" y="3963960"/>
          <a:ext cx="6566040" cy="23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3963960"/>
                    <a:ext cx="6566040" cy="23605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656-216C-41C8-A7A3-DB0FFFCD74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1422E-676A-42D6-AF53-7641352932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2000-11-25T18:34:26Z</cp:lastPrinted>
  <dcterms:modified xsi:type="dcterms:W3CDTF">2006-03-31T19:32:42Z</dcterms:modified>
  <cp:revision>364</cp:revision>
  <dc:subject/>
  <dc:title>SPFirst Lecture #1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