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83A2-A594-4627-B4F1-796F2DC1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2E9-CC4F-4D01-B984-E0CED292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AFD-41C6-4326-BC72-11BD36C6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EAC-80D8-462C-B27F-15F6E98D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73F3-A75E-4231-A529-A82B347A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337E-B027-4326-AACA-ED573AE9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9AFB-F77B-495F-9B69-E1391FEF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E10E-D6EF-4257-8726-19FE05CB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D793-8859-4680-B11B-606B48D4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CA46-BB14-473D-88F2-DC3DF91D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0984-8A4F-4E5B-8AA3-3F4200D3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617F-45C4-45AD-B53A-4FC62E94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45E3-E378-4C93-91AE-D098CE41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7D41-958D-4D26-9E35-46045CA0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4788-A5ED-42C7-A24D-3DA925D1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FC3F-C1EE-4144-B877-F936D5BF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2C89-CDC9-4018-A722-8A3C89BB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6F97-518E-4D41-AB72-ED0D21B1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2FE-A759-4170-9025-680905AB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5F3-1945-4EDD-A110-1D2A97F3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C150-C586-4EA6-81EC-DEB22A08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3828-50FD-4767-A5F3-87052988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601-8DF4-496F-934A-04B5CAA9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790-4D83-4947-9E7C-AFC9B847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8A2E-F441-4E72-AF3A-CE5077D27D3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47CC-5DE6-4543-A1AA-90ACDC01312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:\paint.GIF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4C23-27B3-42D3-8B89-0A2E30355CF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0BD4-AE89-428C-BC1F-025C84A3907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711360" y="6229440"/>
            <a:ext cx="1930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E8E8-A49A-4D49-9B0C-7D44635A2E5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60384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5F8E-E133-4DF9-824A-C95ED70C4E5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828440" y="3428640"/>
            <a:ext cx="670572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5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Zeros of H(z) and th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equency Domai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1668-934C-46BA-9973-4A5EFBC6E5A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0178-88E8-464A-B5CE-52F4708C1FF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4"/>
              <p:cNvSpPr txBox="1"/>
              <p:nvPr/>
            </p:nvSpPr>
            <p:spPr>
              <a:xfrm>
                <a:off x="65160" y="2286000"/>
                <a:ext cx="4975200" cy="38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omain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 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 ?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ame Form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5197680" y="5791320"/>
            <a:ext cx="33613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AME COEFFICIE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86" name="Group 15"/>
          <p:cNvGrpSpPr/>
          <p:nvPr/>
        </p:nvGrpSpPr>
        <p:grpSpPr>
          <a:xfrm>
            <a:off x="3809880" y="1628640"/>
            <a:ext cx="4738680" cy="3476880"/>
            <a:chOff x="3809880" y="1628640"/>
            <a:chExt cx="4738680" cy="3476880"/>
          </a:xfrm>
        </p:grpSpPr>
        <mc:AlternateContent>
          <mc:Choice xmlns:a14="http://schemas.microsoft.com/office/drawing/2010/main" Requires="a14">
            <p:sp>
              <p:nvSpPr>
                <p:cNvPr id="187" name="Object 5"/>
                <p:cNvSpPr txBox="1"/>
                <p:nvPr/>
              </p:nvSpPr>
              <p:spPr>
                <a:xfrm>
                  <a:off x="5397480" y="1628640"/>
                  <a:ext cx="3151080" cy="140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Freeform 12"/>
            <p:cNvSpPr/>
            <p:nvPr/>
          </p:nvSpPr>
          <p:spPr>
            <a:xfrm>
              <a:off x="3809880" y="2550960"/>
              <a:ext cx="1752840" cy="2554560"/>
            </a:xfrm>
            <a:custGeom>
              <a:avLst/>
              <a:gdLst/>
              <a:ahLst/>
              <a:rect l="l" t="t" r="r" b="b"/>
              <a:pathLst>
                <a:path w="1104" h="1609">
                  <a:moveTo>
                    <a:pt x="1104" y="121"/>
                  </a:moveTo>
                  <a:cubicBezTo>
                    <a:pt x="1036" y="60"/>
                    <a:pt x="968" y="0"/>
                    <a:pt x="816" y="169"/>
                  </a:cubicBezTo>
                  <a:cubicBezTo>
                    <a:pt x="663" y="337"/>
                    <a:pt x="327" y="889"/>
                    <a:pt x="192" y="1129"/>
                  </a:cubicBezTo>
                  <a:cubicBezTo>
                    <a:pt x="56" y="1368"/>
                    <a:pt x="28" y="1488"/>
                    <a:pt x="0" y="1609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9" name="Object 16"/>
              <p:cNvSpPr txBox="1"/>
              <p:nvPr/>
            </p:nvSpPr>
            <p:spPr>
              <a:xfrm>
                <a:off x="5334120" y="3271680"/>
                <a:ext cx="3565440" cy="229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omain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9C92-E509-411C-B613-C4DB07A2F84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73092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2565-17C9-4745-A145-578FF29C048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NOTHER ANALYSIS TOO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695600"/>
            <a:ext cx="853452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z-Transform POLYNOMIALS are EASY 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OOTS, FACTORS, etc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ZEROS and POLES:  where is H(z) = 0 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z-domain is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(z) is a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MPLE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VALUED function of a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MPLE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VARIABLE z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CCDD-CB03-4EF6-A459-D3DDB7F0CAC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CF2C-5613-49FA-93E4-8352B031965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EROS of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z, where H(z)=0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057"/>
              <p:cNvSpPr txBox="1"/>
              <p:nvPr/>
            </p:nvSpPr>
            <p:spPr>
              <a:xfrm>
                <a:off x="1752480" y="2362320"/>
                <a:ext cx="372600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058"/>
              <p:cNvSpPr txBox="1"/>
              <p:nvPr/>
            </p:nvSpPr>
            <p:spPr>
              <a:xfrm>
                <a:off x="1981080" y="5356080"/>
                <a:ext cx="33530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ero at: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059"/>
              <p:cNvSpPr txBox="1"/>
              <p:nvPr/>
            </p:nvSpPr>
            <p:spPr>
              <a:xfrm>
                <a:off x="2057400" y="3429000"/>
                <a:ext cx="320040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BA87-9709-406B-877E-C828867F82E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4662-89D6-417B-88CA-05963B19D34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EROS of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z, where H(z)=0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esting when z is ON the unit circl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8"/>
              <p:cNvSpPr txBox="1"/>
              <p:nvPr/>
            </p:nvSpPr>
            <p:spPr>
              <a:xfrm>
                <a:off x="457200" y="2971800"/>
                <a:ext cx="7010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9"/>
              <p:cNvSpPr txBox="1"/>
              <p:nvPr/>
            </p:nvSpPr>
            <p:spPr>
              <a:xfrm>
                <a:off x="457200" y="4114800"/>
                <a:ext cx="74739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1"/>
              <p:cNvSpPr txBox="1"/>
              <p:nvPr/>
            </p:nvSpPr>
            <p:spPr>
              <a:xfrm>
                <a:off x="609480" y="5257800"/>
                <a:ext cx="500544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ots: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j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2"/>
              <p:cNvSpPr txBox="1"/>
              <p:nvPr/>
            </p:nvSpPr>
            <p:spPr>
              <a:xfrm>
                <a:off x="6172200" y="5334120"/>
                <a:ext cx="18288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±</m:t>
                            </m:r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CD1A-80BB-4AC7-8C27-BC4565B0CDC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28E4-E9B6-4D54-8624-8C0A74DF8A3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LOT ZEROS in z-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16" name="Picture 3" descr="&#13;zero-plot.gif                                                  0000968B_x0005_JKL-2                          B0CAADC9:"/>
          <p:cNvPicPr/>
          <p:nvPr/>
        </p:nvPicPr>
        <p:blipFill>
          <a:blip r:embed="rId1"/>
          <a:stretch/>
        </p:blipFill>
        <p:spPr>
          <a:xfrm>
            <a:off x="1403280" y="1541520"/>
            <a:ext cx="6292800" cy="531648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12"/>
          <p:cNvGrpSpPr/>
          <p:nvPr/>
        </p:nvGrpSpPr>
        <p:grpSpPr>
          <a:xfrm>
            <a:off x="6019920" y="2209320"/>
            <a:ext cx="3099960" cy="3200760"/>
            <a:chOff x="6019920" y="2209320"/>
            <a:chExt cx="3099960" cy="3200760"/>
          </a:xfrm>
        </p:grpSpPr>
        <p:sp>
          <p:nvSpPr>
            <p:cNvPr id="218" name="Line 4"/>
            <p:cNvSpPr/>
            <p:nvPr/>
          </p:nvSpPr>
          <p:spPr>
            <a:xfrm flipH="1" flipV="1">
              <a:off x="6095520" y="2209320"/>
              <a:ext cx="1676520" cy="7621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 flipH="1">
              <a:off x="6019920" y="3429000"/>
              <a:ext cx="2286000" cy="19810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H="1">
              <a:off x="6934320" y="3200400"/>
              <a:ext cx="761760" cy="533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7635960" y="2895480"/>
              <a:ext cx="148392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3 ZERO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H(z) = 0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22" name="Group 13"/>
          <p:cNvGrpSpPr/>
          <p:nvPr/>
        </p:nvGrpSpPr>
        <p:grpSpPr>
          <a:xfrm>
            <a:off x="473400" y="3962160"/>
            <a:ext cx="4403520" cy="1679040"/>
            <a:chOff x="473400" y="3962160"/>
            <a:chExt cx="4403520" cy="1679040"/>
          </a:xfrm>
        </p:grpSpPr>
        <p:sp>
          <p:nvSpPr>
            <p:cNvPr id="223" name="Line 6"/>
            <p:cNvSpPr/>
            <p:nvPr/>
          </p:nvSpPr>
          <p:spPr>
            <a:xfrm flipV="1">
              <a:off x="1600200" y="3962160"/>
              <a:ext cx="3276720" cy="14475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4" name="Text Box 9"/>
            <p:cNvSpPr/>
            <p:nvPr/>
          </p:nvSpPr>
          <p:spPr>
            <a:xfrm>
              <a:off x="473400" y="5181480"/>
              <a:ext cx="145008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3 POLE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25" name="Group 14"/>
          <p:cNvGrpSpPr/>
          <p:nvPr/>
        </p:nvGrpSpPr>
        <p:grpSpPr>
          <a:xfrm>
            <a:off x="322560" y="1905120"/>
            <a:ext cx="3258720" cy="838080"/>
            <a:chOff x="322560" y="1905120"/>
            <a:chExt cx="3258720" cy="838080"/>
          </a:xfrm>
        </p:grpSpPr>
        <p:sp>
          <p:nvSpPr>
            <p:cNvPr id="226" name="Line 10"/>
            <p:cNvSpPr/>
            <p:nvPr/>
          </p:nvSpPr>
          <p:spPr>
            <a:xfrm>
              <a:off x="1371600" y="2362320"/>
              <a:ext cx="2209680" cy="380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322560" y="1905120"/>
              <a:ext cx="129636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UNIT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CIRCL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39DD-D81A-41DB-A754-3D7BE747205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76A5-E969-42CC-B823-6845788ACA4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LES of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z, where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 very interesting for the FIR ca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2297"/>
              <p:cNvSpPr txBox="1"/>
              <p:nvPr/>
            </p:nvSpPr>
            <p:spPr>
              <a:xfrm>
                <a:off x="533520" y="2895480"/>
                <a:ext cx="701028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2298"/>
              <p:cNvSpPr txBox="1"/>
              <p:nvPr/>
            </p:nvSpPr>
            <p:spPr>
              <a:xfrm>
                <a:off x="3505320" y="1747800"/>
                <a:ext cx="21034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2299"/>
              <p:cNvSpPr txBox="1"/>
              <p:nvPr/>
            </p:nvSpPr>
            <p:spPr>
              <a:xfrm>
                <a:off x="1143000" y="3963960"/>
                <a:ext cx="59436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2300"/>
              <p:cNvSpPr txBox="1"/>
              <p:nvPr/>
            </p:nvSpPr>
            <p:spPr>
              <a:xfrm>
                <a:off x="1447920" y="5643720"/>
                <a:ext cx="49561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ree Poles at: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8465-3BB8-4BE3-9C09-583A50D334B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1901-4E1E-453F-8F8F-773CAD4112B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. RESPONSE from ZERO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2895480"/>
            <a:ext cx="8178840" cy="12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e H(z) to FREQUENCY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VALUATE H(z) on the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UNIT CIRCL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GLE is same as FREQUENC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1371600" y="1652760"/>
                <a:ext cx="560088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8"/>
              <p:cNvSpPr txBox="1"/>
              <p:nvPr/>
            </p:nvSpPr>
            <p:spPr>
              <a:xfrm>
                <a:off x="762120" y="4268880"/>
                <a:ext cx="7619760" cy="18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s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varies</m:t>
                        </m:r>
                        <m:r>
                          <m:t xml:space="preserve">)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defines a CIRCLE, radius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1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31D5-4ECE-458B-9B42-0FECF598B3E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Footer Placeholder 2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D3D1-D7E0-4804-BDCF-3A2573A21A8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47" name="Picture 2" descr="_x0014_unit-circle-in-z.gif                                           0000968B_x0005_JKL-2                          B0CAADC9:"/>
          <p:cNvPicPr/>
          <p:nvPr/>
        </p:nvPicPr>
        <p:blipFill>
          <a:blip r:embed="rId1"/>
          <a:stretch/>
        </p:blipFill>
        <p:spPr>
          <a:xfrm>
            <a:off x="762120" y="1474920"/>
            <a:ext cx="5867280" cy="53067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5317560" y="3430440"/>
            <a:ext cx="35809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GLE is FREQUENC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8"/>
              <p:cNvSpPr txBox="1"/>
              <p:nvPr/>
            </p:nvSpPr>
            <p:spPr>
              <a:xfrm>
                <a:off x="984240" y="128520"/>
                <a:ext cx="550080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A8BD-940E-48DE-8CAE-87C830CD06D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DD30-C748-47D2-82EB-77A976E23A3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 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54" name="Picture 1027" descr="_x000b_FIR_4pt.gif                                                    0000968B_x0005_JKL-2                          B0CAADC9: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5197320"/>
          </a:xfrm>
          <a:prstGeom prst="rect">
            <a:avLst/>
          </a:prstGeom>
          <a:ln w="0">
            <a:noFill/>
          </a:ln>
        </p:spPr>
      </p:pic>
      <p:sp>
        <p:nvSpPr>
          <p:cNvPr id="255" name="Line 1028"/>
          <p:cNvSpPr/>
          <p:nvPr/>
        </p:nvSpPr>
        <p:spPr>
          <a:xfrm>
            <a:off x="3581280" y="3048120"/>
            <a:ext cx="0" cy="6094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Line 1029"/>
          <p:cNvSpPr/>
          <p:nvPr/>
        </p:nvSpPr>
        <p:spPr>
          <a:xfrm>
            <a:off x="4724280" y="3048120"/>
            <a:ext cx="0" cy="6094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Line 1030"/>
          <p:cNvSpPr/>
          <p:nvPr/>
        </p:nvSpPr>
        <p:spPr>
          <a:xfrm>
            <a:off x="5791320" y="3048120"/>
            <a:ext cx="0" cy="6094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033"/>
              <p:cNvSpPr txBox="1"/>
              <p:nvPr/>
            </p:nvSpPr>
            <p:spPr>
              <a:xfrm>
                <a:off x="3111480" y="2576520"/>
                <a:ext cx="32274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eros of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D854-45DD-4917-ABA8-BBBF9A732C8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3E54-C8E3-4059-A9FA-2890749674B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62" name="Picture 11" descr="D:\2025-f00\fir3.png"/>
          <p:cNvPicPr/>
          <p:nvPr/>
        </p:nvPicPr>
        <p:blipFill>
          <a:blip r:embed="rId1"/>
          <a:stretch/>
        </p:blipFill>
        <p:spPr>
          <a:xfrm>
            <a:off x="762120" y="1628640"/>
            <a:ext cx="7619760" cy="50770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 DOMAINS MOVIE: F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5720" y="1708200"/>
            <a:ext cx="18752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EROS MOV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5" name="Freeform 10"/>
          <p:cNvSpPr/>
          <p:nvPr/>
        </p:nvSpPr>
        <p:spPr>
          <a:xfrm flipV="1">
            <a:off x="609480" y="2133000"/>
            <a:ext cx="1828800" cy="1904760"/>
          </a:xfrm>
          <a:custGeom>
            <a:avLst/>
            <a:gdLst/>
            <a:ahLst/>
            <a:rect l="l" t="t" r="r" b="b"/>
            <a:pathLst>
              <a:path w="1056" h="2208">
                <a:moveTo>
                  <a:pt x="192" y="2208"/>
                </a:moveTo>
                <a:cubicBezTo>
                  <a:pt x="96" y="2032"/>
                  <a:pt x="0" y="1856"/>
                  <a:pt x="0" y="1584"/>
                </a:cubicBezTo>
                <a:cubicBezTo>
                  <a:pt x="0" y="1312"/>
                  <a:pt x="16" y="840"/>
                  <a:pt x="192" y="576"/>
                </a:cubicBezTo>
                <a:cubicBezTo>
                  <a:pt x="368" y="312"/>
                  <a:pt x="712" y="156"/>
                  <a:pt x="105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12"/>
              <p:cNvSpPr txBox="1"/>
              <p:nvPr/>
            </p:nvSpPr>
            <p:spPr>
              <a:xfrm>
                <a:off x="7912080" y="4599000"/>
                <a:ext cx="10936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3"/>
              <p:cNvSpPr txBox="1"/>
              <p:nvPr/>
            </p:nvSpPr>
            <p:spPr>
              <a:xfrm>
                <a:off x="228600" y="4648320"/>
                <a:ext cx="685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4"/>
              <p:cNvSpPr txBox="1"/>
              <p:nvPr/>
            </p:nvSpPr>
            <p:spPr>
              <a:xfrm>
                <a:off x="7848720" y="1752480"/>
                <a:ext cx="9144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2189-EAE1-4DC8-B74F-481BE7E7106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2562-FF99-4191-8324-347CA7EBE88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89A9-2189-4502-8387-5AA0E8218398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0B0E-38D1-4C1C-A0E5-84DCBDEABCA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9"/>
              <p:cNvSpPr txBox="1"/>
              <p:nvPr/>
            </p:nvSpPr>
            <p:spPr>
              <a:xfrm>
                <a:off x="4800600" y="5715000"/>
                <a:ext cx="4267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NULLING PROPERTY of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en H(z)=0 on the unit circle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nd inputs x[n] that give zero outpu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75" name="Group 26"/>
          <p:cNvGrpSpPr/>
          <p:nvPr/>
        </p:nvGrpSpPr>
        <p:grpSpPr>
          <a:xfrm>
            <a:off x="838080" y="2819520"/>
            <a:ext cx="6096240" cy="2819160"/>
            <a:chOff x="838080" y="2819520"/>
            <a:chExt cx="6096240" cy="2819160"/>
          </a:xfrm>
        </p:grpSpPr>
        <p:sp>
          <p:nvSpPr>
            <p:cNvPr id="276" name="Rectangle 8"/>
            <p:cNvSpPr/>
            <p:nvPr/>
          </p:nvSpPr>
          <p:spPr>
            <a:xfrm>
              <a:off x="2819520" y="4724280"/>
              <a:ext cx="190476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1828800" y="51814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8" name="Line 10"/>
            <p:cNvSpPr/>
            <p:nvPr/>
          </p:nvSpPr>
          <p:spPr>
            <a:xfrm>
              <a:off x="4724280" y="51814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Rectangle 11"/>
            <p:cNvSpPr/>
            <p:nvPr/>
          </p:nvSpPr>
          <p:spPr>
            <a:xfrm>
              <a:off x="4877640" y="469584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Rectangle 12"/>
            <p:cNvSpPr/>
            <p:nvPr/>
          </p:nvSpPr>
          <p:spPr>
            <a:xfrm>
              <a:off x="1753920" y="46958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Object 13"/>
                <p:cNvSpPr txBox="1"/>
                <p:nvPr/>
              </p:nvSpPr>
              <p:spPr>
                <a:xfrm>
                  <a:off x="3146400" y="4854600"/>
                  <a:ext cx="1320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Object 25"/>
                <p:cNvSpPr txBox="1"/>
                <p:nvPr/>
              </p:nvSpPr>
              <p:spPr>
                <a:xfrm>
                  <a:off x="838080" y="2819520"/>
                  <a:ext cx="609624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3" name="Object 27"/>
              <p:cNvSpPr txBox="1"/>
              <p:nvPr/>
            </p:nvSpPr>
            <p:spPr>
              <a:xfrm>
                <a:off x="533520" y="3733920"/>
                <a:ext cx="7710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8"/>
              <p:cNvSpPr txBox="1"/>
              <p:nvPr/>
            </p:nvSpPr>
            <p:spPr>
              <a:xfrm>
                <a:off x="152280" y="5607000"/>
                <a:ext cx="25146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85" name="Group 32"/>
          <p:cNvGrpSpPr/>
          <p:nvPr/>
        </p:nvGrpSpPr>
        <p:grpSpPr>
          <a:xfrm>
            <a:off x="5867280" y="4800600"/>
            <a:ext cx="2760840" cy="1905120"/>
            <a:chOff x="5867280" y="4800600"/>
            <a:chExt cx="2760840" cy="1905120"/>
          </a:xfrm>
        </p:grpSpPr>
        <p:sp>
          <p:nvSpPr>
            <p:cNvPr id="286" name="Oval 20"/>
            <p:cNvSpPr/>
            <p:nvPr/>
          </p:nvSpPr>
          <p:spPr>
            <a:xfrm>
              <a:off x="5867280" y="5486400"/>
              <a:ext cx="1752840" cy="1219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Object 31"/>
                <p:cNvSpPr txBox="1"/>
                <p:nvPr/>
              </p:nvSpPr>
              <p:spPr>
                <a:xfrm>
                  <a:off x="6477120" y="4800600"/>
                  <a:ext cx="215100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j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5D6E-A752-4882-80BE-025A8E5D57C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7DC8-6C2B-434A-B8FD-15F3E19666E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LOT ZEROS in z-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92" name="Picture 3" descr="&#13;zero-plot.gif                                                  0000968B_x0005_JKL-2                          B0CAADC9:"/>
          <p:cNvPicPr/>
          <p:nvPr/>
        </p:nvPicPr>
        <p:blipFill>
          <a:blip r:embed="rId1"/>
          <a:stretch/>
        </p:blipFill>
        <p:spPr>
          <a:xfrm>
            <a:off x="1403280" y="1541520"/>
            <a:ext cx="6292800" cy="531648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4"/>
          <p:cNvGrpSpPr/>
          <p:nvPr/>
        </p:nvGrpSpPr>
        <p:grpSpPr>
          <a:xfrm>
            <a:off x="6019920" y="2209320"/>
            <a:ext cx="3099960" cy="3200760"/>
            <a:chOff x="6019920" y="2209320"/>
            <a:chExt cx="3099960" cy="3200760"/>
          </a:xfrm>
        </p:grpSpPr>
        <p:sp>
          <p:nvSpPr>
            <p:cNvPr id="294" name="Line 5"/>
            <p:cNvSpPr/>
            <p:nvPr/>
          </p:nvSpPr>
          <p:spPr>
            <a:xfrm flipH="1" flipV="1">
              <a:off x="6095520" y="2209320"/>
              <a:ext cx="1676520" cy="7621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5" name="Line 6"/>
            <p:cNvSpPr/>
            <p:nvPr/>
          </p:nvSpPr>
          <p:spPr>
            <a:xfrm flipH="1">
              <a:off x="6019920" y="3429000"/>
              <a:ext cx="2286000" cy="19810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6" name="Line 7"/>
            <p:cNvSpPr/>
            <p:nvPr/>
          </p:nvSpPr>
          <p:spPr>
            <a:xfrm flipH="1">
              <a:off x="6934320" y="3200400"/>
              <a:ext cx="761760" cy="533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7" name="Text Box 8"/>
            <p:cNvSpPr/>
            <p:nvPr/>
          </p:nvSpPr>
          <p:spPr>
            <a:xfrm>
              <a:off x="7635960" y="2895480"/>
              <a:ext cx="148392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3 ZERO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H(z) = 0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98" name="Group 9"/>
          <p:cNvGrpSpPr/>
          <p:nvPr/>
        </p:nvGrpSpPr>
        <p:grpSpPr>
          <a:xfrm>
            <a:off x="473400" y="3962160"/>
            <a:ext cx="4403520" cy="1679040"/>
            <a:chOff x="473400" y="3962160"/>
            <a:chExt cx="4403520" cy="1679040"/>
          </a:xfrm>
        </p:grpSpPr>
        <p:sp>
          <p:nvSpPr>
            <p:cNvPr id="299" name="Line 10"/>
            <p:cNvSpPr/>
            <p:nvPr/>
          </p:nvSpPr>
          <p:spPr>
            <a:xfrm flipV="1">
              <a:off x="1600200" y="3962160"/>
              <a:ext cx="3276720" cy="14475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0" name="Text Box 11"/>
            <p:cNvSpPr/>
            <p:nvPr/>
          </p:nvSpPr>
          <p:spPr>
            <a:xfrm>
              <a:off x="473400" y="5181480"/>
              <a:ext cx="145008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3 POLE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301" name="Group 12"/>
          <p:cNvGrpSpPr/>
          <p:nvPr/>
        </p:nvGrpSpPr>
        <p:grpSpPr>
          <a:xfrm>
            <a:off x="322560" y="1905120"/>
            <a:ext cx="3258720" cy="838080"/>
            <a:chOff x="322560" y="1905120"/>
            <a:chExt cx="3258720" cy="838080"/>
          </a:xfrm>
        </p:grpSpPr>
        <p:sp>
          <p:nvSpPr>
            <p:cNvPr id="302" name="Line 13"/>
            <p:cNvSpPr/>
            <p:nvPr/>
          </p:nvSpPr>
          <p:spPr>
            <a:xfrm>
              <a:off x="1371600" y="2362320"/>
              <a:ext cx="2209680" cy="380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3" name="Text Box 14"/>
            <p:cNvSpPr/>
            <p:nvPr/>
          </p:nvSpPr>
          <p:spPr>
            <a:xfrm>
              <a:off x="322560" y="1905120"/>
              <a:ext cx="129636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UNIT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CIRCL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4EA7-B436-42F2-B10C-941854B58F2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1055-2059-470C-BC95-3F0DA0F0B7D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NULLING PROPERTY of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valuate H(z) at the input “frequency”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8"/>
              <p:cNvSpPr txBox="1"/>
              <p:nvPr/>
            </p:nvSpPr>
            <p:spPr>
              <a:xfrm>
                <a:off x="442800" y="2362320"/>
                <a:ext cx="7710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19"/>
              <p:cNvSpPr txBox="1"/>
              <p:nvPr/>
            </p:nvSpPr>
            <p:spPr>
              <a:xfrm>
                <a:off x="228600" y="3276720"/>
                <a:ext cx="4572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0"/>
              <p:cNvSpPr txBox="1"/>
              <p:nvPr/>
            </p:nvSpPr>
            <p:spPr>
              <a:xfrm>
                <a:off x="228600" y="4038480"/>
                <a:ext cx="88012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21"/>
              <p:cNvSpPr txBox="1"/>
              <p:nvPr/>
            </p:nvSpPr>
            <p:spPr>
              <a:xfrm>
                <a:off x="1486080" y="4802040"/>
                <a:ext cx="68958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2"/>
              <p:cNvSpPr txBox="1"/>
              <p:nvPr/>
            </p:nvSpPr>
            <p:spPr>
              <a:xfrm>
                <a:off x="228600" y="5678640"/>
                <a:ext cx="83059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381E-740B-4535-8701-338B6B4246D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84E7-7120-4F33-B9E4-BF041B6E58F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 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18" name="Picture 3" descr="_x000b_FIR_4pt.gif                                                    0000968B_x0005_JKL-2                          B0CAADC9:"/>
          <p:cNvPicPr/>
          <p:nvPr/>
        </p:nvPicPr>
        <p:blipFill>
          <a:blip r:embed="rId1"/>
          <a:stretch/>
        </p:blipFill>
        <p:spPr>
          <a:xfrm>
            <a:off x="914400" y="1488960"/>
            <a:ext cx="7315200" cy="530856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11"/>
          <p:cNvGrpSpPr/>
          <p:nvPr/>
        </p:nvGrpSpPr>
        <p:grpSpPr>
          <a:xfrm>
            <a:off x="3111480" y="2576520"/>
            <a:ext cx="3227400" cy="1004760"/>
            <a:chOff x="3111480" y="2576520"/>
            <a:chExt cx="3227400" cy="1004760"/>
          </a:xfrm>
        </p:grpSpPr>
        <p:sp>
          <p:nvSpPr>
            <p:cNvPr id="320" name="Line 4"/>
            <p:cNvSpPr/>
            <p:nvPr/>
          </p:nvSpPr>
          <p:spPr>
            <a:xfrm>
              <a:off x="3581280" y="2971800"/>
              <a:ext cx="0" cy="6094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21" name="Line 5"/>
            <p:cNvSpPr/>
            <p:nvPr/>
          </p:nvSpPr>
          <p:spPr>
            <a:xfrm>
              <a:off x="4724280" y="2971800"/>
              <a:ext cx="0" cy="6094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22" name="Line 6"/>
            <p:cNvSpPr/>
            <p:nvPr/>
          </p:nvSpPr>
          <p:spPr>
            <a:xfrm>
              <a:off x="5867280" y="2971800"/>
              <a:ext cx="0" cy="6094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Object 9"/>
                <p:cNvSpPr txBox="1"/>
                <p:nvPr/>
              </p:nvSpPr>
              <p:spPr>
                <a:xfrm>
                  <a:off x="3111480" y="2576520"/>
                  <a:ext cx="322740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Zeros of 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and 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7D6D-D009-4D3E-BADA-F2AE33DF088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C25F-20D4-4833-9D63-C469A556EFA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EQUIVALEN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ply the System Func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3352680" y="403848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0" name="Line 5"/>
          <p:cNvSpPr/>
          <p:nvPr/>
        </p:nvSpPr>
        <p:spPr>
          <a:xfrm>
            <a:off x="2362320" y="44956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5257800" y="44956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5481000" y="401004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2287440" y="40100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9"/>
              <p:cNvSpPr txBox="1"/>
              <p:nvPr/>
            </p:nvSpPr>
            <p:spPr>
              <a:xfrm>
                <a:off x="3679920" y="4167360"/>
                <a:ext cx="13222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Rectangle 10"/>
          <p:cNvSpPr/>
          <p:nvPr/>
        </p:nvSpPr>
        <p:spPr>
          <a:xfrm>
            <a:off x="1752480" y="274320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762120" y="3200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365760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687240" y="27147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14"/>
              <p:cNvSpPr txBox="1"/>
              <p:nvPr/>
            </p:nvSpPr>
            <p:spPr>
              <a:xfrm>
                <a:off x="2011320" y="2849400"/>
                <a:ext cx="14572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Rectangle 15"/>
          <p:cNvSpPr/>
          <p:nvPr/>
        </p:nvSpPr>
        <p:spPr>
          <a:xfrm>
            <a:off x="4648320" y="274320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1" name="Line 16"/>
          <p:cNvSpPr/>
          <p:nvPr/>
        </p:nvSpPr>
        <p:spPr>
          <a:xfrm>
            <a:off x="65530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2" name="Rectangle 17"/>
          <p:cNvSpPr/>
          <p:nvPr/>
        </p:nvSpPr>
        <p:spPr>
          <a:xfrm>
            <a:off x="6852600" y="271476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8"/>
              <p:cNvSpPr txBox="1"/>
              <p:nvPr/>
            </p:nvSpPr>
            <p:spPr>
              <a:xfrm>
                <a:off x="4884840" y="2849400"/>
                <a:ext cx="15033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9"/>
              <p:cNvSpPr txBox="1"/>
              <p:nvPr/>
            </p:nvSpPr>
            <p:spPr>
              <a:xfrm>
                <a:off x="3649680" y="5288040"/>
                <a:ext cx="4510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Line 20"/>
          <p:cNvSpPr/>
          <p:nvPr/>
        </p:nvSpPr>
        <p:spPr>
          <a:xfrm flipV="1">
            <a:off x="2743200" y="4876560"/>
            <a:ext cx="533520" cy="228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786240" y="5075280"/>
            <a:ext cx="214200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QUIVAL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4CA8-91A3-4381-A5AC-0A82DBF9963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0D33-20E3-4D28-9E67-029AB220E30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351" name="Group 3"/>
          <p:cNvGrpSpPr/>
          <p:nvPr/>
        </p:nvGrpSpPr>
        <p:grpSpPr>
          <a:xfrm>
            <a:off x="2362320" y="3933720"/>
            <a:ext cx="3886200" cy="943200"/>
            <a:chOff x="2362320" y="3933720"/>
            <a:chExt cx="3886200" cy="943200"/>
          </a:xfrm>
        </p:grpSpPr>
        <p:sp>
          <p:nvSpPr>
            <p:cNvPr id="352" name="Rectangle 4"/>
            <p:cNvSpPr/>
            <p:nvPr/>
          </p:nvSpPr>
          <p:spPr>
            <a:xfrm>
              <a:off x="3352680" y="396252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3" name="Line 5"/>
            <p:cNvSpPr/>
            <p:nvPr/>
          </p:nvSpPr>
          <p:spPr>
            <a:xfrm>
              <a:off x="2362320" y="441972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4" name="Line 6"/>
            <p:cNvSpPr/>
            <p:nvPr/>
          </p:nvSpPr>
          <p:spPr>
            <a:xfrm>
              <a:off x="5257800" y="44197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5" name="Rectangle 7"/>
            <p:cNvSpPr/>
            <p:nvPr/>
          </p:nvSpPr>
          <p:spPr>
            <a:xfrm>
              <a:off x="5411160" y="393372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2363760" y="393372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Object 9"/>
                <p:cNvSpPr txBox="1"/>
                <p:nvPr/>
              </p:nvSpPr>
              <p:spPr>
                <a:xfrm>
                  <a:off x="3657600" y="4070520"/>
                  <a:ext cx="132228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8" name="Group 10"/>
          <p:cNvGrpSpPr/>
          <p:nvPr/>
        </p:nvGrpSpPr>
        <p:grpSpPr>
          <a:xfrm>
            <a:off x="838080" y="1571760"/>
            <a:ext cx="6782040" cy="942840"/>
            <a:chOff x="838080" y="1571760"/>
            <a:chExt cx="6782040" cy="942840"/>
          </a:xfrm>
        </p:grpSpPr>
        <p:sp>
          <p:nvSpPr>
            <p:cNvPr id="359" name="Rectangle 11"/>
            <p:cNvSpPr/>
            <p:nvPr/>
          </p:nvSpPr>
          <p:spPr>
            <a:xfrm>
              <a:off x="1828800" y="16002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>
              <a:off x="838080" y="2057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>
              <a:off x="3733920" y="205740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2" name="Rectangle 14"/>
            <p:cNvSpPr/>
            <p:nvPr/>
          </p:nvSpPr>
          <p:spPr>
            <a:xfrm>
              <a:off x="839520" y="157176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Object 15"/>
                <p:cNvSpPr txBox="1"/>
                <p:nvPr/>
              </p:nvSpPr>
              <p:spPr>
                <a:xfrm>
                  <a:off x="2087640" y="1706400"/>
                  <a:ext cx="145872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4" name="Rectangle 16"/>
            <p:cNvSpPr/>
            <p:nvPr/>
          </p:nvSpPr>
          <p:spPr>
            <a:xfrm>
              <a:off x="4724280" y="16002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5" name="Line 17"/>
            <p:cNvSpPr/>
            <p:nvPr/>
          </p:nvSpPr>
          <p:spPr>
            <a:xfrm>
              <a:off x="6629400" y="2057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6" name="Rectangle 18"/>
            <p:cNvSpPr/>
            <p:nvPr/>
          </p:nvSpPr>
          <p:spPr>
            <a:xfrm>
              <a:off x="6782760" y="157176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7" name="Object 19"/>
                <p:cNvSpPr txBox="1"/>
                <p:nvPr/>
              </p:nvSpPr>
              <p:spPr>
                <a:xfrm>
                  <a:off x="4960800" y="1706400"/>
                  <a:ext cx="150336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8" name="Rectangle 20"/>
            <p:cNvSpPr/>
            <p:nvPr/>
          </p:nvSpPr>
          <p:spPr>
            <a:xfrm>
              <a:off x="3811680" y="157176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w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9" name="Object 21"/>
              <p:cNvSpPr txBox="1"/>
              <p:nvPr/>
            </p:nvSpPr>
            <p:spPr>
              <a:xfrm>
                <a:off x="6172200" y="3200400"/>
                <a:ext cx="26607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22"/>
              <p:cNvSpPr txBox="1"/>
              <p:nvPr/>
            </p:nvSpPr>
            <p:spPr>
              <a:xfrm>
                <a:off x="304920" y="3135240"/>
                <a:ext cx="25891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23"/>
              <p:cNvSpPr txBox="1"/>
              <p:nvPr/>
            </p:nvSpPr>
            <p:spPr>
              <a:xfrm>
                <a:off x="1523880" y="4952880"/>
                <a:ext cx="60199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24"/>
              <p:cNvSpPr txBox="1"/>
              <p:nvPr/>
            </p:nvSpPr>
            <p:spPr>
              <a:xfrm>
                <a:off x="2895480" y="5791320"/>
                <a:ext cx="39513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25"/>
              <p:cNvSpPr txBox="1"/>
              <p:nvPr/>
            </p:nvSpPr>
            <p:spPr>
              <a:xfrm>
                <a:off x="304920" y="2514600"/>
                <a:ext cx="3657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26"/>
              <p:cNvSpPr txBox="1"/>
              <p:nvPr/>
            </p:nvSpPr>
            <p:spPr>
              <a:xfrm>
                <a:off x="4965840" y="2543040"/>
                <a:ext cx="3873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D973-6073-4D58-BF55-1B31200273E8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6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7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14BA-92A5-453B-B170-6EE7A23C6F8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16"/>
              <p:cNvSpPr txBox="1"/>
              <p:nvPr/>
            </p:nvSpPr>
            <p:spPr>
              <a:xfrm>
                <a:off x="914400" y="4267080"/>
                <a:ext cx="63277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-pt RUNNING SUM 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779760" y="5257800"/>
            <a:ext cx="209196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ZEROS 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IT CIRC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81" name="Group 11"/>
          <p:cNvGrpSpPr/>
          <p:nvPr/>
        </p:nvGrpSpPr>
        <p:grpSpPr>
          <a:xfrm>
            <a:off x="2590560" y="2514600"/>
            <a:ext cx="6451920" cy="4010760"/>
            <a:chOff x="2590560" y="2514600"/>
            <a:chExt cx="6451920" cy="4010760"/>
          </a:xfrm>
        </p:grpSpPr>
        <p:sp>
          <p:nvSpPr>
            <p:cNvPr id="382" name="Line 5"/>
            <p:cNvSpPr/>
            <p:nvPr/>
          </p:nvSpPr>
          <p:spPr>
            <a:xfrm flipH="1" flipV="1">
              <a:off x="2590560" y="5029200"/>
              <a:ext cx="3809880" cy="9144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3" name="Freeform 6"/>
            <p:cNvSpPr/>
            <p:nvPr/>
          </p:nvSpPr>
          <p:spPr>
            <a:xfrm>
              <a:off x="8305920" y="2514600"/>
              <a:ext cx="736560" cy="2971800"/>
            </a:xfrm>
            <a:custGeom>
              <a:avLst/>
              <a:gdLst/>
              <a:ahLst/>
              <a:rect l="l" t="t" r="r" b="b"/>
              <a:pathLst>
                <a:path w="464" h="2232">
                  <a:moveTo>
                    <a:pt x="192" y="2232"/>
                  </a:moveTo>
                  <a:cubicBezTo>
                    <a:pt x="328" y="1476"/>
                    <a:pt x="464" y="720"/>
                    <a:pt x="432" y="360"/>
                  </a:cubicBezTo>
                  <a:cubicBezTo>
                    <a:pt x="400" y="0"/>
                    <a:pt x="200" y="36"/>
                    <a:pt x="0" y="72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4" name="Text Box 7"/>
            <p:cNvSpPr/>
            <p:nvPr/>
          </p:nvSpPr>
          <p:spPr>
            <a:xfrm>
              <a:off x="6323760" y="5334120"/>
              <a:ext cx="2494080" cy="119124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(z-1) in 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denominato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cancels k=0 term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5" name="Object 13"/>
              <p:cNvSpPr txBox="1"/>
              <p:nvPr/>
            </p:nvSpPr>
            <p:spPr>
              <a:xfrm>
                <a:off x="3429000" y="1752480"/>
                <a:ext cx="51418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sup>
                        </m:sSup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z</m:t>
                            </m:r>
                          </m:e>
                          <m:sup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14"/>
              <p:cNvSpPr txBox="1"/>
              <p:nvPr/>
            </p:nvSpPr>
            <p:spPr>
              <a:xfrm>
                <a:off x="304920" y="1752480"/>
                <a:ext cx="31636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15"/>
              <p:cNvSpPr txBox="1"/>
              <p:nvPr/>
            </p:nvSpPr>
            <p:spPr>
              <a:xfrm>
                <a:off x="990720" y="3352680"/>
                <a:ext cx="58528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20D5-20CE-4BD7-950F-CDFFBBF1BC7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0FC6-9966-45B6-908A-01EF4EC965A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11-pt RUNNING SUM 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92" name="Picture 3" descr="_x0017_Hw-11pt-running-sum.gif                                        0000968B_x0005_JKL-2                          B0CAADC9:"/>
          <p:cNvPicPr/>
          <p:nvPr/>
        </p:nvPicPr>
        <p:blipFill>
          <a:blip r:embed="rId1"/>
          <a:stretch/>
        </p:blipFill>
        <p:spPr>
          <a:xfrm>
            <a:off x="3809880" y="3581280"/>
            <a:ext cx="5257800" cy="23446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_x0017_PZ-11pt-running-sum.gif                                        0000968B_x0005_JKL-2                          B0CAADC9:"/>
          <p:cNvPicPr/>
          <p:nvPr/>
        </p:nvPicPr>
        <p:blipFill>
          <a:blip r:embed="rId2"/>
          <a:stretch/>
        </p:blipFill>
        <p:spPr>
          <a:xfrm>
            <a:off x="152280" y="3511440"/>
            <a:ext cx="3543480" cy="3194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_x0017_HZ-11pt-running-sum.gif                                        0000968B_x0005_JKL-2                          B0CAADC9:"/>
          <p:cNvPicPr/>
          <p:nvPr/>
        </p:nvPicPr>
        <p:blipFill>
          <a:blip r:embed="rId3"/>
          <a:stretch/>
        </p:blipFill>
        <p:spPr>
          <a:xfrm>
            <a:off x="0" y="1600200"/>
            <a:ext cx="9144000" cy="1873080"/>
          </a:xfrm>
          <a:prstGeom prst="rect">
            <a:avLst/>
          </a:prstGeom>
          <a:ln w="0">
            <a:noFill/>
          </a:ln>
        </p:spPr>
      </p:pic>
      <p:sp>
        <p:nvSpPr>
          <p:cNvPr id="395" name="Freeform 6"/>
          <p:cNvSpPr/>
          <p:nvPr/>
        </p:nvSpPr>
        <p:spPr>
          <a:xfrm>
            <a:off x="3200400" y="5029200"/>
            <a:ext cx="2438280" cy="1295280"/>
          </a:xfrm>
          <a:custGeom>
            <a:avLst/>
            <a:gdLst/>
            <a:ahLst/>
            <a:rect l="l" t="t" r="r" b="b"/>
            <a:pathLst>
              <a:path w="1584" h="768">
                <a:moveTo>
                  <a:pt x="1584" y="768"/>
                </a:moveTo>
                <a:cubicBezTo>
                  <a:pt x="1116" y="736"/>
                  <a:pt x="648" y="704"/>
                  <a:pt x="384" y="576"/>
                </a:cubicBezTo>
                <a:cubicBezTo>
                  <a:pt x="120" y="448"/>
                  <a:pt x="60" y="224"/>
                  <a:pt x="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6477120" y="5486400"/>
            <a:ext cx="152280" cy="685800"/>
          </a:xfrm>
          <a:custGeom>
            <a:avLst/>
            <a:gdLst/>
            <a:ahLst/>
            <a:rect l="l" t="t" r="r" b="b"/>
            <a:pathLst>
              <a:path w="1584" h="768">
                <a:moveTo>
                  <a:pt x="1584" y="768"/>
                </a:moveTo>
                <a:cubicBezTo>
                  <a:pt x="1116" y="736"/>
                  <a:pt x="648" y="704"/>
                  <a:pt x="384" y="576"/>
                </a:cubicBezTo>
                <a:cubicBezTo>
                  <a:pt x="120" y="448"/>
                  <a:pt x="60" y="224"/>
                  <a:pt x="0" y="0"/>
                </a:cubicBezTo>
              </a:path>
            </a:pathLst>
          </a:custGeom>
          <a:noFill/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5703120" y="6095880"/>
            <a:ext cx="22410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 zero at z=1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1308-9FFC-402E-889C-7844EFBC2AE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9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6856-537E-4488-8286-E1129317D66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01" name="Picture 2" descr="_x000c_PZ-10-20.gif                                                   0000DCF0_x0005_JIM-2                          B29E03F8:"/>
          <p:cNvPicPr/>
          <p:nvPr/>
        </p:nvPicPr>
        <p:blipFill>
          <a:blip r:embed="rId1"/>
          <a:stretch/>
        </p:blipFill>
        <p:spPr>
          <a:xfrm>
            <a:off x="152280" y="1523880"/>
            <a:ext cx="2971800" cy="48769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84326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 DESIGN: CHANGE 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403" name="Picture 4" descr="_x000c_Hw-10-20.gif                                                   000073A8_x0003_JJ2                            B37C3755:"/>
          <p:cNvPicPr/>
          <p:nvPr/>
        </p:nvPicPr>
        <p:blipFill>
          <a:blip r:embed="rId2"/>
          <a:stretch/>
        </p:blipFill>
        <p:spPr>
          <a:xfrm>
            <a:off x="3352680" y="1523880"/>
            <a:ext cx="5715000" cy="48592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5"/>
          <p:cNvSpPr/>
          <p:nvPr/>
        </p:nvSpPr>
        <p:spPr>
          <a:xfrm>
            <a:off x="3867480" y="3962520"/>
            <a:ext cx="1838880" cy="119124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ssband i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arrow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L big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0BF2-649D-4055-9C51-C4522089331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1AAD-0442-4D4E-AAFD-F2B30E978D9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NULLING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LACE ZEROS to make y[n] = 0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0" name="Picture 4" descr="_x0014_Hz-nulls-signals.gif                                           0000968B_x0005_JKL-2                          B0CAADC9:"/>
          <p:cNvPicPr/>
          <p:nvPr/>
        </p:nvPicPr>
        <p:blipFill>
          <a:blip r:embed="rId1"/>
          <a:stretch/>
        </p:blipFill>
        <p:spPr>
          <a:xfrm>
            <a:off x="1168560" y="2603520"/>
            <a:ext cx="5765760" cy="37972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5"/>
          <p:cNvSpPr/>
          <p:nvPr/>
        </p:nvSpPr>
        <p:spPr>
          <a:xfrm>
            <a:off x="263880" y="4343400"/>
            <a:ext cx="137412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(z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 = 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263880" y="5105520"/>
            <a:ext cx="137412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(z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 = 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263880" y="5867280"/>
            <a:ext cx="137412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(z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 = 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4" name="Line 8"/>
          <p:cNvSpPr/>
          <p:nvPr/>
        </p:nvSpPr>
        <p:spPr>
          <a:xfrm flipH="1">
            <a:off x="6248520" y="2971800"/>
            <a:ext cx="137160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7338960" y="2546280"/>
            <a:ext cx="148392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 ZERO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(z) = 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5867280" y="4495680"/>
            <a:ext cx="91440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7" name="Line 14"/>
          <p:cNvSpPr/>
          <p:nvPr/>
        </p:nvSpPr>
        <p:spPr>
          <a:xfrm flipV="1">
            <a:off x="6172200" y="6095880"/>
            <a:ext cx="0" cy="533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6"/>
              <p:cNvSpPr txBox="1"/>
              <p:nvPr/>
            </p:nvSpPr>
            <p:spPr>
              <a:xfrm>
                <a:off x="6781680" y="4038480"/>
                <a:ext cx="18194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17"/>
              <p:cNvSpPr txBox="1"/>
              <p:nvPr/>
            </p:nvSpPr>
            <p:spPr>
              <a:xfrm>
                <a:off x="6781680" y="5715000"/>
                <a:ext cx="18590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18"/>
              <p:cNvSpPr txBox="1"/>
              <p:nvPr/>
            </p:nvSpPr>
            <p:spPr>
              <a:xfrm>
                <a:off x="6781680" y="4876920"/>
                <a:ext cx="18590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998B-CE1E-4448-94DF-6F1F308CE20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AA05-4149-4AB8-8CE6-E9128F46D4B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7, Section 7-6 to en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 &amp; Lab: Chapter 7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ZEROS (and POLE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Chapter 8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7ACC-C13F-4A62-B2F9-EF2ED8CCDC7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1CAA-2EB1-4979-8C02-9B553A11FC0A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24" name="Picture 9" descr="D:\2025-f00\Lectures\fir10_r.png"/>
          <p:cNvPicPr/>
          <p:nvPr/>
        </p:nvPicPr>
        <p:blipFill>
          <a:blip r:embed="rId1"/>
          <a:stretch/>
        </p:blipFill>
        <p:spPr>
          <a:xfrm>
            <a:off x="762120" y="1628640"/>
            <a:ext cx="7619760" cy="50770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 DOMAINS MOVIE: F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26" name="Freeform 8"/>
          <p:cNvSpPr/>
          <p:nvPr/>
        </p:nvSpPr>
        <p:spPr>
          <a:xfrm flipV="1">
            <a:off x="304920" y="2056320"/>
            <a:ext cx="2819160" cy="1676520"/>
          </a:xfrm>
          <a:custGeom>
            <a:avLst/>
            <a:gdLst/>
            <a:ahLst/>
            <a:rect l="l" t="t" r="r" b="b"/>
            <a:pathLst>
              <a:path w="1056" h="2208">
                <a:moveTo>
                  <a:pt x="192" y="2208"/>
                </a:moveTo>
                <a:cubicBezTo>
                  <a:pt x="96" y="2032"/>
                  <a:pt x="0" y="1856"/>
                  <a:pt x="0" y="1584"/>
                </a:cubicBezTo>
                <a:cubicBezTo>
                  <a:pt x="0" y="1312"/>
                  <a:pt x="16" y="840"/>
                  <a:pt x="192" y="576"/>
                </a:cubicBezTo>
                <a:cubicBezTo>
                  <a:pt x="368" y="312"/>
                  <a:pt x="712" y="156"/>
                  <a:pt x="105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167400" y="1676520"/>
            <a:ext cx="21999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EROS MISS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10"/>
              <p:cNvSpPr txBox="1"/>
              <p:nvPr/>
            </p:nvSpPr>
            <p:spPr>
              <a:xfrm>
                <a:off x="7924680" y="1752480"/>
                <a:ext cx="9144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1"/>
              <p:cNvSpPr txBox="1"/>
              <p:nvPr/>
            </p:nvSpPr>
            <p:spPr>
              <a:xfrm>
                <a:off x="2666880" y="5562720"/>
                <a:ext cx="6829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2"/>
              <p:cNvSpPr txBox="1"/>
              <p:nvPr/>
            </p:nvSpPr>
            <p:spPr>
              <a:xfrm>
                <a:off x="8001000" y="4444920"/>
                <a:ext cx="10666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6829-5CD4-4D93-9351-B0A9FD356C0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8886-265A-4BD7-B435-89C8B9ED55D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34" name="Picture 2" descr="D:\2025-f00\Lectures\fir10_r.png"/>
          <p:cNvPicPr/>
          <p:nvPr/>
        </p:nvPicPr>
        <p:blipFill>
          <a:blip r:embed="rId1"/>
          <a:stretch/>
        </p:blipFill>
        <p:spPr>
          <a:xfrm>
            <a:off x="762120" y="1628640"/>
            <a:ext cx="7619760" cy="507708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 DOMAINS MOVIE: F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6" name="Freeform 4"/>
          <p:cNvSpPr/>
          <p:nvPr/>
        </p:nvSpPr>
        <p:spPr>
          <a:xfrm flipV="1">
            <a:off x="304920" y="2056320"/>
            <a:ext cx="2819160" cy="1676520"/>
          </a:xfrm>
          <a:custGeom>
            <a:avLst/>
            <a:gdLst/>
            <a:ahLst/>
            <a:rect l="l" t="t" r="r" b="b"/>
            <a:pathLst>
              <a:path w="1056" h="2208">
                <a:moveTo>
                  <a:pt x="192" y="2208"/>
                </a:moveTo>
                <a:cubicBezTo>
                  <a:pt x="96" y="2032"/>
                  <a:pt x="0" y="1856"/>
                  <a:pt x="0" y="1584"/>
                </a:cubicBezTo>
                <a:cubicBezTo>
                  <a:pt x="0" y="1312"/>
                  <a:pt x="16" y="840"/>
                  <a:pt x="192" y="576"/>
                </a:cubicBezTo>
                <a:cubicBezTo>
                  <a:pt x="368" y="312"/>
                  <a:pt x="712" y="156"/>
                  <a:pt x="105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167400" y="1676520"/>
            <a:ext cx="21999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EROS MISS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6"/>
              <p:cNvSpPr txBox="1"/>
              <p:nvPr/>
            </p:nvSpPr>
            <p:spPr>
              <a:xfrm>
                <a:off x="8077320" y="4583160"/>
                <a:ext cx="9396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7"/>
              <p:cNvSpPr txBox="1"/>
              <p:nvPr/>
            </p:nvSpPr>
            <p:spPr>
              <a:xfrm>
                <a:off x="8077320" y="1623960"/>
                <a:ext cx="914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8"/>
              <p:cNvSpPr txBox="1"/>
              <p:nvPr/>
            </p:nvSpPr>
            <p:spPr>
              <a:xfrm>
                <a:off x="2590920" y="5591160"/>
                <a:ext cx="755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470A-60A1-4092-907B-2D2400E5F41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6CAC-3C3C-496E-ABB9-33E5DD6A00E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-1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1788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ZEROS and POL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late H(z) to FREQUENCY RESPON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3352680" y="3581280"/>
            <a:ext cx="4343400" cy="16002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05" name="Group 14"/>
          <p:cNvGrpSpPr/>
          <p:nvPr/>
        </p:nvGrpSpPr>
        <p:grpSpPr>
          <a:xfrm>
            <a:off x="2514600" y="5562720"/>
            <a:ext cx="5562720" cy="990360"/>
            <a:chOff x="2514600" y="5562720"/>
            <a:chExt cx="5562720" cy="990360"/>
          </a:xfrm>
        </p:grpSpPr>
        <p:sp>
          <p:nvSpPr>
            <p:cNvPr id="106" name="AutoShape 7"/>
            <p:cNvSpPr/>
            <p:nvPr/>
          </p:nvSpPr>
          <p:spPr>
            <a:xfrm>
              <a:off x="2514600" y="5867280"/>
              <a:ext cx="228600" cy="533520"/>
            </a:xfrm>
            <a:prstGeom prst="upArrow">
              <a:avLst>
                <a:gd name="adj1" fmla="val 50000"/>
                <a:gd name="adj2" fmla="val 58346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7" name="AutoShape 8"/>
            <p:cNvSpPr/>
            <p:nvPr/>
          </p:nvSpPr>
          <p:spPr>
            <a:xfrm>
              <a:off x="7848720" y="5562720"/>
              <a:ext cx="228600" cy="990360"/>
            </a:xfrm>
            <a:prstGeom prst="upArrow">
              <a:avLst>
                <a:gd name="adj1" fmla="val 50000"/>
                <a:gd name="adj2" fmla="val 108307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4876920" y="5867280"/>
              <a:ext cx="228600" cy="609840"/>
            </a:xfrm>
            <a:prstGeom prst="upArrow">
              <a:avLst>
                <a:gd name="adj1" fmla="val 50000"/>
                <a:gd name="adj2" fmla="val 66693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09" name="Rectangle 10"/>
          <p:cNvSpPr/>
          <p:nvPr/>
        </p:nvSpPr>
        <p:spPr>
          <a:xfrm>
            <a:off x="507960" y="4038480"/>
            <a:ext cx="8178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REE DOMAINS: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how Relationship for FIR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2"/>
              <p:cNvSpPr txBox="1"/>
              <p:nvPr/>
            </p:nvSpPr>
            <p:spPr>
              <a:xfrm>
                <a:off x="1746360" y="2916360"/>
                <a:ext cx="550044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3"/>
              <p:cNvSpPr txBox="1"/>
              <p:nvPr/>
            </p:nvSpPr>
            <p:spPr>
              <a:xfrm>
                <a:off x="1828800" y="5029200"/>
                <a:ext cx="67230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↔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12D4-CF0D-4365-A830-3544C192F49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A7EA-7B41-4F4D-B74B-0BC2AC62D36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84896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esign a Lowpass FIR filter:   Find b</a:t>
            </a:r>
            <a:r>
              <a:rPr b="0" lang="en-US" sz="26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 with Z Polynomial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ascaded System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L-point running sum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25092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-2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EEEB-CA2F-4B5C-9AB0-386C3E9D526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5029-6E45-40E1-84BF-E4C172F8A71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DEFINI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676520"/>
            <a:ext cx="885672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LYNOMIAL Representation of LTI SYSTEM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936880" y="2324160"/>
                <a:ext cx="32068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Line 5"/>
          <p:cNvSpPr/>
          <p:nvPr/>
        </p:nvSpPr>
        <p:spPr>
          <a:xfrm flipH="1" flipV="1">
            <a:off x="5181120" y="2971800"/>
            <a:ext cx="83844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033600" y="3384720"/>
            <a:ext cx="167580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PPLIES to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ny SIG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6269040" y="5486400"/>
            <a:ext cx="253980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OLYNOMIAL in z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8"/>
              <p:cNvSpPr txBox="1"/>
              <p:nvPr/>
            </p:nvSpPr>
            <p:spPr>
              <a:xfrm>
                <a:off x="914400" y="4419720"/>
                <a:ext cx="6730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9"/>
              <p:cNvSpPr txBox="1"/>
              <p:nvPr/>
            </p:nvSpPr>
            <p:spPr>
              <a:xfrm>
                <a:off x="1905120" y="5029200"/>
                <a:ext cx="2923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0"/>
              <p:cNvSpPr txBox="1"/>
              <p:nvPr/>
            </p:nvSpPr>
            <p:spPr>
              <a:xfrm>
                <a:off x="1916280" y="5638680"/>
                <a:ext cx="3875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762120" y="3943440"/>
                <a:ext cx="3944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AF9F-F598-4759-BEFF-3E3C685124E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546B-3650-4183-BB21-7E2539BF0C7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2"/>
              <p:cNvSpPr txBox="1"/>
              <p:nvPr/>
            </p:nvSpPr>
            <p:spPr>
              <a:xfrm>
                <a:off x="228600" y="3448080"/>
                <a:ext cx="8534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↔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volution in 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domai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AME A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plication in 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domai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 flipV="1">
            <a:off x="7162920" y="4038120"/>
            <a:ext cx="533160" cy="838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6377040" y="4770360"/>
            <a:ext cx="258264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ULTIPL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-TRANSFOR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074120" y="5837400"/>
            <a:ext cx="15037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R Fil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4343400" y="2133720"/>
            <a:ext cx="76320" cy="609480"/>
          </a:xfrm>
          <a:prstGeom prst="line">
            <a:avLst/>
          </a:prstGeom>
          <a:ln w="572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3"/>
              <p:cNvSpPr txBox="1"/>
              <p:nvPr/>
            </p:nvSpPr>
            <p:spPr>
              <a:xfrm>
                <a:off x="228600" y="4533840"/>
                <a:ext cx="3733920" cy="17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[</m:t>
                            </m:r>
                            <m:r>
                              <m:t xml:space="preserve">k</m:t>
                            </m:r>
                            <m:r>
                              <m:t xml:space="preserve">]</m:t>
                            </m:r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B287-501B-41DD-B740-899EF24152E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EFA7-9F09-45D6-B191-167D0E6EDBA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45" name="Group 3102"/>
          <p:cNvGrpSpPr/>
          <p:nvPr/>
        </p:nvGrpSpPr>
        <p:grpSpPr>
          <a:xfrm>
            <a:off x="2590920" y="1646280"/>
            <a:ext cx="3886200" cy="944640"/>
            <a:chOff x="2590920" y="1646280"/>
            <a:chExt cx="3886200" cy="944640"/>
          </a:xfrm>
        </p:grpSpPr>
        <p:sp>
          <p:nvSpPr>
            <p:cNvPr id="146" name="Rectangle 3076"/>
            <p:cNvSpPr/>
            <p:nvPr/>
          </p:nvSpPr>
          <p:spPr>
            <a:xfrm>
              <a:off x="3581280" y="167652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7" name="Line 3077"/>
            <p:cNvSpPr/>
            <p:nvPr/>
          </p:nvSpPr>
          <p:spPr>
            <a:xfrm>
              <a:off x="2590920" y="213372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8" name="Line 3078"/>
            <p:cNvSpPr/>
            <p:nvPr/>
          </p:nvSpPr>
          <p:spPr>
            <a:xfrm>
              <a:off x="5486400" y="21337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9" name="Rectangle 3079"/>
            <p:cNvSpPr/>
            <p:nvPr/>
          </p:nvSpPr>
          <p:spPr>
            <a:xfrm>
              <a:off x="5639760" y="164628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0" name="Rectangle 3080"/>
            <p:cNvSpPr/>
            <p:nvPr/>
          </p:nvSpPr>
          <p:spPr>
            <a:xfrm>
              <a:off x="2592360" y="164628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Object 3081"/>
                <p:cNvSpPr txBox="1"/>
                <p:nvPr/>
              </p:nvSpPr>
              <p:spPr>
                <a:xfrm>
                  <a:off x="3976560" y="1828800"/>
                  <a:ext cx="118440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2" name="Object 3103"/>
              <p:cNvSpPr txBox="1"/>
              <p:nvPr/>
            </p:nvSpPr>
            <p:spPr>
              <a:xfrm>
                <a:off x="3352680" y="32767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3104"/>
              <p:cNvSpPr txBox="1"/>
              <p:nvPr/>
            </p:nvSpPr>
            <p:spPr>
              <a:xfrm>
                <a:off x="158760" y="3986280"/>
                <a:ext cx="3041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105"/>
              <p:cNvSpPr txBox="1"/>
              <p:nvPr/>
            </p:nvSpPr>
            <p:spPr>
              <a:xfrm>
                <a:off x="6095880" y="3986280"/>
                <a:ext cx="24195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3106"/>
              <p:cNvSpPr txBox="1"/>
              <p:nvPr/>
            </p:nvSpPr>
            <p:spPr>
              <a:xfrm>
                <a:off x="380880" y="4849920"/>
                <a:ext cx="8153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3107"/>
              <p:cNvSpPr txBox="1"/>
              <p:nvPr/>
            </p:nvSpPr>
            <p:spPr>
              <a:xfrm>
                <a:off x="5334120" y="2643120"/>
                <a:ext cx="35938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3108"/>
              <p:cNvSpPr txBox="1"/>
              <p:nvPr/>
            </p:nvSpPr>
            <p:spPr>
              <a:xfrm>
                <a:off x="152280" y="2643120"/>
                <a:ext cx="44244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3109"/>
              <p:cNvSpPr txBox="1"/>
              <p:nvPr/>
            </p:nvSpPr>
            <p:spPr>
              <a:xfrm>
                <a:off x="1044720" y="5767560"/>
                <a:ext cx="61182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3E71-A438-4BC3-92A2-D68B2C06995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1D7A-24AA-465B-8038-B6C38B9962A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2514600" y="1676520"/>
            <a:ext cx="5587920" cy="3124080"/>
            <a:chOff x="2514600" y="1676520"/>
            <a:chExt cx="5587920" cy="3124080"/>
          </a:xfrm>
        </p:grpSpPr>
        <p:sp>
          <p:nvSpPr>
            <p:cNvPr id="164" name="Text Box 4"/>
            <p:cNvSpPr/>
            <p:nvPr/>
          </p:nvSpPr>
          <p:spPr>
            <a:xfrm>
              <a:off x="2639880" y="1676520"/>
              <a:ext cx="37180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Z-TRANSFORM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5" name="Text Box 5"/>
            <p:cNvSpPr/>
            <p:nvPr/>
          </p:nvSpPr>
          <p:spPr>
            <a:xfrm>
              <a:off x="4991040" y="2133720"/>
              <a:ext cx="31114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POLYNOMIALS: H(z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2514600" y="2209680"/>
              <a:ext cx="3962520" cy="2590920"/>
            </a:xfrm>
            <a:custGeom>
              <a:avLst/>
              <a:gdLst/>
              <a:ahLst/>
              <a:rect l="l" t="t" r="r" b="b"/>
              <a:pathLst>
                <a:path w="2496" h="1632">
                  <a:moveTo>
                    <a:pt x="0" y="1632"/>
                  </a:moveTo>
                  <a:lnTo>
                    <a:pt x="1152" y="0"/>
                  </a:lnTo>
                  <a:lnTo>
                    <a:pt x="2496" y="1632"/>
                  </a:ln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7" name="Group 7"/>
          <p:cNvGrpSpPr/>
          <p:nvPr/>
        </p:nvGrpSpPr>
        <p:grpSpPr>
          <a:xfrm>
            <a:off x="2209680" y="2438280"/>
            <a:ext cx="4571640" cy="1523880"/>
            <a:chOff x="2209680" y="2438280"/>
            <a:chExt cx="4571640" cy="1523880"/>
          </a:xfrm>
        </p:grpSpPr>
        <p:sp>
          <p:nvSpPr>
            <p:cNvPr id="168" name="Line 8"/>
            <p:cNvSpPr/>
            <p:nvPr/>
          </p:nvSpPr>
          <p:spPr>
            <a:xfrm flipH="1">
              <a:off x="2209680" y="2438280"/>
              <a:ext cx="1067040" cy="1447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9" name="Line 9"/>
            <p:cNvSpPr/>
            <p:nvPr/>
          </p:nvSpPr>
          <p:spPr>
            <a:xfrm flipH="1" flipV="1">
              <a:off x="5790960" y="2742840"/>
              <a:ext cx="990360" cy="12193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0" name="Group 19"/>
          <p:cNvGrpSpPr/>
          <p:nvPr/>
        </p:nvGrpSpPr>
        <p:grpSpPr>
          <a:xfrm>
            <a:off x="5184720" y="4419720"/>
            <a:ext cx="3727440" cy="1865160"/>
            <a:chOff x="5184720" y="4419720"/>
            <a:chExt cx="3727440" cy="1865160"/>
          </a:xfrm>
        </p:grpSpPr>
        <p:sp>
          <p:nvSpPr>
            <p:cNvPr id="171" name="Text Box 11"/>
            <p:cNvSpPr/>
            <p:nvPr/>
          </p:nvSpPr>
          <p:spPr>
            <a:xfrm>
              <a:off x="6478560" y="4419720"/>
              <a:ext cx="234792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FREQ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Object 12"/>
                <p:cNvSpPr txBox="1"/>
                <p:nvPr/>
              </p:nvSpPr>
              <p:spPr>
                <a:xfrm>
                  <a:off x="5184720" y="4970520"/>
                  <a:ext cx="372744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k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3" name="Group 13"/>
          <p:cNvGrpSpPr/>
          <p:nvPr/>
        </p:nvGrpSpPr>
        <p:grpSpPr>
          <a:xfrm>
            <a:off x="152280" y="4479840"/>
            <a:ext cx="3581640" cy="1844640"/>
            <a:chOff x="152280" y="4479840"/>
            <a:chExt cx="3581640" cy="1844640"/>
          </a:xfrm>
        </p:grpSpPr>
        <p:sp>
          <p:nvSpPr>
            <p:cNvPr id="174" name="Text Box 14"/>
            <p:cNvSpPr/>
            <p:nvPr/>
          </p:nvSpPr>
          <p:spPr>
            <a:xfrm>
              <a:off x="229320" y="4479840"/>
              <a:ext cx="22305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TIME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Object 15"/>
                <p:cNvSpPr txBox="1"/>
                <p:nvPr/>
              </p:nvSpPr>
              <p:spPr>
                <a:xfrm>
                  <a:off x="152280" y="5010120"/>
                  <a:ext cx="358164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6" name="Group 16"/>
          <p:cNvGrpSpPr/>
          <p:nvPr/>
        </p:nvGrpSpPr>
        <p:grpSpPr>
          <a:xfrm>
            <a:off x="2514600" y="3429000"/>
            <a:ext cx="3962520" cy="1371600"/>
            <a:chOff x="2514600" y="3429000"/>
            <a:chExt cx="3962520" cy="1371600"/>
          </a:xfrm>
        </p:grpSpPr>
        <p:sp>
          <p:nvSpPr>
            <p:cNvPr id="177" name="Line 17"/>
            <p:cNvSpPr/>
            <p:nvPr/>
          </p:nvSpPr>
          <p:spPr>
            <a:xfrm>
              <a:off x="2514600" y="4800600"/>
              <a:ext cx="39625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" name="Object 18"/>
                <p:cNvSpPr txBox="1"/>
                <p:nvPr/>
              </p:nvSpPr>
              <p:spPr>
                <a:xfrm>
                  <a:off x="3581280" y="3429000"/>
                  <a:ext cx="1676520" cy="13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Fatih  Alagoz</cp:lastModifiedBy>
  <cp:lastPrinted>1999-10-09T18:53:54Z</cp:lastPrinted>
  <dcterms:modified xsi:type="dcterms:W3CDTF">2013-05-01T23:55:11Z</dcterms:modified>
  <cp:revision>336</cp:revision>
  <dc:subject/>
  <dc:title>SPFirst Lecture #1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