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20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4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923088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E8DC-DE82-4339-87CB-4D6D32013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5CFF-6379-4EAB-96D6-3341D1EDD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86C2-6182-4630-A737-10A5C9CC1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1E9D-0870-4B1D-8C08-F770558F7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97CA9-F6A5-4426-A80C-181BD1BC4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6A79C-AA54-4334-872D-B2012CD69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4A297-573C-4B8E-A9E4-516C14046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3C7C0-A500-4006-9470-A961FC5C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419F7-ACBF-40FB-BF15-DFCAA15ED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54F9B-8F57-444D-A969-4CEF4ED14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2CB34-8DB7-405E-A2F5-FF79B089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27BC-870D-48B8-A2C0-AD9232210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42B95-E36B-4E68-95B3-7B13B4BE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DC7BF-D2DC-44D4-9D51-89A433BA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91719-0E53-41C6-AC88-BA20072C2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2B6C7-3B36-484C-9439-FAA18ADCB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E5859-EEA7-4CB1-88A4-5517F5EA7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0ADF-AA35-4A05-939F-94CA2541A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B55E-C09B-4A7B-8E5A-9D11C26B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A480-182E-4734-B678-9354AC452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9488-CC2C-4472-800B-55B1B3324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64CE-DCCD-4E12-B50E-F654CEA0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8344-8B0C-4036-93C0-02CF6597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F287-3385-4AAA-9203-5B341320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1F288-3A6D-4949-9412-B807E3030F67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16521-05E2-4771-AF8A-262200BF81AF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031" descr="A:\paint.GIF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31" descr="A:\paint.GIF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FBA81-5C8A-424E-AF9E-0EA8276307FD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5D385-A567-441A-84C6-5FC1D90A5D3C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028"/>
          <p:cNvSpPr/>
          <p:nvPr/>
        </p:nvSpPr>
        <p:spPr>
          <a:xfrm>
            <a:off x="711360" y="6229440"/>
            <a:ext cx="19303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DDCB1-244A-4667-A946-898E0146FAC9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" name="Rectangle 1029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Rectangle 1030"/>
          <p:cNvSpPr/>
          <p:nvPr/>
        </p:nvSpPr>
        <p:spPr>
          <a:xfrm>
            <a:off x="660384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EBA01-5EB9-4447-9969-395A449EB815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ignal Processing Firs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599840" y="3457440"/>
            <a:ext cx="7086600" cy="17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cture 20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nvolution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(Continuous-Time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83088-FD93-4F25-A9C2-08D48DBDEEDA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8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9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D9C2D-53D0-49CF-9D40-BDB9A28B5063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General Convolution Exampl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3"/>
              <p:cNvSpPr txBox="1"/>
              <p:nvPr/>
            </p:nvSpPr>
            <p:spPr>
              <a:xfrm>
                <a:off x="711360" y="2438280"/>
                <a:ext cx="7797600" cy="421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∗</m:t>
                            </m:r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aτ</m:t>
                                </m:r>
                              </m:sup>
                            </m:sSup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τ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sSup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p>
                                      <m:r>
                                        <m:t xml:space="preserve">−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bt</m:t>
                                      </m:r>
                                    </m:sup>
                                  </m:sSup>
                                  <m:nary>
                                    <m:naryPr>
                                      <m:chr m:val="∫"/>
                                    </m:naryPr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t</m:t>
                                      </m:r>
                                    </m:sup>
                                    <m:e>
                                      <m:sSup>
                                        <m:e>
                                          <m:r>
                                            <m:t xml:space="preserve">e</m:t>
                                          </m:r>
                                        </m:e>
                                        <m:sup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aτ</m:t>
                                          </m:r>
                                        </m:sup>
                                      </m:sSup>
                                      <m:sSup>
                                        <m:e>
                                          <m:r>
                                            <m:t xml:space="preserve">e</m:t>
                                          </m:r>
                                        </m:e>
                                        <m:sup>
                                          <m:r>
                                            <m:t xml:space="preserve">bτ</m:t>
                                          </m:r>
                                        </m:sup>
                                      </m:sSup>
                                      <m:r>
                                        <m:t xml:space="preserve">dτ</m:t>
                                      </m:r>
                                    </m:e>
                                  </m:nary>
                                </m:e>
                                <m:e>
                                  <m:r>
                                    <m:t xml:space="preserve">t</m:t>
                                  </m:r>
                                  <m:r>
                                    <m:t xml:space="preserve">&gt;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t</m:t>
                                  </m:r>
                                  <m:r>
                                    <m:t xml:space="preserve">&lt;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f>
                                    <m:num>
                                      <m:sSup>
                                        <m:e>
                                          <m:r>
                                            <m:t xml:space="preserve">e</m:t>
                                          </m:r>
                                        </m:e>
                                        <m:sup>
                                          <m:r>
                                            <m:t xml:space="preserve">−</m:t>
                                          </m:r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at</m:t>
                                          </m:r>
                                        </m:sup>
                                      </m:sSup>
                                      <m:r>
                                        <m:t xml:space="preserve">−</m:t>
                                      </m:r>
                                      <m:sSup>
                                        <m:e>
                                          <m:r>
                                            <m:t xml:space="preserve">e</m:t>
                                          </m:r>
                                        </m:e>
                                        <m:sup>
                                          <m:r>
                                            <m:t xml:space="preserve">−</m:t>
                                          </m:r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bt</m:t>
                                          </m:r>
                                        </m:sup>
                                      </m:sSup>
                                    </m:num>
                                    <m:den>
                                      <m:r>
                                        <m:t xml:space="preserve">−</m:t>
                                      </m:r>
                                      <m:r>
                                        <m:t xml:space="preserve">a</m:t>
                                      </m:r>
                                      <m:r>
                                        <m:t xml:space="preserve">+</m:t>
                                      </m:r>
                                      <m:r>
                                        <m:t xml:space="preserve">b</m:t>
                                      </m:r>
                                    </m:den>
                                  </m:f>
                                </m:e>
                                <m:e>
                                  <m:r>
                                    <m:t xml:space="preserve">t</m:t>
                                  </m:r>
                                  <m:r>
                                    <m:t xml:space="preserve">&gt;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t</m:t>
                                  </m:r>
                                  <m:r>
                                    <m:t xml:space="preserve">&lt;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at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bt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7"/>
              <p:cNvSpPr txBox="1"/>
              <p:nvPr/>
            </p:nvSpPr>
            <p:spPr>
              <a:xfrm>
                <a:off x="611280" y="1676520"/>
                <a:ext cx="215568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8"/>
              <p:cNvSpPr txBox="1"/>
              <p:nvPr/>
            </p:nvSpPr>
            <p:spPr>
              <a:xfrm>
                <a:off x="3440160" y="1676520"/>
                <a:ext cx="33415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≠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8A48E-1F64-4905-8DBC-876A5001544A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5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82C1B-91C2-4220-985D-9FF4D7BF7FD9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pecial Case: u(t)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3"/>
              <p:cNvSpPr txBox="1"/>
              <p:nvPr/>
            </p:nvSpPr>
            <p:spPr>
              <a:xfrm>
                <a:off x="762120" y="2362320"/>
                <a:ext cx="5638680" cy="22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∗</m:t>
                            </m:r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4"/>
              <p:cNvSpPr txBox="1"/>
              <p:nvPr/>
            </p:nvSpPr>
            <p:spPr>
              <a:xfrm>
                <a:off x="774720" y="1676520"/>
                <a:ext cx="334008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5"/>
              <p:cNvSpPr txBox="1"/>
              <p:nvPr/>
            </p:nvSpPr>
            <p:spPr>
              <a:xfrm>
                <a:off x="5095800" y="1720800"/>
                <a:ext cx="160992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6"/>
              <p:cNvSpPr txBox="1"/>
              <p:nvPr/>
            </p:nvSpPr>
            <p:spPr>
              <a:xfrm>
                <a:off x="838080" y="4800600"/>
                <a:ext cx="4191120" cy="18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 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1A525-67B8-4466-BC86-3F1D47425AC0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3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579E6-A063-47E0-AE7D-69E66F2AAF54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nvolve Unit Step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3"/>
              <p:cNvSpPr txBox="1"/>
              <p:nvPr/>
            </p:nvSpPr>
            <p:spPr>
              <a:xfrm>
                <a:off x="914400" y="2438280"/>
                <a:ext cx="5334120" cy="416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∗</m:t>
                            </m:r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nary>
                                    <m:naryPr>
                                      <m:chr m:val="∫"/>
                                    </m:naryPr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t</m:t>
                                      </m:r>
                                    </m:sup>
                                    <m:e>
                                      <m:r>
                                        <m:t xml:space="preserve">1</m:t>
                                      </m:r>
                                      <m:r>
                                        <m:t xml:space="preserve"> </m:t>
                                      </m:r>
                                      <m:r>
                                        <m:t xml:space="preserve">dτ</m:t>
                                      </m:r>
                                    </m:e>
                                  </m:nary>
                                </m:e>
                                <m:e>
                                  <m:r>
                                    <m:t xml:space="preserve">t</m:t>
                                  </m:r>
                                  <m:r>
                                    <m:t xml:space="preserve">&gt;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t</m:t>
                                  </m:r>
                                  <m:r>
                                    <m:t xml:space="preserve">&lt;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t</m:t>
                                  </m:r>
                                </m:e>
                                <m:e>
                                  <m:r>
                                    <m:t xml:space="preserve">t</m:t>
                                  </m:r>
                                  <m:r>
                                    <m:t xml:space="preserve">&gt;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t</m:t>
                                  </m:r>
                                  <m:r>
                                    <m:t xml:space="preserve">&lt;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t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4"/>
              <p:cNvSpPr txBox="1"/>
              <p:nvPr/>
            </p:nvSpPr>
            <p:spPr>
              <a:xfrm>
                <a:off x="882720" y="1720800"/>
                <a:ext cx="160956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5"/>
              <p:cNvSpPr txBox="1"/>
              <p:nvPr/>
            </p:nvSpPr>
            <p:spPr>
              <a:xfrm>
                <a:off x="3657600" y="1720800"/>
                <a:ext cx="160956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Text Box 6"/>
          <p:cNvSpPr/>
          <p:nvPr/>
        </p:nvSpPr>
        <p:spPr>
          <a:xfrm>
            <a:off x="4917600" y="5715000"/>
            <a:ext cx="1704600" cy="459720"/>
          </a:xfrm>
          <a:prstGeom prst="rect">
            <a:avLst/>
          </a:prstGeom>
          <a:solidFill>
            <a:srgbClr val="ccecff"/>
          </a:solidFill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Unit Ramp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4E88B-CD15-4556-987E-195570F842B2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1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2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AEED9-406F-43EA-B8F3-7EB691547307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nvolution is Commutativ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520" y="1885680"/>
            <a:ext cx="8534520" cy="4438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4"/>
              <p:cNvSpPr txBox="1"/>
              <p:nvPr/>
            </p:nvSpPr>
            <p:spPr>
              <a:xfrm>
                <a:off x="380880" y="1523880"/>
                <a:ext cx="8534520" cy="451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∗</m:t>
                          </m:r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  <m:e/>
                        <m:e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−</m:t>
                              </m:r>
                              <m:r>
                                <m:t xml:space="preserve">∞</m:t>
                              </m:r>
                            </m:sub>
                            <m:sup>
                              <m:r>
                                <m:t xml:space="preserve">∞</m:t>
                              </m:r>
                            </m:sup>
                            <m:e>
                              <m:r>
                                <m:t xml:space="preserve">h</m:t>
                              </m:r>
                              <m:r>
                                <m:t xml:space="preserve">(</m:t>
                              </m:r>
                              <m:r>
                                <m:t xml:space="preserve">τ</m:t>
                              </m:r>
                              <m:r>
                                <m:t xml:space="preserve">)</m:t>
                              </m:r>
                              <m:r>
                                <m:t xml:space="preserve">x</m:t>
                              </m:r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−</m:t>
                              </m:r>
                              <m:r>
                                <m:t xml:space="preserve">τ</m:t>
                              </m:r>
                              <m:r>
                                <m:t xml:space="preserve">)</m:t>
                              </m:r>
                              <m:r>
                                <m:t xml:space="preserve">dτ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                 </m:t>
                              </m:r>
                            </m:e>
                          </m:nary>
                        </m:e>
                      </m:mr>
                      <m:mr>
                        <m:e/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let </m:t>
                          </m:r>
                          <m:r>
                            <m:t xml:space="preserve">σ</m:t>
                          </m:r>
                          <m:r>
                            <m:t xml:space="preserve">=</m:t>
                          </m:r>
                          <m:r>
                            <m:t xml:space="preserve">t</m:t>
                          </m:r>
                          <m:r>
                            <m:t xml:space="preserve">−</m:t>
                          </m:r>
                          <m:r>
                            <m:t xml:space="preserve">τ</m:t>
                          </m:r>
                          <m:r>
                            <m:rPr>
                              <m:lit/>
                              <m:nor/>
                            </m:rPr>
                            <m:t xml:space="preserve"> and </m:t>
                          </m:r>
                          <m:r>
                            <m:t xml:space="preserve">dσ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dτ</m:t>
                          </m:r>
                        </m:e>
                      </m:mr>
                      <m:mr>
                        <m:e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∗</m:t>
                          </m:r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  <m:e/>
                        <m:e>
                          <m:r>
                            <m:t xml:space="preserve">−</m:t>
                          </m:r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∞</m:t>
                              </m:r>
                            </m:sub>
                            <m:sup>
                              <m:r>
                                <m:t xml:space="preserve">−</m:t>
                              </m:r>
                              <m:r>
                                <m:t xml:space="preserve">∞</m:t>
                              </m:r>
                            </m:sup>
                            <m:e>
                              <m:r>
                                <m:t xml:space="preserve">h</m:t>
                              </m:r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−</m:t>
                              </m:r>
                              <m:r>
                                <m:t xml:space="preserve">σ</m:t>
                              </m:r>
                              <m:r>
                                <m:t xml:space="preserve">)</m:t>
                              </m:r>
                              <m:r>
                                <m:t xml:space="preserve">x</m:t>
                              </m:r>
                              <m:r>
                                <m:t xml:space="preserve">(</m:t>
                              </m:r>
                              <m:r>
                                <m:t xml:space="preserve">σ</m:t>
                              </m:r>
                              <m:r>
                                <m:t xml:space="preserve">)</m:t>
                              </m:r>
                              <m:r>
                                <m:t xml:space="preserve">dσ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              </m:t>
                              </m:r>
                            </m:e>
                          </m:nary>
                        </m:e>
                      </m:mr>
                      <m:mr>
                        <m:e/>
                        <m:e/>
                        <m:e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−</m:t>
                              </m:r>
                              <m:r>
                                <m:t xml:space="preserve">∞</m:t>
                              </m:r>
                            </m:sub>
                            <m:sup>
                              <m:r>
                                <m:t xml:space="preserve">∞</m:t>
                              </m:r>
                            </m:sup>
                            <m:e>
                              <m:r>
                                <m:t xml:space="preserve">h</m:t>
                              </m:r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−</m:t>
                              </m:r>
                              <m:r>
                                <m:t xml:space="preserve">σ</m:t>
                              </m:r>
                              <m:r>
                                <m:t xml:space="preserve">)</m:t>
                              </m:r>
                              <m:r>
                                <m:t xml:space="preserve">x</m:t>
                              </m:r>
                              <m:r>
                                <m:t xml:space="preserve">(</m:t>
                              </m:r>
                              <m:r>
                                <m:t xml:space="preserve">σ</m:t>
                              </m:r>
                              <m:r>
                                <m:t xml:space="preserve">)</m:t>
                              </m:r>
                              <m:r>
                                <m:t xml:space="preserve">dσ</m:t>
                              </m:r>
                              <m:r>
                                <m:t xml:space="preserve">=</m:t>
                              </m:r>
                              <m:r>
                                <m:t xml:space="preserve">x</m:t>
                              </m:r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t xml:space="preserve">∗</m:t>
                              </m:r>
                              <m:r>
                                <m:t xml:space="preserve">h</m:t>
                              </m:r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e>
                          </m:nary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76" name="Rectangle 5"/>
          <p:cNvSpPr/>
          <p:nvPr/>
        </p:nvSpPr>
        <p:spPr>
          <a:xfrm>
            <a:off x="304920" y="3809880"/>
            <a:ext cx="1904760" cy="53352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7010280" y="5105520"/>
            <a:ext cx="1905120" cy="5331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50219-DD8A-4BFC-B8F8-F1581C41546F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9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9AB0A-0AB4-476F-8BD3-F5C42563CD8B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ascade of LTI System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182" name="Picture 3" descr="_x000e_fig10-15ab.GIF                                                 00005D72_x000c_Macintosh HD                   ABA78158:"/>
          <p:cNvPicPr/>
          <p:nvPr/>
        </p:nvPicPr>
        <p:blipFill>
          <a:blip r:embed="rId1"/>
          <a:stretch/>
        </p:blipFill>
        <p:spPr>
          <a:xfrm>
            <a:off x="728640" y="1449360"/>
            <a:ext cx="7805880" cy="5408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3" name="Object 4"/>
              <p:cNvSpPr txBox="1"/>
              <p:nvPr/>
            </p:nvSpPr>
            <p:spPr>
              <a:xfrm>
                <a:off x="762120" y="2590920"/>
                <a:ext cx="6476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5"/>
              <p:cNvSpPr txBox="1"/>
              <p:nvPr/>
            </p:nvSpPr>
            <p:spPr>
              <a:xfrm>
                <a:off x="3905280" y="2590920"/>
                <a:ext cx="762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7"/>
              <p:cNvSpPr txBox="1"/>
              <p:nvPr/>
            </p:nvSpPr>
            <p:spPr>
              <a:xfrm>
                <a:off x="6845400" y="2590920"/>
                <a:ext cx="18540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8"/>
              <p:cNvSpPr txBox="1"/>
              <p:nvPr/>
            </p:nvSpPr>
            <p:spPr>
              <a:xfrm>
                <a:off x="762120" y="5486400"/>
                <a:ext cx="6476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9"/>
              <p:cNvSpPr txBox="1"/>
              <p:nvPr/>
            </p:nvSpPr>
            <p:spPr>
              <a:xfrm>
                <a:off x="3936960" y="5486400"/>
                <a:ext cx="8128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10"/>
              <p:cNvSpPr txBox="1"/>
              <p:nvPr/>
            </p:nvSpPr>
            <p:spPr>
              <a:xfrm>
                <a:off x="6858000" y="5486400"/>
                <a:ext cx="18543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11"/>
              <p:cNvSpPr txBox="1"/>
              <p:nvPr/>
            </p:nvSpPr>
            <p:spPr>
              <a:xfrm>
                <a:off x="1784520" y="3657600"/>
                <a:ext cx="51447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D2D33-1CEF-4125-979E-1E907CC531C6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66F5C-5CC0-4981-8A02-50592B78A264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tability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 system is stable if every bounded input produces a bounded output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 continuous-time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LTI system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is stable if and only if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4"/>
              <p:cNvSpPr txBox="1"/>
              <p:nvPr/>
            </p:nvSpPr>
            <p:spPr>
              <a:xfrm>
                <a:off x="2743200" y="4267080"/>
                <a:ext cx="3200400" cy="160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-¥</m:t>
                        </m:r>
                      </m:sub>
                      <m:sup>
                        <m:r>
                          <m:t xml:space="preserve">¥</m:t>
                        </m:r>
                      </m: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rPr>
                            <m:lit/>
                            <m:nor/>
                          </m:rPr>
                          <m:t xml:space="preserve">&lt;¥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3DD7B-DA88-48E6-87F0-BEA205631D4D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7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7E635-5007-4AA5-BADE-E3EB4255F5BC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ausal System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 system is causal if and only if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y(t</a:t>
            </a:r>
            <a:r>
              <a:rPr b="0" i="1" lang="en-US" sz="3200" spc="-1" strike="noStrike" baseline="-25000">
                <a:solidFill>
                  <a:srgbClr val="333399"/>
                </a:solidFill>
                <a:latin typeface="Arial"/>
              </a:rPr>
              <a:t>0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depends only on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x(</a:t>
            </a:r>
            <a:r>
              <a:rPr b="0" i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r </a:t>
            </a:r>
            <a:r>
              <a:rPr b="0" i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 u="sng">
                <a:solidFill>
                  <a:srgbClr val="333399"/>
                </a:solidFill>
                <a:uFillTx/>
                <a:latin typeface="Symbol"/>
                <a:ea typeface="Symbol"/>
              </a:rPr>
              <a:t>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</a:t>
            </a:r>
            <a:r>
              <a:rPr b="0" i="1" lang="en-US" sz="3200" spc="-1" strike="noStrike" baseline="-25000">
                <a:solidFill>
                  <a:srgbClr val="333399"/>
                </a:solidFill>
                <a:latin typeface="Arial"/>
              </a:rPr>
              <a:t>0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n LTI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ystem is causal if and only if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4"/>
              <p:cNvSpPr txBox="1"/>
              <p:nvPr/>
            </p:nvSpPr>
            <p:spPr>
              <a:xfrm>
                <a:off x="2209680" y="4408560"/>
                <a:ext cx="472464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for  </m:t>
                    </m:r>
                    <m:r>
                      <m:t xml:space="preserve">t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6C322-1FBE-4304-B9AC-5F6E836004EE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3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4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5AA80-A26B-4918-956F-7A3C911004E6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4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ubstitute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x(t)=ax</a:t>
            </a:r>
            <a:r>
              <a:rPr b="0" i="1" lang="en-US" sz="32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(t)+bx</a:t>
            </a:r>
            <a:r>
              <a:rPr b="0" i="1" lang="en-US" sz="32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(t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66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6600"/>
                </a:solidFill>
                <a:latin typeface="Arial"/>
              </a:rPr>
              <a:t>Therefore, convolution is linear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1029"/>
              <p:cNvSpPr txBox="1"/>
              <p:nvPr/>
            </p:nvSpPr>
            <p:spPr>
              <a:xfrm>
                <a:off x="1143000" y="2482920"/>
                <a:ext cx="7315200" cy="30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</m:e>
                      <m:e>
                        <m:r>
                          <m:t xml:space="preserve">a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τ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h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τ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dτ</m:t>
                                </m:r>
                              </m:e>
                            </m:nary>
                          </m:e>
                        </m:nary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nvolution is Linea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1028"/>
              <p:cNvSpPr txBox="1"/>
              <p:nvPr/>
            </p:nvSpPr>
            <p:spPr>
              <a:xfrm>
                <a:off x="4013280" y="2711520"/>
                <a:ext cx="1117440" cy="14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</m:mr>
                      <m:mr>
                        <m:e/>
                        <m:e/>
                        <m:e/>
                      </m:mr>
                      <m:mr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25A1D-C098-463D-807A-02739550AF73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0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1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115DD-844F-4620-B19B-226725B8DCFC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nvolution is Time-Invarian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ubstitute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x(t-t</a:t>
            </a:r>
            <a:r>
              <a:rPr b="0" i="1" lang="en-US" sz="3200" spc="-1" strike="noStrike" baseline="-25000">
                <a:solidFill>
                  <a:srgbClr val="333399"/>
                </a:solidFill>
                <a:latin typeface="Arial"/>
              </a:rPr>
              <a:t>0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214" name="Object 1028"/>
          <p:cNvGraphicFramePr/>
          <p:nvPr/>
        </p:nvGraphicFramePr>
        <p:xfrm>
          <a:off x="1371600" y="2362320"/>
          <a:ext cx="5410080" cy="133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362320"/>
                    <a:ext cx="5410080" cy="1333440"/>
                  </a:xfrm>
                  <a:prstGeom prst="rect">
                    <a:avLst/>
                  </a:prstGeom>
                  <a:ln w="38160">
                    <a:solidFill>
                      <a:srgbClr val="cce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16" name="Object 1029"/>
          <p:cNvGraphicFramePr/>
          <p:nvPr/>
        </p:nvGraphicFramePr>
        <p:xfrm>
          <a:off x="2286000" y="3924360"/>
          <a:ext cx="4533840" cy="133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7" name="Object 10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3924360"/>
                    <a:ext cx="4533840" cy="1333440"/>
                  </a:xfrm>
                  <a:prstGeom prst="rect">
                    <a:avLst/>
                  </a:prstGeom>
                  <a:ln w="38160">
                    <a:solidFill>
                      <a:srgbClr val="cce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18" name="Object 1030"/>
          <p:cNvGraphicFramePr/>
          <p:nvPr/>
        </p:nvGraphicFramePr>
        <p:xfrm>
          <a:off x="2324160" y="5448240"/>
          <a:ext cx="1866960" cy="571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9" name="Object 103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24160" y="5448240"/>
                    <a:ext cx="1866960" cy="571680"/>
                  </a:xfrm>
                  <a:prstGeom prst="rect">
                    <a:avLst/>
                  </a:prstGeom>
                  <a:ln w="38160">
                    <a:solidFill>
                      <a:srgbClr val="ccecff"/>
                    </a:solidFill>
                    <a:miter/>
                  </a:ln>
                </p:spPr>
              </p:pic>
            </p:oleObj>
          </a:graphicData>
        </a:graphic>
      </p:graphicFrame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D7795-6DB8-4F4C-9D0C-2708B0E60910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1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2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811AB-224C-40B1-97AF-AF02E7792513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nvolution of Impulses, etc.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nvolution of two impulse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nvolution of step and derivative of impuls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4"/>
              <p:cNvSpPr txBox="1"/>
              <p:nvPr/>
            </p:nvSpPr>
            <p:spPr>
              <a:xfrm>
                <a:off x="533520" y="2819520"/>
                <a:ext cx="519084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∗</m:t>
                    </m:r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5"/>
              <p:cNvSpPr txBox="1"/>
              <p:nvPr/>
            </p:nvSpPr>
            <p:spPr>
              <a:xfrm>
                <a:off x="5829480" y="2819520"/>
                <a:ext cx="316224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6"/>
              <p:cNvSpPr txBox="1"/>
              <p:nvPr/>
            </p:nvSpPr>
            <p:spPr>
              <a:xfrm>
                <a:off x="1905120" y="4978440"/>
                <a:ext cx="36496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7"/>
              <p:cNvSpPr txBox="1"/>
              <p:nvPr/>
            </p:nvSpPr>
            <p:spPr>
              <a:xfrm>
                <a:off x="5715000" y="5105520"/>
                <a:ext cx="103500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69421-39BB-45B1-A875-B04AFFAA39ED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0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EA88E-A0E5-4F50-A230-7EE78838BB04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READING ASSIGNMENT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s Lecture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hapter 9, Sects. 9-6, 9-7, and 9-8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ther Reading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citation: Ch. 9, al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ext Lecture: Start reading Chapter 10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3843A-6C7D-4FAB-8FB2-8BF577075C20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0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1CD78-85E3-407E-B2B0-5176BE38C2B2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Parallel LTI System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233" name="Picture 3" descr="_x000c_fig10-17.GIF                                                   00005D72_x000c_Macintosh HD                   ABA78158:"/>
          <p:cNvPicPr/>
          <p:nvPr/>
        </p:nvPicPr>
        <p:blipFill>
          <a:blip r:embed="rId1"/>
          <a:stretch/>
        </p:blipFill>
        <p:spPr>
          <a:xfrm>
            <a:off x="1577880" y="1370160"/>
            <a:ext cx="6499440" cy="5533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4" name="Object 4"/>
              <p:cNvSpPr txBox="1"/>
              <p:nvPr/>
            </p:nvSpPr>
            <p:spPr>
              <a:xfrm>
                <a:off x="2781360" y="4724280"/>
                <a:ext cx="32385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5"/>
              <p:cNvSpPr txBox="1"/>
              <p:nvPr/>
            </p:nvSpPr>
            <p:spPr>
              <a:xfrm>
                <a:off x="1523880" y="3098880"/>
                <a:ext cx="6480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6"/>
              <p:cNvSpPr txBox="1"/>
              <p:nvPr/>
            </p:nvSpPr>
            <p:spPr>
              <a:xfrm>
                <a:off x="5181480" y="2286000"/>
                <a:ext cx="762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7"/>
              <p:cNvSpPr txBox="1"/>
              <p:nvPr/>
            </p:nvSpPr>
            <p:spPr>
              <a:xfrm>
                <a:off x="5156280" y="3886200"/>
                <a:ext cx="8128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8"/>
              <p:cNvSpPr txBox="1"/>
              <p:nvPr/>
            </p:nvSpPr>
            <p:spPr>
              <a:xfrm>
                <a:off x="6553080" y="3124080"/>
                <a:ext cx="19306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8EE2-AED5-4F35-828D-86E826206C3B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0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1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98DE9-6729-430D-BC93-BAFC69303F8F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Another Convolution Exampl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Object 3"/>
              <p:cNvSpPr txBox="1"/>
              <p:nvPr/>
            </p:nvSpPr>
            <p:spPr>
              <a:xfrm>
                <a:off x="380880" y="4327560"/>
                <a:ext cx="8412120" cy="15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-¥</m:t>
                        </m:r>
                      </m:sub>
                      <m:sup>
                        <m:r>
                          <m:t xml:space="preserve">¥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244" name="Picture 4" descr="_x000c_fig10-12.GIF                                                   000061DD_x000c_Macintosh HD                   ABA78158:"/>
          <p:cNvPicPr/>
          <p:nvPr/>
        </p:nvPicPr>
        <p:blipFill>
          <a:blip r:embed="rId1"/>
          <a:stretch/>
        </p:blipFill>
        <p:spPr>
          <a:xfrm>
            <a:off x="1066680" y="1606680"/>
            <a:ext cx="7321680" cy="2549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5" name="Object 5"/>
          <p:cNvGraphicFramePr/>
          <p:nvPr/>
        </p:nvGraphicFramePr>
        <p:xfrm>
          <a:off x="6958080" y="2187720"/>
          <a:ext cx="1881000" cy="46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6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58080" y="2187720"/>
                    <a:ext cx="1881000" cy="46980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35CD9-CBC2-46DB-8CCF-B80F3EB86D85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8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9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9AD79-0EF6-48CD-AEF0-6004CCC597B0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Evaluating the Integral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4"/>
              <p:cNvSpPr txBox="1"/>
              <p:nvPr/>
            </p:nvSpPr>
            <p:spPr>
              <a:xfrm>
                <a:off x="1009800" y="4038480"/>
                <a:ext cx="5391000" cy="27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y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  <m:e/>
                        <m:e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           </m:t>
                          </m:r>
                          <m:r>
                            <m:t xml:space="preserve">t</m:t>
                          </m:r>
                          <m:r>
                            <m:t xml:space="preserve">&lt;</m:t>
                          </m:r>
                          <m:r>
                            <m:t xml:space="preserve">1</m:t>
                          </m:r>
                        </m:e>
                      </m:mr>
                      <m:mr>
                        <m:e/>
                        <m:e/>
                        <m:e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t</m:t>
                              </m:r>
                            </m:sup>
                            <m:e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  <m:r>
                                <m:t xml:space="preserve">dt</m:t>
                              </m:r>
                              <m:r>
                                <m:t xml:space="preserve">1</m:t>
                              </m:r>
                              <m:r>
                                <m:t xml:space="preserve">≤</m:t>
                              </m:r>
                              <m:r>
                                <m:t xml:space="preserve">t</m:t>
                              </m:r>
                              <m:r>
                                <m:t xml:space="preserve">≤</m:t>
                              </m:r>
                              <m:r>
                                <m:t xml:space="preserve">2</m:t>
                              </m:r>
                            </m:e>
                          </m:nary>
                        </m:e>
                      </m:mr>
                      <m:mr>
                        <m:e/>
                        <m:e/>
                        <m:e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  <m:e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  <m:r>
                                <m:t xml:space="preserve">dt</m:t>
                              </m:r>
                              <m:r>
                                <m:t xml:space="preserve">2</m:t>
                              </m:r>
                              <m:r>
                                <m:t xml:space="preserve">≤</m:t>
                              </m:r>
                              <m:r>
                                <m:t xml:space="preserve">t</m:t>
                              </m:r>
                            </m:e>
                          </m:nary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pic>
        <p:nvPicPr>
          <p:cNvPr id="253" name="Picture 5" descr="&#13;fig10-13a.gif                                                  000061DD_x000c_Macintosh HD                   ABA78158:"/>
          <p:cNvPicPr/>
          <p:nvPr/>
        </p:nvPicPr>
        <p:blipFill>
          <a:blip r:embed="rId1"/>
          <a:stretch/>
        </p:blipFill>
        <p:spPr>
          <a:xfrm>
            <a:off x="838080" y="1371600"/>
            <a:ext cx="734076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B41AF-C9C6-4389-AF64-BAB4863459F6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5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6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C2C27-D6CA-495A-97F8-9DC6E783EC0F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olution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Object 4"/>
              <p:cNvSpPr txBox="1"/>
              <p:nvPr/>
            </p:nvSpPr>
            <p:spPr>
              <a:xfrm>
                <a:off x="4483080" y="3232080"/>
                <a:ext cx="1778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Object 5"/>
              <p:cNvSpPr txBox="1"/>
              <p:nvPr/>
            </p:nvSpPr>
            <p:spPr>
              <a:xfrm>
                <a:off x="168120" y="1790640"/>
                <a:ext cx="9280800" cy="209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y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  <m:e/>
                        <m:e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t</m:t>
                              </m:r>
                            </m:sup>
                            <m:e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  <m:r>
                                <m:t xml:space="preserve">dt</m:t>
                              </m:r>
                              <m:r>
                                <m:t xml:space="preserve">=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  <m:sSubSup>
                                <m:e>
                                  <m:r>
                                    <m:t xml:space="preserve">|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t</m:t>
                                  </m:r>
                                </m:sup>
                              </m:sSubSup>
                              <m:r>
                                <m:rPr>
                                  <m:lit/>
                                  <m:nor/>
                                </m:rPr>
                                <m:t xml:space="preserve">=1-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   </m:t>
                              </m:r>
                              <m:r>
                                <m:t xml:space="preserve">1</m:t>
                              </m:r>
                              <m:r>
                                <m:t xml:space="preserve">≤</m:t>
                              </m:r>
                              <m:r>
                                <m:t xml:space="preserve">t</m:t>
                              </m:r>
                              <m:r>
                                <m:t xml:space="preserve">≤</m:t>
                              </m:r>
                              <m:r>
                                <m:t xml:space="preserve">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  </m:t>
                              </m:r>
                            </m:e>
                          </m:nary>
                        </m:e>
                      </m:mr>
                      <m:mr>
                        <m:e/>
                        <m:e/>
                        <m:e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  <m:e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  <m:r>
                                <m:t xml:space="preserve">dt</m:t>
                              </m:r>
                              <m:r>
                                <m:t xml:space="preserve">=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  <m:sSubSup>
                                <m:e>
                                  <m:r>
                                    <m:t xml:space="preserve">|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=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   </m:t>
                              </m:r>
                              <m:r>
                                <m:t xml:space="preserve">2</m:t>
                              </m:r>
                              <m:r>
                                <m:t xml:space="preserve">≤</m:t>
                              </m:r>
                              <m:r>
                                <m:t xml:space="preserve">t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  </m:t>
                              </m:r>
                            </m:e>
                          </m:nary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pic>
        <p:nvPicPr>
          <p:cNvPr id="261" name="Picture 6" descr="&#13;fig10-13b.gif                                                  000061DD_x000c_Macintosh HD                   ABA78158:"/>
          <p:cNvPicPr/>
          <p:nvPr/>
        </p:nvPicPr>
        <p:blipFill>
          <a:blip r:embed="rId1"/>
          <a:stretch/>
        </p:blipFill>
        <p:spPr>
          <a:xfrm>
            <a:off x="1143000" y="3962520"/>
            <a:ext cx="7367760" cy="2541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2" name="Object 7"/>
              <p:cNvSpPr txBox="1"/>
              <p:nvPr/>
            </p:nvSpPr>
            <p:spPr>
              <a:xfrm>
                <a:off x="1066680" y="5715000"/>
                <a:ext cx="26672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   t&lt;1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04B66-0013-4DE6-ADD0-FFFE3E0FCBE4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4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5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1D301-5AB7-4EF4-81A7-9D1639705E01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“</a:t>
            </a: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lipping and Shifting”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267" name="Picture 3" descr="_x000c_fig10-10.GIF                                                   00005D72_x000c_Macintosh HD                   ABA78158:"/>
          <p:cNvPicPr/>
          <p:nvPr/>
        </p:nvPicPr>
        <p:blipFill>
          <a:blip r:embed="rId1"/>
          <a:stretch/>
        </p:blipFill>
        <p:spPr>
          <a:xfrm>
            <a:off x="685800" y="1622520"/>
            <a:ext cx="8004240" cy="4854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8" name="Object 4"/>
              <p:cNvSpPr txBox="1"/>
              <p:nvPr/>
            </p:nvSpPr>
            <p:spPr>
              <a:xfrm>
                <a:off x="3772080" y="1676520"/>
                <a:ext cx="7236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69" name="Object 5"/>
          <p:cNvGraphicFramePr/>
          <p:nvPr/>
        </p:nvGraphicFramePr>
        <p:xfrm>
          <a:off x="3809880" y="3352680"/>
          <a:ext cx="3962520" cy="470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9880" y="3352680"/>
                    <a:ext cx="3962520" cy="47016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71" name="Object 6"/>
              <p:cNvSpPr txBox="1"/>
              <p:nvPr/>
            </p:nvSpPr>
            <p:spPr>
              <a:xfrm>
                <a:off x="3809880" y="4800600"/>
                <a:ext cx="49914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2" name="Text Box 7"/>
          <p:cNvSpPr/>
          <p:nvPr/>
        </p:nvSpPr>
        <p:spPr>
          <a:xfrm>
            <a:off x="1055520" y="3200400"/>
            <a:ext cx="147024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flipping”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3" name="Text Box 8"/>
          <p:cNvSpPr/>
          <p:nvPr/>
        </p:nvSpPr>
        <p:spPr>
          <a:xfrm>
            <a:off x="231120" y="4784760"/>
            <a:ext cx="2997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flipping and shifting”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9"/>
              <p:cNvSpPr txBox="1"/>
              <p:nvPr/>
            </p:nvSpPr>
            <p:spPr>
              <a:xfrm>
                <a:off x="6400800" y="6095880"/>
                <a:ext cx="2667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10"/>
              <p:cNvSpPr txBox="1"/>
              <p:nvPr/>
            </p:nvSpPr>
            <p:spPr>
              <a:xfrm>
                <a:off x="5181480" y="6095880"/>
                <a:ext cx="76212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6B144-F5D9-40C4-AB70-2909CBA37A3C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7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8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5A649-EEB0-4D86-9FC4-1F064EE42F13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nvolution GUI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280" name="Picture 3" descr="_x000e_cconv-demo.gif                                                 0000E524_x0005_JIM-2                          B29E03F8:"/>
          <p:cNvPicPr/>
          <p:nvPr/>
        </p:nvPicPr>
        <p:blipFill>
          <a:blip r:embed="rId1"/>
          <a:stretch/>
        </p:blipFill>
        <p:spPr>
          <a:xfrm>
            <a:off x="914400" y="1295280"/>
            <a:ext cx="7651800" cy="537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F3DA6-69D3-4345-994F-6A2A40753D7C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2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3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704E8-C63C-475C-9B5C-A7A37E414FAD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nvolution Movi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285" name="Picture 3" descr="_x0008_demo.GIF                                                       000061DD_x000c_Macintosh HD                   ABA78158:"/>
          <p:cNvPicPr/>
          <p:nvPr/>
        </p:nvPicPr>
        <p:blipFill>
          <a:blip r:embed="rId1"/>
          <a:stretch/>
        </p:blipFill>
        <p:spPr>
          <a:xfrm>
            <a:off x="1600200" y="1782720"/>
            <a:ext cx="6153120" cy="484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8F115-0DEC-4838-B3F7-A340E91300EB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5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266FA-13DD-4440-90F4-93BA9200B581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ECTURE OBJECTIV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Evaluating convolution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Impuls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TI System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tability and causality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ascade and parallel connection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31470-BFD1-44D2-8311-ED0C55CA4F85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E61D8-BE91-47C2-9C83-E824940DE8AC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inear and Time-Invariant (LTI) System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f a continuous-time system is both linear and time-invariant, then the output 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y(t)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is related to the input 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x(t)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by a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onvolution integra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ere 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h(t)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is the </a:t>
            </a:r>
            <a:r>
              <a:rPr b="1" i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impulse response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of the system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4"/>
              <p:cNvSpPr txBox="1"/>
              <p:nvPr/>
            </p:nvSpPr>
            <p:spPr>
              <a:xfrm>
                <a:off x="1143000" y="3462480"/>
                <a:ext cx="7010280" cy="16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27286-1C20-4973-BF82-61F28263E1A3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6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26BD6-B5F8-4C56-885C-E6B5AC243AD3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08" name="Picture 7" descr="F:\users\Ddrive\Courses\2025-s03\Lectures\Lect20xLect17\x_and_h.png"/>
          <p:cNvPicPr/>
          <p:nvPr/>
        </p:nvPicPr>
        <p:blipFill>
          <a:blip r:embed="rId1"/>
          <a:stretch/>
        </p:blipFill>
        <p:spPr>
          <a:xfrm>
            <a:off x="1295280" y="1828800"/>
            <a:ext cx="7086600" cy="21542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Evaluating a Convolution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4"/>
              <p:cNvSpPr txBox="1"/>
              <p:nvPr/>
            </p:nvSpPr>
            <p:spPr>
              <a:xfrm>
                <a:off x="838080" y="4267080"/>
                <a:ext cx="7543800" cy="17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8"/>
              <p:cNvSpPr txBox="1"/>
              <p:nvPr/>
            </p:nvSpPr>
            <p:spPr>
              <a:xfrm>
                <a:off x="6934320" y="1841400"/>
                <a:ext cx="183672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9"/>
              <p:cNvSpPr txBox="1"/>
              <p:nvPr/>
            </p:nvSpPr>
            <p:spPr>
              <a:xfrm>
                <a:off x="152280" y="1828800"/>
                <a:ext cx="166536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C3ABE-5831-4967-A03D-3041A91F7365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4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1453D-218B-4C05-89E0-1266618073EB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16" name="Picture 11" descr="F:\users\Ddrive\Courses\2025-s03\Lectures\Lect20xLect17\flipping.png"/>
          <p:cNvPicPr/>
          <p:nvPr/>
        </p:nvPicPr>
        <p:blipFill>
          <a:blip r:embed="rId1"/>
          <a:stretch/>
        </p:blipFill>
        <p:spPr>
          <a:xfrm>
            <a:off x="1219320" y="1220760"/>
            <a:ext cx="6629400" cy="54198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“</a:t>
            </a: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lipping and Shifting”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4"/>
              <p:cNvSpPr txBox="1"/>
              <p:nvPr/>
            </p:nvSpPr>
            <p:spPr>
              <a:xfrm>
                <a:off x="3657600" y="1143000"/>
                <a:ext cx="6858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τ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19" name="Object 5"/>
          <p:cNvGraphicFramePr/>
          <p:nvPr/>
        </p:nvGraphicFramePr>
        <p:xfrm>
          <a:off x="3657600" y="3187800"/>
          <a:ext cx="3962520" cy="46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57600" y="3187800"/>
                    <a:ext cx="3962520" cy="46980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1" name="Object 6"/>
              <p:cNvSpPr txBox="1"/>
              <p:nvPr/>
            </p:nvSpPr>
            <p:spPr>
              <a:xfrm>
                <a:off x="3657600" y="5092560"/>
                <a:ext cx="49910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Text Box 7"/>
          <p:cNvSpPr/>
          <p:nvPr/>
        </p:nvSpPr>
        <p:spPr>
          <a:xfrm>
            <a:off x="309600" y="2971800"/>
            <a:ext cx="147024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flipping”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231120" y="5019840"/>
            <a:ext cx="2997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flipping and shifting”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9"/>
              <p:cNvSpPr txBox="1"/>
              <p:nvPr/>
            </p:nvSpPr>
            <p:spPr>
              <a:xfrm>
                <a:off x="5791320" y="6477120"/>
                <a:ext cx="2221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10"/>
              <p:cNvSpPr txBox="1"/>
              <p:nvPr/>
            </p:nvSpPr>
            <p:spPr>
              <a:xfrm>
                <a:off x="4800600" y="6440400"/>
                <a:ext cx="6858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8F12-F477-4E74-B8E1-D5F82A96F025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F982F-D27B-4088-8B7E-347041B9D9B2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Evaluating the Integral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5"/>
              <p:cNvSpPr txBox="1"/>
              <p:nvPr/>
            </p:nvSpPr>
            <p:spPr>
              <a:xfrm>
                <a:off x="2057400" y="4429080"/>
                <a:ext cx="5388120" cy="22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t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nary>
                                <m:naryPr>
                                  <m:chr m:val="∫"/>
                                </m:naryPr>
                                <m:sub>
                                  <m:r>
                                    <m:t xml:space="preserve">0</m:t>
                                  </m:r>
                                </m:sub>
                                <m:sup>
                                  <m:r>
                                    <m:t xml:space="preserve">t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  <m:e>
                                  <m:sSup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p>
                                      <m:r>
                                        <m:t xml:space="preserve">−</m:t>
                                      </m:r>
                                      <m:r>
                                        <m:t xml:space="preserve">τ</m:t>
                                      </m:r>
                                    </m:sup>
                                  </m:sSup>
                                  <m:r>
                                    <m:t xml:space="preserve">dτ</m:t>
                                  </m:r>
                                  <m:r>
                                    <m:t xml:space="preserve"> </m:t>
                                  </m:r>
                                </m:e>
                              </m:nary>
                            </m:e>
                            <m:e>
                              <m:r>
                                <m:t xml:space="preserve">t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32" name="Picture 7" descr="F:\users\Ddrive\Courses\2025-s03\Lectures\Lect20xLect17\eval_conv.png"/>
          <p:cNvPicPr/>
          <p:nvPr/>
        </p:nvPicPr>
        <p:blipFill>
          <a:blip r:embed="rId1"/>
          <a:stretch/>
        </p:blipFill>
        <p:spPr>
          <a:xfrm>
            <a:off x="1371600" y="1600200"/>
            <a:ext cx="6781680" cy="27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DED58-BE9B-4D49-8DDC-A98054E9A3ED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5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6F064-2BA5-476D-95AC-5FDED43BFB20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36" name="Picture 1032" descr="F:\users\Ddrive\Courses\2025-s03\Lectures\Lect20xLect17\yt_from_eval_conv.png"/>
          <p:cNvPicPr/>
          <p:nvPr/>
        </p:nvPicPr>
        <p:blipFill>
          <a:blip r:embed="rId1"/>
          <a:stretch/>
        </p:blipFill>
        <p:spPr>
          <a:xfrm>
            <a:off x="990720" y="3581280"/>
            <a:ext cx="7619760" cy="30672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olution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1029"/>
              <p:cNvSpPr txBox="1"/>
              <p:nvPr/>
            </p:nvSpPr>
            <p:spPr>
              <a:xfrm>
                <a:off x="762120" y="5546880"/>
                <a:ext cx="22762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r>
                      <m:rPr>
                        <m:lit/>
                        <m:nor/>
                      </m:rPr>
                      <m:t xml:space="preserve">t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1030"/>
              <p:cNvSpPr txBox="1"/>
              <p:nvPr/>
            </p:nvSpPr>
            <p:spPr>
              <a:xfrm>
                <a:off x="4483080" y="3232080"/>
                <a:ext cx="1778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1031"/>
              <p:cNvSpPr txBox="1"/>
              <p:nvPr/>
            </p:nvSpPr>
            <p:spPr>
              <a:xfrm>
                <a:off x="1523880" y="1569960"/>
                <a:ext cx="5334120" cy="18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y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  <m:e/>
                        <m:e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t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p>
                            <m:e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τ</m:t>
                                  </m:r>
                                </m:sup>
                              </m:sSup>
                              <m:r>
                                <m:t xml:space="preserve">dτ</m:t>
                              </m:r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τ</m:t>
                                  </m:r>
                                </m:sup>
                              </m:sSup>
                              <m:sSubSup>
                                <m:e>
                                  <m:r>
                                    <m:t xml:space="preserve">|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  <m:sup>
                                  <m:r>
                                    <m:t xml:space="preserve">t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bSup>
                              <m:r>
                                <m:rPr>
                                  <m:lit/>
                                  <m:nor/>
                                </m:rPr>
                                <m:t xml:space="preserve">     </m:t>
                              </m:r>
                              <m:r>
                                <m:t xml:space="preserve"> </m:t>
                              </m:r>
                            </m:e>
                          </m:nary>
                        </m:e>
                      </m:mr>
                      <m:mr>
                        <m:e/>
                        <m:e/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            </m:t>
                          </m:r>
                          <m:r>
                            <m:t xml:space="preserve">t</m:t>
                          </m:r>
                          <m:r>
                            <m:t xml:space="preserve">≥</m:t>
                          </m:r>
                          <m:r>
                            <m:t xml:space="preserve">1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402EF-6E6F-4E3D-825B-552CEACA62E7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3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75B10-3E62-440D-9152-33CEBC41D486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nvolution GUI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146" name="Picture 1030" descr="F:\users\Ddrive\Courses\2025-s03\Lectures\Lect20xLect17\cconvdemo2.png"/>
          <p:cNvPicPr/>
          <p:nvPr/>
        </p:nvPicPr>
        <p:blipFill>
          <a:blip r:embed="rId1"/>
          <a:stretch/>
        </p:blipFill>
        <p:spPr>
          <a:xfrm>
            <a:off x="647640" y="990720"/>
            <a:ext cx="7962840" cy="5835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9T04:53:29Z</dcterms:created>
  <dc:creator>Jim McClellan</dc:creator>
  <dc:description/>
  <dc:language>en-US</dc:language>
  <cp:lastModifiedBy>Fatih  Alagoz</cp:lastModifiedBy>
  <cp:lastPrinted>1998-11-30T13:48:12Z</cp:lastPrinted>
  <dcterms:modified xsi:type="dcterms:W3CDTF">2013-05-16T00:50:41Z</dcterms:modified>
  <cp:revision>365</cp:revision>
  <dc:subject/>
  <dc:title>SPFirst Lecture #2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users.ece.gatech.edu/mcclella</vt:lpwstr>
  </property>
  <property fmtid="{D5CDD505-2E9C-101B-9397-08002B2CF9AE}" pid="9" name="LinkColor">
    <vt:r8>16711782</vt:r8>
  </property>
  <property fmtid="{D5CDD505-2E9C-101B-9397-08002B2CF9AE}" pid="10" name="MailAddress">
    <vt:lpwstr>jim.mcclellan@ece.gatech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D: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