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3B89-199E-4E17-A070-C8D7AE7D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C02E-A516-4A5E-AC16-262FF18F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88B5-C650-4870-A473-F9D99377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1CED-B010-4005-9F8D-CC19D8CF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998E-91B9-4B63-89A6-B195B9AF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C0CF-126A-4101-88BA-408601CD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71BB-B9E4-422C-BBEC-157B52E8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637E-4A82-4DC8-8314-F296CACA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CE6C-A19A-4B4E-9DFB-77E371A5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41FB-3786-4926-BFEF-CDCB89E4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740B-EB58-461A-B7A1-BD076F37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8F4F-4DA1-4EF1-9B62-775BD710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FF5D-1A1E-4B7F-BA32-0FCED1D9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4618-A43C-4EB9-858B-5F18F3FA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B74B-B97B-49E1-88B7-280DE84E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8DB9-F74A-49E2-8C16-812D77D8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81DA-367E-4039-9849-18C16F1D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E913-16B1-489D-9160-1870EC3A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B73-ED0C-440F-B7E7-EEA4D330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E5F3-BE3C-4D8C-AE05-013A98B7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64E5-FF90-4072-9266-67AF3233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461C-32D9-4B26-881A-1B1BB972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0989-C890-4226-9042-B507F0BB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F8A4-0E7A-4758-8304-5620FD55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20FA-FEEB-4BCC-96A4-9F61E6C328F4}" type="datetime">
              <a:rPr b="0" lang="en-US" sz="1200" spc="-1" strike="noStrike">
                <a:solidFill>
                  <a:srgbClr val="5e574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5B31-756B-4FA5-89D6-8CDCA3442B87}" type="slidenum">
              <a:rPr b="0" lang="en-US" sz="12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8316-6DC8-4DE5-AE1B-7831AFA53796}" type="datetime">
              <a:rPr b="0" lang="en-US" sz="1200" spc="-1" strike="noStrike">
                <a:solidFill>
                  <a:srgbClr val="5e574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BFD3-5CC2-424E-ACD8-2276B3A6F880}" type="slidenum">
              <a:rPr b="0" lang="en-US" sz="12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52480" y="35049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11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inearity &amp; Time-Invarianc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volu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F83A-8AF5-48C7-AE0D-1008366989A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DD3E328-8027-49BF-9944-AA71EF3358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PECIAL INPUT SIGNAL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x[n] = SINUSOI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x[n] has only one NON-ZERO VALU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752480" y="4800600"/>
            <a:ext cx="6464160" cy="1374120"/>
            <a:chOff x="1752480" y="4800600"/>
            <a:chExt cx="6464160" cy="1374120"/>
          </a:xfrm>
        </p:grpSpPr>
        <p:sp>
          <p:nvSpPr>
            <p:cNvPr id="147" name=""/>
            <p:cNvSpPr/>
            <p:nvPr/>
          </p:nvSpPr>
          <p:spPr>
            <a:xfrm>
              <a:off x="1752480" y="5867280"/>
              <a:ext cx="60962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19720" y="4876920"/>
              <a:ext cx="0" cy="12952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419720" y="5105520"/>
              <a:ext cx="0" cy="761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80060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18148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56272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594360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632448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670572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03848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65760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327672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89548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51460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66160" y="480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50160" y="5715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657080" y="4572000"/>
            <a:ext cx="198972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NIT-IMPULS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28280" y="1905120"/>
            <a:ext cx="326232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REQUENCY RESPONS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800600" y="3048120"/>
                <a:ext cx="3276720" cy="16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≠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15E6-2131-4715-A25E-0D696B7E1FC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05C3A-E7F3-4DF3-B574-A6705036B2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R IMPULSE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volution = Filter Defini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lter Coeffs = Impulse Respon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320" y="3005280"/>
            <a:ext cx="9067680" cy="1795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09680" y="4876920"/>
                <a:ext cx="381024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209680" y="4876920"/>
                <a:ext cx="381024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3032-4436-40FA-9495-19292077414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1EB9E-E82D-4A9A-8A66-E8C297681E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95280" y="2541600"/>
                <a:ext cx="81248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ATH FORMULA for h[n]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s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HIFTED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MPULSES to write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486400" y="2971800"/>
            <a:ext cx="1828800" cy="1143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066680" y="3200400"/>
            <a:ext cx="6464160" cy="2745720"/>
            <a:chOff x="1066680" y="3200400"/>
            <a:chExt cx="6464160" cy="2745720"/>
          </a:xfrm>
        </p:grpSpPr>
        <p:sp>
          <p:nvSpPr>
            <p:cNvPr id="176" name=""/>
            <p:cNvSpPr/>
            <p:nvPr/>
          </p:nvSpPr>
          <p:spPr>
            <a:xfrm>
              <a:off x="1066680" y="4952880"/>
              <a:ext cx="60962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962520"/>
              <a:ext cx="0" cy="10666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733920" y="4191120"/>
              <a:ext cx="0" cy="761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3868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1992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5268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7180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092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0968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2880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80360" y="3886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64360" y="48006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14800" y="4952880"/>
              <a:ext cx="0" cy="7621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495680" y="3428640"/>
              <a:ext cx="0" cy="1523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257800" y="4191120"/>
              <a:ext cx="0" cy="761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76920" y="4952880"/>
              <a:ext cx="0" cy="7621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55400" y="54864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–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18360" y="3200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55720" y="4924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05520" y="4876920"/>
              <a:ext cx="3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3333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2743200" y="3505320"/>
                  <a:ext cx="75888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04920" y="5638680"/>
                <a:ext cx="32256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B788-8B1A-444E-9C3C-74B535E96ED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977CE-4326-4361-8633-3CFE319A36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362320" y="3949560"/>
                <a:ext cx="5181480" cy="17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TI: Convolution Su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Output = Convolution of x[n] &amp; h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ATION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ere is the FIR case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495680" y="3246480"/>
            <a:ext cx="3892680" cy="2974320"/>
            <a:chOff x="4495680" y="3246480"/>
            <a:chExt cx="3892680" cy="2974320"/>
          </a:xfrm>
        </p:grpSpPr>
        <p:sp>
          <p:nvSpPr>
            <p:cNvPr id="202" name=""/>
            <p:cNvSpPr/>
            <p:nvPr/>
          </p:nvSpPr>
          <p:spPr>
            <a:xfrm>
              <a:off x="6157800" y="3246480"/>
              <a:ext cx="223056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INITE LIMITS</a:t>
              </a:r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495680" y="3505320"/>
              <a:ext cx="1524240" cy="6858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852880" y="5761080"/>
              <a:ext cx="223056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INITE LIMITS</a:t>
              </a:r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4647960" y="5486400"/>
              <a:ext cx="1066680" cy="533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865080" y="5046840"/>
            <a:ext cx="4162680" cy="1292400"/>
            <a:chOff x="865080" y="5046840"/>
            <a:chExt cx="4162680" cy="1292400"/>
          </a:xfrm>
        </p:grpSpPr>
        <p:sp>
          <p:nvSpPr>
            <p:cNvPr id="207" name=""/>
            <p:cNvSpPr/>
            <p:nvPr/>
          </p:nvSpPr>
          <p:spPr>
            <a:xfrm>
              <a:off x="865080" y="5759640"/>
              <a:ext cx="2113200" cy="5796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Same as 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 b</a:t>
              </a:r>
              <a:r>
                <a:rPr b="1" lang="en-US" sz="2800" spc="-1" strike="noStrike" baseline="-25000">
                  <a:solidFill>
                    <a:srgbClr val="333399"/>
                  </a:solidFill>
                  <a:latin typeface="Arial"/>
                </a:rPr>
                <a:t>k</a:t>
              </a:r>
              <a:endParaRPr b="0" lang="en-US" sz="28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08160" y="5046840"/>
              <a:ext cx="2019600" cy="1179360"/>
            </a:xfrm>
            <a:custGeom>
              <a:avLst/>
              <a:gdLst/>
              <a:ahLst/>
              <a:rect l="l" t="t" r="r" b="b"/>
              <a:pathLst>
                <a:path w="1272" h="743">
                  <a:moveTo>
                    <a:pt x="0" y="672"/>
                  </a:moveTo>
                  <a:cubicBezTo>
                    <a:pt x="144" y="707"/>
                    <a:pt x="288" y="743"/>
                    <a:pt x="480" y="720"/>
                  </a:cubicBezTo>
                  <a:cubicBezTo>
                    <a:pt x="671" y="696"/>
                    <a:pt x="1032" y="648"/>
                    <a:pt x="1152" y="528"/>
                  </a:cubicBezTo>
                  <a:cubicBezTo>
                    <a:pt x="1272" y="408"/>
                    <a:pt x="1236" y="204"/>
                    <a:pt x="1200" y="0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505320" y="2332080"/>
                <a:ext cx="30351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6497-2DCA-4CAB-898D-56177837950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DA24E1-E3F8-4683-8613-0A0871D439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600200" y="2735280"/>
          <a:ext cx="5715000" cy="40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735280"/>
                    <a:ext cx="571500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3520" y="1654200"/>
                <a:ext cx="812484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33520" y="4114800"/>
                <a:ext cx="162396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]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t xml:space="preserve">]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3</m:t>
                        </m:r>
                        <m:r>
                          <m:t xml:space="preserve">]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4</m:t>
                        </m:r>
                        <m:r>
                          <m:t xml:space="preserve">]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E1C4-41C2-4E72-85C3-5AA29654DDF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B12368-EE0E-4040-B3EB-0EF9DE0483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GENERAL FIR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189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LIDE a Length-L WINDOW over x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2279520"/>
            <a:ext cx="9296280" cy="3664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130640" y="5900760"/>
            <a:ext cx="70668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77800" y="5900760"/>
            <a:ext cx="108000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n-M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2286000"/>
            <a:ext cx="3048120" cy="1143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2884-6EA3-44A9-8C67-3EED11931E6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07FEC-39C8-46E8-999B-EE417AB22F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CONVDEMO: MATLAB GUI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888840" y="1193760"/>
            <a:ext cx="7366320" cy="551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9C8F-8144-485A-9A55-373F0F67BB6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85FC3-5998-4FBF-B789-E29CC8BF39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124080" y="5562720"/>
                <a:ext cx="41641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733040"/>
            <a:ext cx="817884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 Filter is “FIRST DIFFERENCE”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[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] =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[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] -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[n-1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PUT is “UNIT STEP”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4724280"/>
            <a:ext cx="8178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9880" y="3505320"/>
            <a:ext cx="5029200" cy="1882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11280" y="3581280"/>
                <a:ext cx="274140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124080" y="5562720"/>
                <a:ext cx="54975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6C4F-47DE-4E80-B417-142BBA23B8F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4CAED-5A05-4482-8036-E661E9B6F490}" type="datetime1">
              <a:rPr lang="en-US"/>
              <a:t>07/30/26</a:t>
            </a:fld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ARDWARE STRUCTUR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INTERNAL STRUCTUR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f “FILTER”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COMPONENTS ARE NEEDED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OW DO WE “HOOK” THEM TOGETHER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GNAL FLOW GRAPH NOT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1981080"/>
            <a:ext cx="19051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FILT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24382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05320" y="24382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33840" y="19810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y[n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47000" y="19810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x[n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800600" y="1828800"/>
                <a:ext cx="41148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F846-8274-4A5B-BBC7-E0D87F7E83F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AB572-6B58-4B7E-A5BC-67D84E6AA7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ARDWARE ATO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dd, Multiply &amp; Stor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6320" y="2989440"/>
            <a:ext cx="6858000" cy="3755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257800" y="1752480"/>
                <a:ext cx="3505320" cy="12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57200" y="4724280"/>
                <a:ext cx="20955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β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226040" y="6172200"/>
                <a:ext cx="22860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6019920" y="4425840"/>
                <a:ext cx="30034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6842-EC84-4732-9778-EF7C41BE07A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62794-D9C2-40F7-B5BC-6EE2D82247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D7C4-6209-4E91-970B-7E5B2369CCE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18C6E7-ABFA-426E-AD2B-ED8A1D1B1BF3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R STRUCTUR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rect Form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76320" y="3497400"/>
            <a:ext cx="9067680" cy="32083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42640" y="2743200"/>
            <a:ext cx="1920960" cy="70380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IGNA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LOW GRAPH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320" y="4800600"/>
            <a:ext cx="609480" cy="83808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4724280"/>
            <a:ext cx="609840" cy="83844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4724280"/>
            <a:ext cx="609840" cy="83844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781680" y="4724280"/>
            <a:ext cx="609840" cy="83844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038480" y="1752480"/>
                <a:ext cx="4572000" cy="16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AA51-B4A2-4B59-9D87-4AA2B53DFD1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AAFA2-451A-47F6-97C8-0D6A51CEFF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oore’s Law for TI DSP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6320" y="1166760"/>
            <a:ext cx="8839080" cy="57276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705720" y="4070520"/>
            <a:ext cx="228600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uble ever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8 months 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07880" y="1752480"/>
            <a:ext cx="195768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OG SCAL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1A04-C846-4FFD-B901-0D3A0EAE57E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B9E3B-0D83-40B8-BB2A-FAE9B39E03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YSTEM PROPERT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MATHEMATICAL DESCRIP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TIME-INVARIANC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LINEARIT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USALIT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 output prior to input”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05320" y="1905120"/>
            <a:ext cx="190476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14600" y="236232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10080" y="236232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538600" y="19051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y[n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51760" y="19051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x[n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1E45-5DFF-41A3-8283-234E79B955E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9C0E6-AA27-4416-B39F-DE0336258E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IME-INVARIANC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DEA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ime-Shifting the input will cause th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am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time-shift in the output”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QUIVALENTLY,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e can prove th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time origin (n=0) is picked arbitrar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DBDC-6023-4075-8D55-140BC625F9E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79DE1-0969-4544-987A-E7EC365478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ESTING Time-Invarianc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4355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779480" y="4038480"/>
            <a:ext cx="5383440" cy="2222640"/>
          </a:xfrm>
          <a:custGeom>
            <a:avLst/>
            <a:gdLst/>
            <a:ahLst/>
            <a:rect l="l" t="t" r="r" b="b"/>
            <a:pathLst>
              <a:path w="3391" h="1400">
                <a:moveTo>
                  <a:pt x="3176" y="768"/>
                </a:moveTo>
                <a:cubicBezTo>
                  <a:pt x="3283" y="932"/>
                  <a:pt x="3391" y="1096"/>
                  <a:pt x="3128" y="1200"/>
                </a:cubicBezTo>
                <a:cubicBezTo>
                  <a:pt x="2864" y="1303"/>
                  <a:pt x="2072" y="1400"/>
                  <a:pt x="1592" y="1392"/>
                </a:cubicBezTo>
                <a:cubicBezTo>
                  <a:pt x="1112" y="1384"/>
                  <a:pt x="495" y="1383"/>
                  <a:pt x="248" y="1152"/>
                </a:cubicBezTo>
                <a:cubicBezTo>
                  <a:pt x="0" y="920"/>
                  <a:pt x="52" y="460"/>
                  <a:pt x="104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5849-03A9-464B-A5CE-96E51913150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6696F-7346-43F2-AFBD-FF8A068EE3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NEAR SYST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INEARITY = Two Properti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CAL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oubling x[n] will double y[n]”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UPERPOSITI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dding two inputs gives an output that is the sum of the individual outputs”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2D7B-11AB-43FA-92C2-B6E49274E46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67A27-025F-4643-BEF5-CB2308AAFC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ESTING LINEARI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47210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52280" y="3581280"/>
            <a:ext cx="2286000" cy="25146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4120" y="1676520"/>
            <a:ext cx="1904760" cy="25146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F69D-D824-4E9D-B1B3-0EF6C418F5B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0FF15-6187-4178-AE71-BA0C68DE52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TI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TI: 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ear &amp;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e-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varia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MPLETELY CHARACTERIZED by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IMPULSE RESPONS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[n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CONVOLU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  y[n] = x[n]*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[n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“rule”defining the system can ALWAYS be re-written as convol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 Example: h[n] is same as b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955A-0983-4C83-BABB-78D77F5876C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B8AAC-DB91-4ED9-A893-58D6D47937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733040"/>
            <a:ext cx="817884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R Filter is “FIRST DIFFERENCE”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] =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] -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-1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rite output as a convolu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ed impulse respon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482760" indent="-185760">
              <a:lnSpc>
                <a:spcPct val="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n, another way to compute the output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4724280"/>
            <a:ext cx="8178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693880" y="3581280"/>
                <a:ext cx="34527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133720" y="4724280"/>
                <a:ext cx="4678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</m:d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05BF-9414-4256-89F4-B444475F5F4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61684-72D9-42E5-BBEF-44D230BF3740}" type="datetime1">
              <a:rPr lang="en-US"/>
              <a:t>07/30/26</a:t>
            </a:fld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oes the order of S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&amp; S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matter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, 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LTI SYSTEMS can be rearranged !!!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ARE THE FILTER COEFFS?   {b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3898800"/>
            <a:ext cx="9144000" cy="21970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813760" y="4876920"/>
            <a:ext cx="583200" cy="648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699960" y="4876920"/>
            <a:ext cx="583200" cy="648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F897-EB03-460C-9447-AA3469328DE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8D5F1F-63F6-4E9B-9149-AF58CA35FBD9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5, Sections 5-5 and 5-6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ction 5-4 will be covered, but not “in depth”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. 5, Sects 5-6, 5-7 &amp; 5-8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NVOL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 start Chapter 6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EDC-A7E9-4B08-8D3D-FEAFC57676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27CF2-29D6-409F-BF2B-C467C4F017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EQUIVALEN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nd “overall” h[n] for a cascade 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57200" y="2235240"/>
            <a:ext cx="8305920" cy="46227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829520" y="3048120"/>
            <a:ext cx="482400" cy="5101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01520" y="3048120"/>
            <a:ext cx="482400" cy="5101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20640" y="5867280"/>
            <a:ext cx="482400" cy="5101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24600" y="5867280"/>
            <a:ext cx="482400" cy="5101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3048120"/>
            <a:ext cx="2133720" cy="23619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1981080" y="2819520"/>
            <a:ext cx="3353040" cy="2666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781680" y="4572000"/>
            <a:ext cx="2057400" cy="3808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564A-4186-473A-A659-971597EAB05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E32D1-2F8F-4906-99BC-4A70712FE499}" type="datetime1">
              <a:rPr lang="en-US"/>
              <a:t>07/30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61A1-498A-4E13-89BA-F35FE2F1350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C27B65-8ED1-4C94-B290-40B719FCB903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4266720"/>
            <a:ext cx="8178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LOCK DIAGRAM REPRESENT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onents for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Hardwar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nnect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imple Filters Together to Build More Complicated System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44680" y="2514600"/>
            <a:ext cx="217728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TI SYSTEM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1752480"/>
            <a:ext cx="81788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GENERAL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PROPERTIES of FILTER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L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EARI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ME-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VARIANC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==&gt;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CONVOLU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5D1B-B6C9-46BD-AFBD-7C51687810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4C491-5B81-44F9-B017-5FA60316C2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ULSE RESPONSE, 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R case:  same a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VOLU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ENERAL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ENERAL CLASS of SYSTEM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INEAR     and     TIME-INVARIAN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LL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LTI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systems have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[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] &amp; use convolu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OVERVIEW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276720" y="3548160"/>
                <a:ext cx="30477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257800" y="1752480"/>
                <a:ext cx="8510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95680" y="2438280"/>
                <a:ext cx="8161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31B2-B2C8-4290-A281-26C548C50A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5EFBD-9AEF-4BAA-B518-00A7D05611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CENTRATE on the FILTER  (DSP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SCRETE-TIME SIGNAL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UNCTIONS of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the “time index”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PUT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[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UTPUT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[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IGITAL FILTERING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1905120"/>
            <a:ext cx="1904760" cy="914400"/>
          </a:xfrm>
          <a:prstGeom prst="rect">
            <a:avLst/>
          </a:prstGeom>
          <a:solidFill>
            <a:srgbClr val="ffcc00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ILT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1905120"/>
            <a:ext cx="12193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D-to-A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1905120"/>
            <a:ext cx="12193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A-to-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236232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236232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236232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36232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5880" y="19051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x(t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58360" y="19051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y(t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38600" y="19051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Arial"/>
              </a:rPr>
              <a:t>y[n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51760" y="19051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Arial"/>
              </a:rPr>
              <a:t>x[n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2514600"/>
            <a:ext cx="838080" cy="1600200"/>
          </a:xfrm>
          <a:custGeom>
            <a:avLst/>
            <a:gdLst/>
            <a:ahLst/>
            <a:rect l="l" t="t" r="r" b="b"/>
            <a:pathLst>
              <a:path w="592" h="1104">
                <a:moveTo>
                  <a:pt x="0" y="1104"/>
                </a:moveTo>
                <a:cubicBezTo>
                  <a:pt x="196" y="1064"/>
                  <a:pt x="392" y="1024"/>
                  <a:pt x="480" y="912"/>
                </a:cubicBezTo>
                <a:cubicBezTo>
                  <a:pt x="568" y="800"/>
                  <a:pt x="592" y="584"/>
                  <a:pt x="528" y="432"/>
                </a:cubicBezTo>
                <a:cubicBezTo>
                  <a:pt x="464" y="280"/>
                  <a:pt x="168" y="72"/>
                  <a:pt x="96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B231-7D7D-4E7C-96D3-566E9BBFD1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6F6FB2-BDE5-41A5-B88D-D4D34ABA0B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BUILDING BLOCK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UILD UP COMPLICATED FILTER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OM SIMPL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MODUL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: FILTER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MODUL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MIGHT BE 3-pt FI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2057400"/>
            <a:ext cx="137160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ILT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4382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2438280"/>
            <a:ext cx="9144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15120" y="19051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y[n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7000" y="19051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x[n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2057400"/>
            <a:ext cx="137160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ILT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3276720"/>
            <a:ext cx="137160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ILT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2438280"/>
            <a:ext cx="12952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3657600"/>
            <a:ext cx="23623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438280"/>
            <a:ext cx="0" cy="12193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257440" y="3657600"/>
            <a:ext cx="1676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934320" y="2514240"/>
            <a:ext cx="0" cy="1143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0" y="23623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2438280"/>
            <a:ext cx="6858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33600" y="2514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00080" y="20574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79800" y="2597040"/>
            <a:ext cx="788760" cy="337320"/>
          </a:xfrm>
          <a:prstGeom prst="rect">
            <a:avLst/>
          </a:prstGeom>
          <a:solidFill>
            <a:srgbClr val="ccec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32320" y="1905120"/>
            <a:ext cx="1012680" cy="337320"/>
          </a:xfrm>
          <a:prstGeom prst="rect">
            <a:avLst/>
          </a:prstGeom>
          <a:solidFill>
            <a:srgbClr val="ccec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OUTPUT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4672-2D33-4465-932B-CC99D89774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1B539-8F3D-4A94-9B95-249CCF7402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GENERAL FIR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LTER COEFFICIENTS {b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FINE THE FILTE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r example,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029200" y="2286000"/>
                <a:ext cx="37339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914400" y="4495680"/>
                <a:ext cx="7543800" cy="18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]</m:t>
                            </m:r>
                          </m:e>
                        </m:nary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505320" y="3733920"/>
                <a:ext cx="251460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6934320" y="1752480"/>
            <a:ext cx="304560" cy="990720"/>
          </a:xfrm>
          <a:prstGeom prst="downArrow">
            <a:avLst>
              <a:gd name="adj1" fmla="val 50000"/>
              <a:gd name="adj2" fmla="val 81324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4191120"/>
            <a:ext cx="380880" cy="1600200"/>
          </a:xfrm>
          <a:custGeom>
            <a:avLst/>
            <a:gdLst/>
            <a:ahLst/>
            <a:rect l="l" t="t" r="r" b="b"/>
            <a:pathLst>
              <a:path w="535" h="1008">
                <a:moveTo>
                  <a:pt x="336" y="0"/>
                </a:moveTo>
                <a:cubicBezTo>
                  <a:pt x="435" y="60"/>
                  <a:pt x="535" y="120"/>
                  <a:pt x="480" y="288"/>
                </a:cubicBezTo>
                <a:cubicBezTo>
                  <a:pt x="424" y="455"/>
                  <a:pt x="212" y="731"/>
                  <a:pt x="0" y="1008"/>
                </a:cubicBezTo>
              </a:path>
            </a:pathLst>
          </a:custGeom>
          <a:noFill/>
          <a:ln w="57240">
            <a:solidFill>
              <a:srgbClr val="ff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194A-57F7-4F0B-86AF-77E15F58D23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F1FCB-F382-48F2-9036-A8DB9E2AE4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ATLAB for FIR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urier New"/>
              </a:rPr>
              <a:t>yy = conv(bb,xx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ECTOR </a:t>
            </a:r>
            <a:r>
              <a:rPr b="1" lang="en-US" sz="3600" spc="-1" strike="noStrike">
                <a:solidFill>
                  <a:srgbClr val="ff6600"/>
                </a:solidFill>
                <a:latin typeface="Courier New"/>
              </a:rPr>
              <a:t>bb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contains Filter Coefficie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SP-First:   </a:t>
            </a:r>
            <a:r>
              <a:rPr b="1" lang="en-US" sz="3600" spc="-1" strike="noStrike">
                <a:solidFill>
                  <a:srgbClr val="ff6600"/>
                </a:solidFill>
                <a:latin typeface="Courier New"/>
              </a:rPr>
              <a:t>yy = firfilt(bb,xx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LTER COEFFICIENTS  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{b</a:t>
            </a:r>
            <a:r>
              <a:rPr b="0" lang="en-US" sz="3600" spc="-1" strike="noStrike" baseline="-25000">
                <a:solidFill>
                  <a:srgbClr val="ff6600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92200" y="4003560"/>
            <a:ext cx="1887480" cy="94716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urier New"/>
              </a:rPr>
              <a:t>conv2(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or imag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828800" y="4605480"/>
                <a:ext cx="426708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81C8-A4EE-41A1-A469-4BBB22C903C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93791-83C6-412F-8F5C-87071D4D99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 </cp:lastModifiedBy>
  <cp:lastPrinted>1999-05-04T22:17:43Z</cp:lastPrinted>
  <dcterms:modified xsi:type="dcterms:W3CDTF">2005-02-18T22:31:56Z</dcterms:modified>
  <cp:revision>218</cp:revision>
  <dc:subject/>
  <dc:title>SPFirst Lecture #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