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71B-1562-43AA-9800-20238A6D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E49-5691-42F9-9522-BF93A61B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981-E51C-405D-8FDA-D7FAA2BD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A78-68C8-447A-A770-9BAF030F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7CB2-F506-453C-9DBB-1AF4405E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B4A3-F82E-4A87-AEF8-6C35426B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A02B-CDE6-4B94-9745-3A804660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8BD4-4B53-4E87-B13B-F1A0CE7C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816D-E8AD-44BD-8B10-52DF27E1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58A8-EBAD-4C65-95CB-66FDE64A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C533-1B86-48B1-B28D-B3569225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95E-D7C2-4587-BC19-919ED5E5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5E5C-EF72-4981-82F8-3B6D6462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7D2A-EFD3-47EC-ABB3-EC3F4195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E90E-8946-45F0-A90E-81D80F68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78C3-F672-4CA6-A03C-DA5066F8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FF53-5A31-4A2A-8FA2-90C4FBA8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2A9-7B8B-45F8-9002-1B572105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003-9934-49F2-A9F0-8BC92D02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8FA-E12B-4073-A4D9-BE6A85D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97B-0FDD-4C37-827C-AC836DB3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4BB-0D0A-45ED-A2C7-7EEDE1BA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F7E-4A5A-4B8E-9B08-AD69BFA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FBE-1B7D-4EB6-91F4-A366BE65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3093-4585-4185-9D4E-D473A26C9C5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B8D-DDEC-4BA5-BAAD-19C61AFC8E5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CE0F-2992-4156-A6CB-3AD139ACBED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1FA2-1ED1-429D-8740-9AE1F061162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2320" y="3428640"/>
            <a:ext cx="59436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gital Filte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f Analog Signal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9A16-A035-4F39-8EA7-C600EE29A26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04440F0-D63F-4F6D-BB95-ED1125DBEB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 DOMAIN --&gt; TIM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6188760" y="2057400"/>
            <a:ext cx="26604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ULER’s Formul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9480" y="4038480"/>
            <a:ext cx="7010640" cy="838440"/>
            <a:chOff x="609480" y="4038480"/>
            <a:chExt cx="7010640" cy="838440"/>
          </a:xfrm>
        </p:grpSpPr>
        <p:sp>
          <p:nvSpPr>
            <p:cNvPr id="240" name=""/>
            <p:cNvSpPr/>
            <p:nvPr/>
          </p:nvSpPr>
          <p:spPr>
            <a:xfrm>
              <a:off x="609480" y="4419720"/>
              <a:ext cx="70106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4038480"/>
              <a:ext cx="533520" cy="838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038480"/>
              <a:ext cx="1295280" cy="838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7920" y="1806480"/>
                <a:ext cx="5421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828800" y="2666880"/>
                <a:ext cx="5562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828800" y="3505320"/>
                <a:ext cx="4648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43000" y="4648320"/>
                <a:ext cx="6705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030400" y="5486400"/>
                <a:ext cx="4203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,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CAC-6759-40E2-A2B3-530F383414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101D3-F51A-40B9-80A4-5F6923F4DA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REVIOUS LECTURE RE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INUSOID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PUT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ha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E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ERENT Amplitude and Ph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RESPON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 F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GNITUDE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HASE vs.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OTT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038480" y="3886200"/>
            <a:ext cx="5105520" cy="2440080"/>
            <a:chOff x="4038480" y="3886200"/>
            <a:chExt cx="5105520" cy="2440080"/>
          </a:xfrm>
        </p:grpSpPr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038480" y="5391000"/>
                  <a:ext cx="510552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e>
                      </m:d>
                      <m:r>
                        <m:t xml:space="preserve">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∠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52" name=""/>
            <p:cNvSpPr/>
            <p:nvPr/>
          </p:nvSpPr>
          <p:spPr>
            <a:xfrm>
              <a:off x="5181480" y="4572000"/>
              <a:ext cx="0" cy="9158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789240" y="3886200"/>
              <a:ext cx="1238400" cy="1601280"/>
              <a:chOff x="6789240" y="3886200"/>
              <a:chExt cx="1238400" cy="1601280"/>
            </a:xfrm>
          </p:grpSpPr>
          <p:sp>
            <p:nvSpPr>
              <p:cNvPr id="254" name=""/>
              <p:cNvSpPr/>
              <p:nvPr/>
            </p:nvSpPr>
            <p:spPr>
              <a:xfrm>
                <a:off x="7135200" y="3886200"/>
                <a:ext cx="89244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MAG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789240" y="4323960"/>
                <a:ext cx="330120" cy="11635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714080" y="4572000"/>
              <a:ext cx="1227600" cy="915480"/>
              <a:chOff x="7714080" y="4572000"/>
              <a:chExt cx="1227600" cy="915480"/>
            </a:xfrm>
          </p:grpSpPr>
          <p:sp>
            <p:nvSpPr>
              <p:cNvPr id="257" name=""/>
              <p:cNvSpPr/>
              <p:nvPr/>
            </p:nvSpPr>
            <p:spPr>
              <a:xfrm>
                <a:off x="7848720" y="5030640"/>
                <a:ext cx="228600" cy="4568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14080" y="4572000"/>
                <a:ext cx="122760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PHASE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C09-2577-45A1-9185-682371D40C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E786F-EC3A-4D63-BCF6-8CEC5AE8705F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PL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NSE GRID </a:t>
            </a:r>
            <a:r>
              <a:rPr b="1" lang="en-US" sz="4400" spc="-1" strike="noStrike">
                <a:solidFill>
                  <a:srgbClr val="ff6600"/>
                </a:solidFill>
                <a:latin typeface="Courier New"/>
              </a:rPr>
              <a:t>(ww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from -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to  +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ww = -pi:(pi/100):pi;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HH = freqz(bb,1,ww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ECTOR </a:t>
            </a:r>
            <a:r>
              <a:rPr b="1" lang="en-US" sz="4000" spc="-1" strike="noStrike">
                <a:solidFill>
                  <a:srgbClr val="ff6600"/>
                </a:solidFill>
                <a:latin typeface="Courier New"/>
              </a:rPr>
              <a:t>b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ntains Filter Coeffici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SP-First:   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HH = freekz(bb,1,ww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022480" y="4680000"/>
                <a:ext cx="464184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893-9F55-4BC5-B255-9FEBFD5897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878FE-A293-4A37-BF46-3CF56F164A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of FREQ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271440"/>
            <a:ext cx="8686800" cy="658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38280" y="3117960"/>
                <a:ext cx="3853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5" name=""/>
          <p:cNvGrpSpPr/>
          <p:nvPr/>
        </p:nvGrpSpPr>
        <p:grpSpPr>
          <a:xfrm>
            <a:off x="6095520" y="1599840"/>
            <a:ext cx="2522520" cy="3657960"/>
            <a:chOff x="6095520" y="1599840"/>
            <a:chExt cx="2522520" cy="3657960"/>
          </a:xfrm>
        </p:grpSpPr>
        <p:sp>
          <p:nvSpPr>
            <p:cNvPr id="266" name=""/>
            <p:cNvSpPr/>
            <p:nvPr/>
          </p:nvSpPr>
          <p:spPr>
            <a:xfrm flipH="1" flipV="1">
              <a:off x="6095520" y="1599840"/>
              <a:ext cx="685800" cy="160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095520" y="3581280"/>
              <a:ext cx="838440" cy="1676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13760" y="3200400"/>
              <a:ext cx="22042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ESPONSE at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/3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47000" y="685800"/>
                <a:ext cx="1868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962520" y="6432480"/>
                <a:ext cx="144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0880" y="6226200"/>
                <a:ext cx="5922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8458200" y="6242040"/>
                <a:ext cx="446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8715240" y="2790720"/>
                <a:ext cx="3524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8C4-421F-4176-A805-1F4EFC3346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380B9-967E-445F-B944-43063FD7AD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057400" y="3657600"/>
            <a:ext cx="4789440" cy="1509840"/>
            <a:chOff x="2057400" y="3657600"/>
            <a:chExt cx="4789440" cy="1509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65530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5812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"/>
            <p:cNvSpPr/>
            <p:nvPr/>
          </p:nvSpPr>
          <p:spPr>
            <a:xfrm>
              <a:off x="3352680" y="36576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2320" y="41148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41148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1160" y="36576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6040" y="36576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4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8195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0481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5909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20040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43828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92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7913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0199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5627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17220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41008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430440" y="3719520"/>
                  <a:ext cx="18226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844640" y="5343480"/>
                <a:ext cx="53802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93800" y="1676520"/>
                <a:ext cx="725148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B37-8780-4B2D-A1A6-F376F72575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D47C3-CC3D-463D-8398-FE0D14B80C9B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39840" y="1638360"/>
                <a:ext cx="8312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 (answe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46240" y="2637000"/>
                <a:ext cx="75880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One Step-  evaluate 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 flipH="1">
            <a:off x="7315200" y="2133720"/>
            <a:ext cx="533520" cy="685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6720" y="3494160"/>
                <a:ext cx="5380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28680" y="4406760"/>
                <a:ext cx="61545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52280" y="5384880"/>
                <a:ext cx="5562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616720" y="5345280"/>
                <a:ext cx="33987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D80-D72E-4E65-975B-D4E4F4B5AA3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6BB70-BB9A-4716-8F45-6DFF9D76C304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63680" y="1673280"/>
                <a:ext cx="814680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844640" y="5321160"/>
                <a:ext cx="5380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2057400" y="3657600"/>
            <a:ext cx="4789440" cy="1509840"/>
            <a:chOff x="2057400" y="3657600"/>
            <a:chExt cx="4789440" cy="1509840"/>
          </a:xfrm>
        </p:grpSpPr>
        <p:grpSp>
          <p:nvGrpSpPr>
            <p:cNvPr id="310" name=""/>
            <p:cNvGrpSpPr/>
            <p:nvPr/>
          </p:nvGrpSpPr>
          <p:grpSpPr>
            <a:xfrm>
              <a:off x="2057400" y="3657600"/>
              <a:ext cx="4572000" cy="1219320"/>
              <a:chOff x="2057400" y="3657600"/>
              <a:chExt cx="4572000" cy="1219320"/>
            </a:xfrm>
          </p:grpSpPr>
          <p:sp>
            <p:nvSpPr>
              <p:cNvPr id="311" name=""/>
              <p:cNvSpPr/>
              <p:nvPr/>
            </p:nvSpPr>
            <p:spPr>
              <a:xfrm>
                <a:off x="3352680" y="365760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62320" y="411480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57800" y="411480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1160" y="365760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16040" y="36576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574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28195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0481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5909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20040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3828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292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57913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5627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17220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541008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3430440" y="3711600"/>
                    <a:ext cx="182268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35812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5530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6A4-DB2B-400E-8B7A-87FEAE40A4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E5889-342B-4D4A-BB13-7BA9412C00ED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 (ans-1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68360" y="2708280"/>
                <a:ext cx="843588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585800" y="4378320"/>
                <a:ext cx="6170760" cy="22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27E-5294-44DC-873B-A592F97952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DC604-A220-477E-8A8F-AAC2FA7E6F4E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 (ans-2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96840" y="3487680"/>
                <a:ext cx="89852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280" y="5105520"/>
                <a:ext cx="700092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766880" y="2577960"/>
                <a:ext cx="553572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DEC-4D89-4D1F-B030-38DC308CEA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FF5B9-E0EA-4D90-8CA1-07138EF47045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thru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ultiply the Magnitud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dd the Pha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5280" y="4146480"/>
                <a:ext cx="885060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523880" y="1676520"/>
                <a:ext cx="39420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2286000" y="571500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3080" y="556272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71A-A4F7-4814-ABA5-5A77F8BD13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C5E27-4141-4C26-A0E4-BD0BCF9E4D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9A5-7085-414A-B181-C06B293739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C8696-50CA-4468-BCC8-BED8A411AFD3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120680"/>
            <a:ext cx="8153280" cy="5661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Demo with Sinusoid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0000" y="1143000"/>
            <a:ext cx="8796240" cy="896040"/>
            <a:chOff x="90000" y="1143000"/>
            <a:chExt cx="8796240" cy="896040"/>
          </a:xfrm>
        </p:grpSpPr>
        <p:sp>
          <p:nvSpPr>
            <p:cNvPr id="349" name=""/>
            <p:cNvSpPr/>
            <p:nvPr/>
          </p:nvSpPr>
          <p:spPr>
            <a:xfrm>
              <a:off x="5037480" y="1701720"/>
              <a:ext cx="889560" cy="3373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LTER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00" y="1341360"/>
              <a:ext cx="6213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[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80360" y="1143000"/>
              <a:ext cx="6058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y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[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C30-DD63-4AFC-9CEF-572739C642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4EC6F-CC6D-488B-93F1-7D005C723A34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GITAL “FILTER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7600" y="21528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of x(t)   (SUM of SINUSOID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x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s ALIASING a PROBLEM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[n]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FIR Gain or Null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, OUTPUT y(t) = 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28600" y="1900080"/>
            <a:ext cx="8778960" cy="1635120"/>
            <a:chOff x="228600" y="1900080"/>
            <a:chExt cx="8778960" cy="1635120"/>
          </a:xfrm>
        </p:grpSpPr>
        <p:sp>
          <p:nvSpPr>
            <p:cNvPr id="355" name=""/>
            <p:cNvSpPr/>
            <p:nvPr/>
          </p:nvSpPr>
          <p:spPr>
            <a:xfrm>
              <a:off x="3505320" y="190512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0080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4792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146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674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560" y="19051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96440" y="19051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3440" y="19051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8320" y="190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9907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2193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62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37160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0948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388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0010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2296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7724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38188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620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0481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8195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42900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66688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1722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57150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2448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562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3511440" y="1900080"/>
                  <a:ext cx="18226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3778200" y="3095640"/>
                  <a:ext cx="35244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6629400" y="3095640"/>
                  <a:ext cx="3510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1658880" y="318132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8655120" y="3135240"/>
                  <a:ext cx="352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5" name=""/>
          <p:cNvGrpSpPr/>
          <p:nvPr/>
        </p:nvGrpSpPr>
        <p:grpSpPr>
          <a:xfrm>
            <a:off x="231840" y="3790800"/>
            <a:ext cx="714240" cy="2228760"/>
            <a:chOff x="231840" y="3790800"/>
            <a:chExt cx="714240" cy="2228760"/>
          </a:xfrm>
        </p:grpSpPr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231840" y="4458960"/>
                  <a:ext cx="70632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595440" y="3790800"/>
                  <a:ext cx="3506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595440" y="5695920"/>
                  <a:ext cx="3506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B6E-0FB8-4CC5-BFD1-8A0A9FACCA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5A90B-560B-45C1-98B3-B747597029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SCA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IME SAMPL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LIASING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SCAL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8600" y="1905120"/>
            <a:ext cx="8763120" cy="1600200"/>
            <a:chOff x="228600" y="1905120"/>
            <a:chExt cx="8763120" cy="1600200"/>
          </a:xfrm>
        </p:grpSpPr>
        <p:sp>
          <p:nvSpPr>
            <p:cNvPr id="402" name=""/>
            <p:cNvSpPr/>
            <p:nvPr/>
          </p:nvSpPr>
          <p:spPr>
            <a:xfrm>
              <a:off x="3505320" y="1905120"/>
              <a:ext cx="190476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00800" y="190512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4792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00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674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560" y="19051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96440" y="19051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63440" y="19051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68320" y="190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86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9907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2193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62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37160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0948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388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0010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2296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7724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838188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7620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860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0481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28195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42900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66688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814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1722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7150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32448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562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3533760" y="191304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379260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668808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58880" y="318132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8669160" y="3164040"/>
                  <a:ext cx="32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087880" y="4876920"/>
                <a:ext cx="39038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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75320" y="3735360"/>
                <a:ext cx="1741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081-4D4B-48AB-B959-FC519CC3AA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52704-FE72-4E12-AC4F-F5A7667263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11-pt AVERAGER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28600" y="1828800"/>
            <a:ext cx="8780400" cy="1600200"/>
            <a:chOff x="228600" y="1828800"/>
            <a:chExt cx="8780400" cy="1600200"/>
          </a:xfrm>
        </p:grpSpPr>
        <p:sp>
          <p:nvSpPr>
            <p:cNvPr id="447" name=""/>
            <p:cNvSpPr/>
            <p:nvPr/>
          </p:nvSpPr>
          <p:spPr>
            <a:xfrm>
              <a:off x="3505320" y="1828800"/>
              <a:ext cx="190476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0080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4792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146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100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74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72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7560" y="18288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6440" y="1828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63440" y="18288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68320" y="18288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86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9907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2193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762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37160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0948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388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80010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2296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7724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38188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620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860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0481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276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8195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42900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6688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814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9436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1722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7150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32448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5562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3533760" y="183672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79260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668808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1658880" y="310500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8686800" y="3087720"/>
                  <a:ext cx="32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7" name=""/>
          <p:cNvGrpSpPr/>
          <p:nvPr/>
        </p:nvGrpSpPr>
        <p:grpSpPr>
          <a:xfrm>
            <a:off x="228600" y="4033800"/>
            <a:ext cx="8610840" cy="2700360"/>
            <a:chOff x="228600" y="4033800"/>
            <a:chExt cx="8610840" cy="2700360"/>
          </a:xfrm>
        </p:grpSpPr>
        <p:sp>
          <p:nvSpPr>
            <p:cNvPr id="488" name=""/>
            <p:cNvSpPr/>
            <p:nvPr/>
          </p:nvSpPr>
          <p:spPr>
            <a:xfrm>
              <a:off x="228600" y="4038480"/>
              <a:ext cx="1905120" cy="19051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250 Hz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25 Hz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13520" y="4033800"/>
              <a:ext cx="925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304920" y="6019920"/>
                  <a:ext cx="72388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50</m:t>
                      </m:r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π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92440" y="4216320"/>
                <a:ext cx="6127560" cy="16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514600" y="2776680"/>
                <a:ext cx="38862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0C6-150C-440D-8B4C-FA2AEF8BAB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48A55-A23C-4F38-9A3A-60BFB63BD7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-A FREQUENCY SCA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4952520"/>
            <a:ext cx="8178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ONSTRUCT up to 0.5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SCAL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8600" y="1905120"/>
            <a:ext cx="8763120" cy="1600200"/>
            <a:chOff x="228600" y="1905120"/>
            <a:chExt cx="8763120" cy="1600200"/>
          </a:xfrm>
        </p:grpSpPr>
        <p:sp>
          <p:nvSpPr>
            <p:cNvPr id="496" name=""/>
            <p:cNvSpPr/>
            <p:nvPr/>
          </p:nvSpPr>
          <p:spPr>
            <a:xfrm>
              <a:off x="3505320" y="1905120"/>
              <a:ext cx="190476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7920" y="190512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100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674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2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560" y="19051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96440" y="19051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63440" y="19051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68320" y="190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86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9907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2193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2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37160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0948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388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80010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82296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7724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838188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620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860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0481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28195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42900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266688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14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1722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7150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32448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562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3533760" y="191304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379260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668808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658880" y="318132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8669160" y="3164040"/>
                  <a:ext cx="32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6" name=""/>
          <p:cNvSpPr/>
          <p:nvPr/>
        </p:nvSpPr>
        <p:spPr>
          <a:xfrm>
            <a:off x="304920" y="3962520"/>
            <a:ext cx="817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IME SAMPLING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248520" y="5159520"/>
                <a:ext cx="23619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419720" y="3809880"/>
                <a:ext cx="40161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←</m:t>
                    </m:r>
                    <m:sSub>
                      <m:e>
                        <m:r>
                          <m:t xml:space="preserve">t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122-13B1-4694-B946-B5072E212B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2EE48-EA27-4114-AA11-CBC76C5910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CK the FREQUENC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" y="1828800"/>
            <a:ext cx="8763120" cy="1600200"/>
            <a:chOff x="228600" y="1828800"/>
            <a:chExt cx="8763120" cy="1600200"/>
          </a:xfrm>
        </p:grpSpPr>
        <p:sp>
          <p:nvSpPr>
            <p:cNvPr id="541" name=""/>
            <p:cNvSpPr/>
            <p:nvPr/>
          </p:nvSpPr>
          <p:spPr>
            <a:xfrm>
              <a:off x="3505320" y="1828800"/>
              <a:ext cx="190476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0080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4792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100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674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72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7560" y="18288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96440" y="1828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63440" y="18288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8320" y="18288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86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9907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12193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62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37160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0948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388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0010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2296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77724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838188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620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60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481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276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8195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42900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66688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814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9436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1722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7150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32448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562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3533760" y="183672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379260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8" name=""/>
                <p:cNvSpPr txBox="1"/>
                <p:nvPr/>
              </p:nvSpPr>
              <p:spPr>
                <a:xfrm>
                  <a:off x="668808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1658880" y="310500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8669160" y="3087720"/>
                  <a:ext cx="32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1" name=""/>
          <p:cNvSpPr/>
          <p:nvPr/>
        </p:nvSpPr>
        <p:spPr>
          <a:xfrm>
            <a:off x="1157400" y="5715000"/>
            <a:ext cx="18709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s = 1000 Hz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09680" y="3581280"/>
            <a:ext cx="1524240" cy="1981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.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0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3581280"/>
            <a:ext cx="1523880" cy="1981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.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0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3581280"/>
            <a:ext cx="1905120" cy="19051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0 Hz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 Hz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02240" y="5791320"/>
            <a:ext cx="197604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O new freq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52280" y="3657600"/>
            <a:ext cx="1905120" cy="19051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0 Hz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 Hz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3706920" y="3584520"/>
                <a:ext cx="17794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C0E-8B84-404B-839B-56A175F96A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E6619-54F5-49FE-9C62-5A03DF2F4E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11-pt AVERAG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40864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5885640" y="2057400"/>
            <a:ext cx="2666520" cy="1447920"/>
            <a:chOff x="5885640" y="2057400"/>
            <a:chExt cx="2666520" cy="1447920"/>
          </a:xfrm>
        </p:grpSpPr>
        <p:sp>
          <p:nvSpPr>
            <p:cNvPr id="591" name=""/>
            <p:cNvSpPr/>
            <p:nvPr/>
          </p:nvSpPr>
          <p:spPr>
            <a:xfrm>
              <a:off x="5885640" y="2057400"/>
              <a:ext cx="266652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NULLS or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629040" y="2514600"/>
              <a:ext cx="15228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238880" y="2514600"/>
              <a:ext cx="15264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848360" y="2514600"/>
              <a:ext cx="15228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019560" y="2514600"/>
              <a:ext cx="15228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67280" y="3276720"/>
            <a:ext cx="1436760" cy="2361960"/>
            <a:chOff x="5867280" y="3276720"/>
            <a:chExt cx="1436760" cy="2361960"/>
          </a:xfrm>
        </p:grpSpPr>
        <p:sp>
          <p:nvSpPr>
            <p:cNvPr id="597" name=""/>
            <p:cNvSpPr/>
            <p:nvPr/>
          </p:nvSpPr>
          <p:spPr>
            <a:xfrm>
              <a:off x="6324480" y="327672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24480" y="548640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6400800" y="3428640"/>
              <a:ext cx="0" cy="60948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5867280" y="4038480"/>
                  <a:ext cx="1436760" cy="4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3962520" y="2286000"/>
            <a:ext cx="1600200" cy="3200400"/>
            <a:chOff x="3962520" y="2286000"/>
            <a:chExt cx="1600200" cy="3200400"/>
          </a:xfrm>
        </p:grpSpPr>
        <p:sp>
          <p:nvSpPr>
            <p:cNvPr id="602" name=""/>
            <p:cNvSpPr/>
            <p:nvPr/>
          </p:nvSpPr>
          <p:spPr>
            <a:xfrm>
              <a:off x="4876920" y="2286000"/>
              <a:ext cx="15228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6920" y="53341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952880" y="2438280"/>
              <a:ext cx="0" cy="1524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3962520" y="3967200"/>
                  <a:ext cx="160020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3CB-7442-47AF-A002-7816DF7EAAF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1B685-5B83-4661-BA33-345C4CEE6E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068560" y="1528920"/>
                <a:ext cx="563868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039760" y="3086280"/>
                <a:ext cx="62661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280" y="2843280"/>
                <a:ext cx="2210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524400" y="4495680"/>
                <a:ext cx="4019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505320" y="57913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0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7AB-FC3F-46CB-8E84-37A26E09081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C220A-C7B1-4EC7-A7CA-1D37522E2C7C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50450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257800" y="6553080"/>
            <a:ext cx="838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24680" y="6553080"/>
            <a:ext cx="8384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2440" y="3657600"/>
            <a:ext cx="122148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= 1000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295280" y="3276720"/>
            <a:ext cx="7182720" cy="3276360"/>
            <a:chOff x="1295280" y="3276720"/>
            <a:chExt cx="7182720" cy="3276360"/>
          </a:xfrm>
        </p:grpSpPr>
        <p:sp>
          <p:nvSpPr>
            <p:cNvPr id="618" name=""/>
            <p:cNvSpPr/>
            <p:nvPr/>
          </p:nvSpPr>
          <p:spPr>
            <a:xfrm>
              <a:off x="6770160" y="3276720"/>
              <a:ext cx="170784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MAG SCAL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733920" y="3352680"/>
              <a:ext cx="3047760" cy="457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95280" y="6553080"/>
              <a:ext cx="83844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76520" y="4191120"/>
              <a:ext cx="1600200" cy="2057400"/>
            </a:xfrm>
            <a:custGeom>
              <a:avLst/>
              <a:gdLst/>
              <a:ahLst/>
              <a:rect l="l" t="t" r="r" b="b"/>
              <a:pathLst>
                <a:path w="1008" h="1296">
                  <a:moveTo>
                    <a:pt x="1008" y="0"/>
                  </a:moveTo>
                  <a:cubicBezTo>
                    <a:pt x="908" y="4"/>
                    <a:pt x="808" y="8"/>
                    <a:pt x="768" y="144"/>
                  </a:cubicBezTo>
                  <a:cubicBezTo>
                    <a:pt x="728" y="280"/>
                    <a:pt x="872" y="696"/>
                    <a:pt x="768" y="816"/>
                  </a:cubicBezTo>
                  <a:cubicBezTo>
                    <a:pt x="664" y="936"/>
                    <a:pt x="271" y="784"/>
                    <a:pt x="144" y="864"/>
                  </a:cubicBezTo>
                  <a:cubicBezTo>
                    <a:pt x="16" y="943"/>
                    <a:pt x="8" y="1119"/>
                    <a:pt x="0" y="1296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809880" y="3962520"/>
            <a:ext cx="4815000" cy="2590560"/>
            <a:chOff x="3809880" y="3962520"/>
            <a:chExt cx="4815000" cy="2590560"/>
          </a:xfrm>
        </p:grpSpPr>
        <p:sp>
          <p:nvSpPr>
            <p:cNvPr id="623" name=""/>
            <p:cNvSpPr/>
            <p:nvPr/>
          </p:nvSpPr>
          <p:spPr>
            <a:xfrm>
              <a:off x="6392880" y="4038480"/>
              <a:ext cx="22320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PHASE CHANG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4876560" y="3962520"/>
              <a:ext cx="1523880" cy="3045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09880" y="6553080"/>
              <a:ext cx="8384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0" y="4038480"/>
              <a:ext cx="1014480" cy="2210040"/>
            </a:xfrm>
            <a:custGeom>
              <a:avLst/>
              <a:gdLst/>
              <a:ahLst/>
              <a:rect l="l" t="t" r="r" b="b"/>
              <a:pathLst>
                <a:path w="687" h="1440">
                  <a:moveTo>
                    <a:pt x="48" y="0"/>
                  </a:moveTo>
                  <a:cubicBezTo>
                    <a:pt x="168" y="48"/>
                    <a:pt x="288" y="96"/>
                    <a:pt x="384" y="240"/>
                  </a:cubicBezTo>
                  <a:cubicBezTo>
                    <a:pt x="479" y="383"/>
                    <a:pt x="687" y="664"/>
                    <a:pt x="624" y="864"/>
                  </a:cubicBezTo>
                  <a:cubicBezTo>
                    <a:pt x="560" y="1063"/>
                    <a:pt x="280" y="1251"/>
                    <a:pt x="0" y="1440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27160" y="2805120"/>
                <a:ext cx="2442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135000" y="4479840"/>
                <a:ext cx="2568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7AA-E265-4247-8D9E-00374C08BB8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6FF69-E54A-4B47-BA5C-9F69CE0304EB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65240" y="304920"/>
            <a:ext cx="8826480" cy="64260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755640" y="4038480"/>
            <a:ext cx="36295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FECTIV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6629400"/>
            <a:ext cx="17528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52680" y="3429000"/>
            <a:ext cx="1524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62720" y="54100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22096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38680" y="2362320"/>
            <a:ext cx="0" cy="3047760"/>
          </a:xfrm>
          <a:prstGeom prst="line">
            <a:avLst/>
          </a:prstGeom>
          <a:ln w="38160">
            <a:solidFill>
              <a:srgbClr val="99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27960" y="99072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98840" y="4572000"/>
            <a:ext cx="29725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-PASS FIL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414520" y="1405080"/>
                <a:ext cx="1573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4A2-B7FD-4018-96C8-2C90110CDAA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5232C-9AAC-42A4-A574-67E56EACBB80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6, Sections 6-6, 6-7 &amp; 6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656-C4B1-4937-BD50-18AEA75E74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A6FC5-418B-44B5-A888-E962D5FD7B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TYP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-PASS FILTER (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LP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LUR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ENUATES HIGH FREQUENC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IGH-PASS FILTER (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HP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PENING for IMA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OSTS THE HIGH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MOVES D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ND-PASS FILTER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BP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334120" y="3232080"/>
            <a:ext cx="3733560" cy="30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B55-B027-4941-B1DA-E0FFB1D678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E0982-F53F-4A6E-8853-9B31962E7E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 &amp; W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600200" y="1430280"/>
            <a:ext cx="6553080" cy="542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429-6828-4748-8AEE-E5A2DB6E08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1B8E4-892E-46A3-8E65-345EADA79F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&amp;W IMAGE with COSIN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2339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5199840" y="1676520"/>
            <a:ext cx="33444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ILTERED: 11-pt AV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C52-1283-4A74-9B35-4DE247284CC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F105F-C8D5-450B-9D26-F56A941626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ED B&amp;W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838080" y="1557360"/>
            <a:ext cx="6400800" cy="53006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7409160" y="3124080"/>
            <a:ext cx="10249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LPF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LU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BB2-D9F3-44E5-841A-57DA2A08D19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5E212-F167-426B-9E1B-3078A2383C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OW of B&amp;W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3908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464480" y="1828800"/>
            <a:ext cx="204624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LACK = 255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67960" y="5257800"/>
            <a:ext cx="17262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ITE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BE1-9ADA-4E8C-BF1C-2F7164F3EE3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9C84B-A1BD-4C42-8AEC-D73DC1C3D5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ED ROW of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839080" cy="34099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21000" y="5396040"/>
            <a:ext cx="6176160" cy="5814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DJUSTED DELAY by 5 sampl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331-BA66-4FB8-A3BE-9F1D3B9D810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A8F06-7FCE-4193-9297-3BB8412C42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FFECTIV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e NO Aliasing, t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LOG FREQ &lt;--&gt; DIGITAL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, we can plo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d Freq. Axi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752480" y="3200400"/>
                <a:ext cx="37339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495680" y="4724280"/>
                <a:ext cx="39751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5638680" y="548640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001000" y="5410080"/>
            <a:ext cx="152280" cy="533520"/>
          </a:xfrm>
          <a:prstGeom prst="upArrow">
            <a:avLst>
              <a:gd name="adj1" fmla="val 50000"/>
              <a:gd name="adj2" fmla="val 87589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18000" y="5867280"/>
            <a:ext cx="2954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ALOG FREQUENC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27680" y="3809880"/>
            <a:ext cx="2768400" cy="990720"/>
          </a:xfrm>
          <a:custGeom>
            <a:avLst/>
            <a:gdLst/>
            <a:ahLst/>
            <a:rect l="l" t="t" r="r" b="b"/>
            <a:pathLst>
              <a:path w="1744" h="624">
                <a:moveTo>
                  <a:pt x="16" y="624"/>
                </a:moveTo>
                <a:cubicBezTo>
                  <a:pt x="8" y="544"/>
                  <a:pt x="0" y="464"/>
                  <a:pt x="112" y="432"/>
                </a:cubicBezTo>
                <a:cubicBezTo>
                  <a:pt x="224" y="400"/>
                  <a:pt x="456" y="440"/>
                  <a:pt x="688" y="432"/>
                </a:cubicBezTo>
                <a:cubicBezTo>
                  <a:pt x="920" y="424"/>
                  <a:pt x="1328" y="455"/>
                  <a:pt x="1504" y="384"/>
                </a:cubicBezTo>
                <a:cubicBezTo>
                  <a:pt x="1679" y="312"/>
                  <a:pt x="1711" y="156"/>
                  <a:pt x="1744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42800" y="342900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639-C7D8-4BB5-88C2-F808FD03CA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B9E67-66AD-4F58-81B5-5C483D7683A3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 &amp; FREQ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   Linear &amp;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PLETELY CHARACTERIZ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y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ULSE RESPONS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[n]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time domai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wo DOMAINS: time &amp; frequenc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 back and forth QUICK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86000" y="3962520"/>
            <a:ext cx="6248520" cy="804600"/>
            <a:chOff x="2286000" y="3962520"/>
            <a:chExt cx="6248520" cy="804600"/>
          </a:xfrm>
        </p:grpSpPr>
        <p:graphicFrame>
          <p:nvGraphicFramePr>
            <p:cNvPr id="671" name=""/>
            <p:cNvGraphicFramePr/>
            <p:nvPr/>
          </p:nvGraphicFramePr>
          <p:xfrm>
            <a:off x="3429000" y="4038480"/>
            <a:ext cx="3962520" cy="7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038480"/>
                      <a:ext cx="3962520" cy="728640"/>
                    </a:xfrm>
                    <a:prstGeom prst="rect">
                      <a:avLst/>
                    </a:prstGeom>
                    <a:ln w="57240">
                      <a:solidFill>
                        <a:srgbClr val="0000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73" name=""/>
            <p:cNvSpPr/>
            <p:nvPr/>
          </p:nvSpPr>
          <p:spPr>
            <a:xfrm>
              <a:off x="2286000" y="4419720"/>
              <a:ext cx="1143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91520" y="4419720"/>
              <a:ext cx="1143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49720" y="396252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[n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47120" y="396252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y[n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2E7-EC50-4130-BD2F-46E330E85C3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0BFAA-83D8-46DD-9DEE-A61BAE511804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thru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686800" cy="50896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 flipH="1" flipV="1">
            <a:off x="3809520" y="2437920"/>
            <a:ext cx="685800" cy="25909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4038480"/>
            <a:ext cx="3276720" cy="76212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7101000" y="3765600"/>
            <a:ext cx="1788840" cy="2711520"/>
            <a:chOff x="7101000" y="3765600"/>
            <a:chExt cx="1788840" cy="2711520"/>
          </a:xfrm>
        </p:grpSpPr>
        <p:sp>
          <p:nvSpPr>
            <p:cNvPr id="682" name=""/>
            <p:cNvSpPr/>
            <p:nvPr/>
          </p:nvSpPr>
          <p:spPr>
            <a:xfrm>
              <a:off x="7543800" y="6019920"/>
              <a:ext cx="1143000" cy="45720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01000" y="3765600"/>
              <a:ext cx="17884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DD PHASE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153280" y="4191120"/>
              <a:ext cx="736560" cy="1828800"/>
            </a:xfrm>
            <a:custGeom>
              <a:avLst/>
              <a:gdLst/>
              <a:ahLst/>
              <a:rect l="l" t="t" r="r" b="b"/>
              <a:pathLst>
                <a:path w="464" h="1152">
                  <a:moveTo>
                    <a:pt x="0" y="0"/>
                  </a:moveTo>
                  <a:cubicBezTo>
                    <a:pt x="199" y="71"/>
                    <a:pt x="399" y="143"/>
                    <a:pt x="432" y="336"/>
                  </a:cubicBezTo>
                  <a:cubicBezTo>
                    <a:pt x="464" y="528"/>
                    <a:pt x="328" y="840"/>
                    <a:pt x="192" y="1152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276720" y="3003480"/>
            <a:ext cx="5443200" cy="3473640"/>
            <a:chOff x="3276720" y="3003480"/>
            <a:chExt cx="5443200" cy="3473640"/>
          </a:xfrm>
        </p:grpSpPr>
        <p:sp>
          <p:nvSpPr>
            <p:cNvPr id="686" name=""/>
            <p:cNvSpPr/>
            <p:nvPr/>
          </p:nvSpPr>
          <p:spPr>
            <a:xfrm>
              <a:off x="3276720" y="6019920"/>
              <a:ext cx="1143000" cy="45720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38520" y="3003480"/>
              <a:ext cx="23814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ULTIPLY MAG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3429000"/>
              <a:ext cx="2297160" cy="2590920"/>
            </a:xfrm>
            <a:custGeom>
              <a:avLst/>
              <a:gdLst/>
              <a:ahLst/>
              <a:rect l="l" t="t" r="r" b="b"/>
              <a:pathLst>
                <a:path w="1447" h="1632">
                  <a:moveTo>
                    <a:pt x="1296" y="0"/>
                  </a:moveTo>
                  <a:cubicBezTo>
                    <a:pt x="1364" y="172"/>
                    <a:pt x="1432" y="344"/>
                    <a:pt x="1440" y="480"/>
                  </a:cubicBezTo>
                  <a:cubicBezTo>
                    <a:pt x="1447" y="615"/>
                    <a:pt x="1440" y="736"/>
                    <a:pt x="1344" y="816"/>
                  </a:cubicBezTo>
                  <a:cubicBezTo>
                    <a:pt x="1248" y="896"/>
                    <a:pt x="975" y="888"/>
                    <a:pt x="864" y="960"/>
                  </a:cubicBezTo>
                  <a:cubicBezTo>
                    <a:pt x="752" y="1031"/>
                    <a:pt x="719" y="1176"/>
                    <a:pt x="672" y="1248"/>
                  </a:cubicBezTo>
                  <a:cubicBezTo>
                    <a:pt x="624" y="1319"/>
                    <a:pt x="687" y="1328"/>
                    <a:pt x="576" y="1392"/>
                  </a:cubicBezTo>
                  <a:cubicBezTo>
                    <a:pt x="464" y="1455"/>
                    <a:pt x="232" y="1543"/>
                    <a:pt x="0" y="1632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 flipH="1">
            <a:off x="6019920" y="4495680"/>
            <a:ext cx="1676160" cy="13716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03E-FC9F-4F50-993F-48399158AB4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85B58-F5A7-4237-8467-EEF858277677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wo Domains: Time &amp; Frequenc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ck the spectrum of x[n] thru an FIR Filter: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inusoid-IN gives Sinusoid-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does Frequency Response affect x(t) to produce y(t)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4800600"/>
            <a:ext cx="8001000" cy="1590840"/>
            <a:chOff x="457200" y="4800600"/>
            <a:chExt cx="8001000" cy="1590840"/>
          </a:xfrm>
        </p:grpSpPr>
        <p:sp>
          <p:nvSpPr>
            <p:cNvPr id="93" name=""/>
            <p:cNvSpPr/>
            <p:nvPr/>
          </p:nvSpPr>
          <p:spPr>
            <a:xfrm>
              <a:off x="3505320" y="480564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80564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480564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1008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6748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560" y="480564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96440" y="480564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3440" y="48056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8320" y="4805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3583080" y="4800600"/>
                  <a:ext cx="18223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"/>
            <p:cNvSpPr/>
            <p:nvPr/>
          </p:nvSpPr>
          <p:spPr>
            <a:xfrm>
              <a:off x="4116240" y="57200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6100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895480" y="5567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124080" y="572004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666880" y="572004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276720" y="5871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514600" y="5871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6100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943600" y="5567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172200" y="594828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715000" y="594828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324480" y="5795640"/>
              <a:ext cx="0" cy="304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562720" y="5795640"/>
              <a:ext cx="0" cy="304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657600" y="6024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705720" y="6024600"/>
                  <a:ext cx="29340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1E6-B0EE-44D6-A21E-47A1A82667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B82FC-B7F5-4A06-AB9D-4D3C8A1A28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 &amp; FREQUENC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304640" y="3124080"/>
            <a:ext cx="63453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R DIFFERENCE EQUATION is the TIME-DOMAI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23720" y="1555920"/>
                <a:ext cx="80694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7520" y="3686040"/>
                <a:ext cx="54003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1680" y="5560920"/>
                <a:ext cx="90820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E08-714D-434C-B8A7-4B9E346042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7E0F5-499A-4014-801B-39C1D5AD7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 DELAY by 2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19320" y="4795920"/>
            <a:ext cx="4572000" cy="1224000"/>
            <a:chOff x="1219320" y="4795920"/>
            <a:chExt cx="4572000" cy="1224000"/>
          </a:xfrm>
        </p:grpSpPr>
        <p:sp>
          <p:nvSpPr>
            <p:cNvPr id="127" name=""/>
            <p:cNvSpPr/>
            <p:nvPr/>
          </p:nvSpPr>
          <p:spPr>
            <a:xfrm>
              <a:off x="2514600" y="48006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52578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52578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3080" y="48006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7960" y="48006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6019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981080" y="5486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20968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5248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362320" y="5790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600200" y="5790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6019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952880" y="5486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181480" y="5867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24280" y="5867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33412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7200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2592360" y="4795920"/>
                  <a:ext cx="182232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"/>
          <p:cNvGrpSpPr/>
          <p:nvPr/>
        </p:nvGrpSpPr>
        <p:grpSpPr>
          <a:xfrm>
            <a:off x="1219320" y="2895480"/>
            <a:ext cx="3886200" cy="914400"/>
            <a:chOff x="1219320" y="2895480"/>
            <a:chExt cx="3886200" cy="914400"/>
          </a:xfrm>
        </p:grpSpPr>
        <p:sp>
          <p:nvSpPr>
            <p:cNvPr id="146" name=""/>
            <p:cNvSpPr/>
            <p:nvPr/>
          </p:nvSpPr>
          <p:spPr>
            <a:xfrm>
              <a:off x="2209680" y="289548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335268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800" y="33526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8160" y="28954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3040" y="28954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2622600" y="2979720"/>
                  <a:ext cx="1093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18960" y="1731960"/>
                <a:ext cx="79725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38680" y="3733920"/>
                <a:ext cx="30099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43720" y="2666880"/>
                <a:ext cx="2997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43200" y="5943600"/>
                <a:ext cx="293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715000" y="5943600"/>
                <a:ext cx="293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C5D-CDA2-4C03-90FE-D0A84F7A2A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F2A42-5957-4AC4-A0AC-EBB0399C9719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by 2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961680" y="4038480"/>
            <a:ext cx="1767240" cy="1297800"/>
            <a:chOff x="6961680" y="4038480"/>
            <a:chExt cx="1767240" cy="1297800"/>
          </a:xfrm>
        </p:grpSpPr>
        <p:sp>
          <p:nvSpPr>
            <p:cNvPr id="159" name=""/>
            <p:cNvSpPr/>
            <p:nvPr/>
          </p:nvSpPr>
          <p:spPr>
            <a:xfrm>
              <a:off x="6961680" y="4876560"/>
              <a:ext cx="176724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= 2 ONL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554600" y="4038480"/>
              <a:ext cx="0" cy="838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828800" y="26668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1240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3124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7280" y="26668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216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28800" y="2751120"/>
                <a:ext cx="1917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8960" y="1731960"/>
                <a:ext cx="79725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290840" y="3254400"/>
                <a:ext cx="46785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54000" y="4100400"/>
            <a:ext cx="3832200" cy="866880"/>
            <a:chOff x="54000" y="4100400"/>
            <a:chExt cx="3832200" cy="866880"/>
          </a:xfrm>
        </p:grpSpPr>
        <p:sp>
          <p:nvSpPr>
            <p:cNvPr id="170" name=""/>
            <p:cNvSpPr/>
            <p:nvPr/>
          </p:nvSpPr>
          <p:spPr>
            <a:xfrm>
              <a:off x="1523880" y="4102200"/>
              <a:ext cx="2362320" cy="850680"/>
            </a:xfrm>
            <a:custGeom>
              <a:avLst/>
              <a:gdLst/>
              <a:ahLst/>
              <a:rect l="l" t="t" r="r" b="b"/>
              <a:pathLst>
                <a:path w="1488" h="536">
                  <a:moveTo>
                    <a:pt x="0" y="296"/>
                  </a:moveTo>
                  <a:cubicBezTo>
                    <a:pt x="80" y="267"/>
                    <a:pt x="160" y="239"/>
                    <a:pt x="336" y="200"/>
                  </a:cubicBezTo>
                  <a:cubicBezTo>
                    <a:pt x="511" y="160"/>
                    <a:pt x="864" y="0"/>
                    <a:pt x="1056" y="56"/>
                  </a:cubicBezTo>
                  <a:cubicBezTo>
                    <a:pt x="1247" y="111"/>
                    <a:pt x="1367" y="323"/>
                    <a:pt x="1488" y="53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000" y="4100400"/>
                  <a:ext cx="18223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1371600" y="4876920"/>
            <a:ext cx="4789440" cy="1509480"/>
            <a:chOff x="1371600" y="4876920"/>
            <a:chExt cx="4789440" cy="1509480"/>
          </a:xfrm>
        </p:grpSpPr>
        <p:grpSp>
          <p:nvGrpSpPr>
            <p:cNvPr id="173" name=""/>
            <p:cNvGrpSpPr/>
            <p:nvPr/>
          </p:nvGrpSpPr>
          <p:grpSpPr>
            <a:xfrm>
              <a:off x="1371600" y="4876920"/>
              <a:ext cx="4572000" cy="1218960"/>
              <a:chOff x="1371600" y="4876920"/>
              <a:chExt cx="4572000" cy="1218960"/>
            </a:xfrm>
          </p:grpSpPr>
          <p:sp>
            <p:nvSpPr>
              <p:cNvPr id="174" name=""/>
              <p:cNvSpPr/>
              <p:nvPr/>
            </p:nvSpPr>
            <p:spPr>
              <a:xfrm>
                <a:off x="2666880" y="487692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6520" y="533412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72000" y="53341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725360" y="48769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30240" y="4876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71600" y="60958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133720" y="55623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236232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90512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514600" y="58669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752480" y="58669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43400" y="60958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105520" y="55623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334120" y="59432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876920" y="59432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548640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72428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2867040" y="4876920"/>
                    <a:ext cx="1476360" cy="86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895480" y="60199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867280" y="60199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81B-A475-49FB-9141-45C5F6AECE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DF0C2-3B3D-4E5A-8502-5F90E3239595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DELAY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837160" y="4419360"/>
            <a:ext cx="2625120" cy="1927800"/>
            <a:chOff x="2837160" y="4419360"/>
            <a:chExt cx="2625120" cy="1927800"/>
          </a:xfrm>
        </p:grpSpPr>
        <p:sp>
          <p:nvSpPr>
            <p:cNvPr id="196" name=""/>
            <p:cNvSpPr/>
            <p:nvPr/>
          </p:nvSpPr>
          <p:spPr>
            <a:xfrm>
              <a:off x="2837160" y="5105520"/>
              <a:ext cx="2625120" cy="12416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ONLY ONE 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non-ZERO TE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for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at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=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429000" y="4419360"/>
              <a:ext cx="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67280" y="3505320"/>
            <a:ext cx="137160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9560" y="3544920"/>
                <a:ext cx="6581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39840" y="1657440"/>
                <a:ext cx="8216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65280" y="2666880"/>
                <a:ext cx="3254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24E-EF6D-4829-90A1-AB7D0C3BDE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5C17C-E92A-48A8-A21F-7E415EC2768B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 DOMAIN --&gt; TIME ?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T with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125880" y="1752480"/>
                <a:ext cx="53323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or 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19600" y="3727440"/>
                <a:ext cx="50958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762120" y="2743200"/>
            <a:ext cx="6243480" cy="914400"/>
            <a:chOff x="762120" y="2743200"/>
            <a:chExt cx="6243480" cy="914400"/>
          </a:xfrm>
        </p:grpSpPr>
        <p:grpSp>
          <p:nvGrpSpPr>
            <p:cNvPr id="207" name=""/>
            <p:cNvGrpSpPr/>
            <p:nvPr/>
          </p:nvGrpSpPr>
          <p:grpSpPr>
            <a:xfrm>
              <a:off x="762120" y="2743200"/>
              <a:ext cx="3886200" cy="914400"/>
              <a:chOff x="762120" y="2743200"/>
              <a:chExt cx="3886200" cy="914400"/>
            </a:xfrm>
          </p:grpSpPr>
          <p:sp>
            <p:nvSpPr>
              <p:cNvPr id="208" name=""/>
              <p:cNvSpPr/>
              <p:nvPr/>
            </p:nvSpPr>
            <p:spPr>
              <a:xfrm>
                <a:off x="1752480" y="274320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2120" y="320040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57600" y="320040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10960" y="27432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15840" y="2743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2165400" y="2827440"/>
                    <a:ext cx="1093680" cy="72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5135400" y="2768760"/>
                  <a:ext cx="187020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457200" y="4648320"/>
            <a:ext cx="4789440" cy="1509480"/>
            <a:chOff x="457200" y="4648320"/>
            <a:chExt cx="4789440" cy="1509480"/>
          </a:xfrm>
        </p:grpSpPr>
        <p:grpSp>
          <p:nvGrpSpPr>
            <p:cNvPr id="216" name=""/>
            <p:cNvGrpSpPr/>
            <p:nvPr/>
          </p:nvGrpSpPr>
          <p:grpSpPr>
            <a:xfrm>
              <a:off x="457200" y="4648320"/>
              <a:ext cx="4572000" cy="1218960"/>
              <a:chOff x="457200" y="4648320"/>
              <a:chExt cx="4572000" cy="1218960"/>
            </a:xfrm>
          </p:grpSpPr>
          <p:sp>
            <p:nvSpPr>
              <p:cNvPr id="217" name=""/>
              <p:cNvSpPr/>
              <p:nvPr/>
            </p:nvSpPr>
            <p:spPr>
              <a:xfrm>
                <a:off x="1752480" y="464832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2120" y="510552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57600" y="51055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10960" y="46483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15840" y="46483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7200" y="58672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1219320" y="53337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44792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99072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600200" y="56383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838080" y="56383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29000" y="58672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191120" y="53337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419720" y="57146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962520" y="57146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457200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80988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4" name=""/>
                  <p:cNvSpPr txBox="1"/>
                  <p:nvPr/>
                </p:nvSpPr>
                <p:spPr>
                  <a:xfrm>
                    <a:off x="1830240" y="4710240"/>
                    <a:ext cx="182268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981080" y="57913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952880" y="57913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ED6-D97E-4C72-915D-C4FBFAB00A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1864C-96FC-4594-AA18-C2B2ED86F3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0-01T12:26:52Z</cp:lastPrinted>
  <dcterms:modified xsi:type="dcterms:W3CDTF">2003-10-06T16:20:38Z</dcterms:modified>
  <cp:revision>305</cp:revision>
  <dc:subject/>
  <dc:title>SPFirst Lecture #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