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B80-6DEE-4ED6-92C2-1D106EF1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B53-3072-4C84-AA94-0CE3F986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B36-B21B-4FFA-AF47-6E4D5AD8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D4B-AB81-4061-A389-DDC1D90B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958-D8A9-47E3-83D1-BA96D40A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9A81-4384-4595-841A-80803C1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63C-17DB-4D94-B141-4E5D596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EAF5-1FB5-459F-93C9-16F3A32A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9EAB-9769-4015-890A-25EF240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4C8-F608-44AF-B12E-4F0446E6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2C4-3756-4E07-A87E-E56C81A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88E-F4BD-4BB8-9E71-5E88E54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0155-2145-4D25-8F5F-284A460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1FA4-A508-4FC1-97B8-F50230C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9BF-054E-4C8E-A021-4748B9F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2909-1DCE-4A7B-A887-79BE6490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2A9C-8B23-46AA-B8DA-D1A1C28F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2A6-52A6-45FC-A4E6-6985FCC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F9D-5E18-413C-80F4-02FDCA6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82F-B1F8-4F90-8CB9-2EF60EF9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6BC-C61A-44B1-826D-AE60972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3AD-23CC-4522-AF8D-1C62551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766-5B10-4D3E-892E-F6FC0E2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5F9-A81C-48A4-99CD-7C66BE9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61E2-038D-4816-8519-624BF6E9840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4AA-F053-438A-A478-AA2E3B33A1D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209C-CC8A-43ED-A724-558D69850D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BFEE-E224-47E1-B34A-8F8BDD4BFC9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6F8-5B59-43D6-910F-DC7D22E62DF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9F2-43BD-4E11-ACF2-933B32C933D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 Transforms: Introdu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6C3E-B71D-4936-A289-ECE4BB212C1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E7D-8BF4-4B6E-B2E4-3677529897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Y SIGNAL has a z-Trans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565280" y="2292480"/>
                <a:ext cx="32083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16" name="Picture 6" descr="_x000f_example-7.1.gif                                                0000953C_x0005_JKL-2                          B0CAADC9:"/>
          <p:cNvPicPr/>
          <p:nvPr/>
        </p:nvPicPr>
        <p:blipFill>
          <a:blip r:embed="rId1"/>
          <a:srcRect l="0" t="0" r="0" b="22005"/>
          <a:stretch/>
        </p:blipFill>
        <p:spPr>
          <a:xfrm>
            <a:off x="0" y="3505320"/>
            <a:ext cx="91440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2789280" y="5576760"/>
                <a:ext cx="620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228600" y="5473800"/>
                <a:ext cx="2438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Group 17"/>
          <p:cNvGrpSpPr/>
          <p:nvPr/>
        </p:nvGrpSpPr>
        <p:grpSpPr>
          <a:xfrm>
            <a:off x="3886200" y="4952880"/>
            <a:ext cx="4343400" cy="838440"/>
            <a:chOff x="3886200" y="4952880"/>
            <a:chExt cx="4343400" cy="838440"/>
          </a:xfrm>
        </p:grpSpPr>
        <p:sp>
          <p:nvSpPr>
            <p:cNvPr id="220" name="Line 12"/>
            <p:cNvSpPr/>
            <p:nvPr/>
          </p:nvSpPr>
          <p:spPr>
            <a:xfrm>
              <a:off x="38862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>
              <a:off x="5334120" y="4952880"/>
              <a:ext cx="60948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>
              <a:off x="6095880" y="4952880"/>
              <a:ext cx="99072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45720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6858000" y="4952880"/>
              <a:ext cx="137160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8B37-E158-4458-95AE-DF9CC0F7104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AB82-BFEA-444E-B955-E5B66C7688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8" name="Picture 2" descr="_x000f_example-7.2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527040" y="609480"/>
            <a:ext cx="8089920" cy="562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19"/>
              <p:cNvSpPr txBox="1"/>
              <p:nvPr/>
            </p:nvSpPr>
            <p:spPr>
              <a:xfrm>
                <a:off x="1523880" y="1038240"/>
                <a:ext cx="5562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Group 14"/>
          <p:cNvGrpSpPr/>
          <p:nvPr/>
        </p:nvGrpSpPr>
        <p:grpSpPr>
          <a:xfrm>
            <a:off x="1752480" y="1676520"/>
            <a:ext cx="6477120" cy="4190760"/>
            <a:chOff x="1752480" y="1676520"/>
            <a:chExt cx="6477120" cy="4190760"/>
          </a:xfrm>
        </p:grpSpPr>
        <p:sp>
          <p:nvSpPr>
            <p:cNvPr id="231" name="Line 6"/>
            <p:cNvSpPr/>
            <p:nvPr/>
          </p:nvSpPr>
          <p:spPr>
            <a:xfrm>
              <a:off x="6553080" y="1676520"/>
              <a:ext cx="1676520" cy="4114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2" name="Line 4"/>
            <p:cNvSpPr/>
            <p:nvPr/>
          </p:nvSpPr>
          <p:spPr>
            <a:xfrm>
              <a:off x="1752480" y="3124080"/>
              <a:ext cx="2514600" cy="2743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2666880" y="2819520"/>
              <a:ext cx="1447920" cy="152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243360" y="1676520"/>
            <a:ext cx="3566520" cy="3200400"/>
            <a:chOff x="243360" y="1676520"/>
            <a:chExt cx="3566520" cy="3200400"/>
          </a:xfrm>
        </p:grpSpPr>
        <p:sp>
          <p:nvSpPr>
            <p:cNvPr id="235" name="Text Box 3"/>
            <p:cNvSpPr/>
            <p:nvPr/>
          </p:nvSpPr>
          <p:spPr>
            <a:xfrm>
              <a:off x="243360" y="2438280"/>
              <a:ext cx="2451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XPONENT GIV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TIME LOC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1752480" y="1676520"/>
              <a:ext cx="20574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762120" y="3124080"/>
              <a:ext cx="380880" cy="1752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8"/>
              <p:cNvSpPr txBox="1"/>
              <p:nvPr/>
            </p:nvSpPr>
            <p:spPr>
              <a:xfrm>
                <a:off x="533520" y="4876920"/>
                <a:ext cx="162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DC9-6779-4318-9434-669D5D7C99A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5422-E127-4ED0-A92F-EF83C805C86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YSTEM FUN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[n] is same as {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806400" y="4438800"/>
            <a:ext cx="8123400" cy="1903680"/>
            <a:chOff x="806400" y="4438800"/>
            <a:chExt cx="8123400" cy="1903680"/>
          </a:xfrm>
        </p:grpSpPr>
        <p:sp>
          <p:nvSpPr>
            <p:cNvPr id="245" name="Text Box 12"/>
            <p:cNvSpPr/>
            <p:nvPr/>
          </p:nvSpPr>
          <p:spPr>
            <a:xfrm>
              <a:off x="1537920" y="5943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9"/>
                <p:cNvSpPr txBox="1"/>
                <p:nvPr/>
              </p:nvSpPr>
              <p:spPr>
                <a:xfrm>
                  <a:off x="806400" y="4438800"/>
                  <a:ext cx="7869240" cy="15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13"/>
            <p:cNvSpPr/>
            <p:nvPr/>
          </p:nvSpPr>
          <p:spPr>
            <a:xfrm>
              <a:off x="6795360" y="5791320"/>
              <a:ext cx="21344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ONVOLU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396000" y="3193920"/>
            <a:ext cx="15400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UNC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7"/>
              <p:cNvSpPr txBox="1"/>
              <p:nvPr/>
            </p:nvSpPr>
            <p:spPr>
              <a:xfrm>
                <a:off x="2124000" y="2838600"/>
                <a:ext cx="619128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7FC-787C-4E92-B778-2C17ECE1C2E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4277-C409-446D-A06F-C99D1985BFF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1219320" y="3059280"/>
                <a:ext cx="685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4"/>
              <p:cNvSpPr txBox="1"/>
              <p:nvPr/>
            </p:nvSpPr>
            <p:spPr>
              <a:xfrm>
                <a:off x="685800" y="5105520"/>
                <a:ext cx="7543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H(z) DIRECTLY from the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 7.3 in the book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7" name="Group 16"/>
          <p:cNvGrpSpPr/>
          <p:nvPr/>
        </p:nvGrpSpPr>
        <p:grpSpPr>
          <a:xfrm>
            <a:off x="2895480" y="3581280"/>
            <a:ext cx="5029200" cy="1752840"/>
            <a:chOff x="2895480" y="3581280"/>
            <a:chExt cx="5029200" cy="1752840"/>
          </a:xfrm>
        </p:grpSpPr>
        <p:sp>
          <p:nvSpPr>
            <p:cNvPr id="258" name="Line 5"/>
            <p:cNvSpPr/>
            <p:nvPr/>
          </p:nvSpPr>
          <p:spPr>
            <a:xfrm>
              <a:off x="2895480" y="3581280"/>
              <a:ext cx="2210040" cy="1752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>
              <a:off x="4343400" y="3581280"/>
              <a:ext cx="1676520" cy="1676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0" name="Line 7"/>
            <p:cNvSpPr/>
            <p:nvPr/>
          </p:nvSpPr>
          <p:spPr>
            <a:xfrm>
              <a:off x="7772400" y="3581280"/>
              <a:ext cx="152280" cy="1676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>
              <a:off x="5791320" y="3657600"/>
              <a:ext cx="91440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Object 17"/>
              <p:cNvSpPr txBox="1"/>
              <p:nvPr/>
            </p:nvSpPr>
            <p:spPr>
              <a:xfrm>
                <a:off x="380880" y="4121280"/>
                <a:ext cx="2971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609-522D-4041-A2A2-94BAB5F4DF1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DCC-8914-45F7-A16A-1631C53C52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. 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h[n] 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505320" y="5029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25146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541008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5563440" y="5029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668320" y="5029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200400" y="24382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22096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51055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5257800" y="2438280"/>
            <a:ext cx="17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= 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-1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3637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27"/>
              <p:cNvSpPr txBox="1"/>
              <p:nvPr/>
            </p:nvSpPr>
            <p:spPr>
              <a:xfrm>
                <a:off x="3246480" y="2522520"/>
                <a:ext cx="1825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380880" y="3606840"/>
                <a:ext cx="4953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334120" y="3606840"/>
                <a:ext cx="1238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6"/>
              <p:cNvSpPr txBox="1"/>
              <p:nvPr/>
            </p:nvSpPr>
            <p:spPr>
              <a:xfrm>
                <a:off x="4038480" y="4952880"/>
                <a:ext cx="897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14C-357C-4F70-8C25-2ED512A9801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C65-1D19-4692-81EF-FA17BCFA7D5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y[n] via polynomi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= {3,1,4,1,5,9,0,0,0,...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Picture 28" descr="_x0011_delay-as-zinv.gif                                              0000953C_x0005_JKL-2                          B0CAADC9:"/>
          <p:cNvPicPr/>
          <p:nvPr/>
        </p:nvPicPr>
        <p:blipFill>
          <a:blip r:embed="rId1"/>
          <a:srcRect l="0" t="56744" r="0" b="0"/>
          <a:stretch/>
        </p:blipFill>
        <p:spPr>
          <a:xfrm>
            <a:off x="0" y="5029200"/>
            <a:ext cx="914400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Object 33"/>
              <p:cNvSpPr txBox="1"/>
              <p:nvPr/>
            </p:nvSpPr>
            <p:spPr>
              <a:xfrm>
                <a:off x="244440" y="4267080"/>
                <a:ext cx="8442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4"/>
              <p:cNvSpPr txBox="1"/>
              <p:nvPr/>
            </p:nvSpPr>
            <p:spPr>
              <a:xfrm>
                <a:off x="237960" y="3505320"/>
                <a:ext cx="7763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5"/>
              <p:cNvSpPr txBox="1"/>
              <p:nvPr/>
            </p:nvSpPr>
            <p:spPr>
              <a:xfrm>
                <a:off x="228600" y="2743200"/>
                <a:ext cx="275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7D97-5C28-40B5-AF17-D77B3C9C81C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7EA-7826-4982-AE0A-92B4E562B21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5" name="Picture 3" descr="_x0012_ZT-delay-props.gif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57E-C3C7-4981-ACA7-781BA3E1581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6874-54C5-4D35-94F7-54EDB75B44E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/O PROBL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x[n], find y[n]    (for FIR, h[n]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combine X(z) and H(z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1" name="Picture 3076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819520"/>
            <a:ext cx="87631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4B8-6F76-44B4-8463-8D339C839EC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880-D9AD-4E6B-B121-F483BD5EBE6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ilter =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6" name="Picture 3" descr="_x0011_example-7.5-3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1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457200" y="5257800"/>
                <a:ext cx="71629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Text Box 11"/>
          <p:cNvSpPr/>
          <p:nvPr/>
        </p:nvSpPr>
        <p:spPr>
          <a:xfrm>
            <a:off x="6566760" y="6324480"/>
            <a:ext cx="2134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15D-AAF6-42B6-9BF5-E8B9E2B91B9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17E-517C-423F-9287-F1D01005E15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4" name="Picture 4" descr="_x000f_convol-prop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4384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6419160" y="411480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7162920" y="4952880"/>
            <a:ext cx="15228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E76-489D-446A-8CBA-77E9F4273A0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E17-0ECF-45C7-8336-9B8D0C41F1C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Creative Commons License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D7D-0ADB-41FB-B36C-B9CCB9E5B1B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3F2-E35D-4340-AFAA-42D9DA15264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z-TRANSFO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Picture 1031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352600"/>
            <a:ext cx="8991720" cy="31338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32"/>
          <p:cNvSpPr/>
          <p:nvPr/>
        </p:nvSpPr>
        <p:spPr>
          <a:xfrm>
            <a:off x="2375640" y="5562720"/>
            <a:ext cx="402624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ULTIPLY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A48-1820-41C3-BA18-80506ABAD6A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851-5AE9-468B-A66A-D40FA454000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-Length input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(L=4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Picture 6" descr="_x0011_example-7.5-2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971800"/>
            <a:ext cx="8928360" cy="29624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5733360" y="243828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101360" y="5791320"/>
            <a:ext cx="1168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 =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C92-6CE6-456E-8EF2-F3CFA562759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4C0-BF69-4721-9D15-6FCF88AE45E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ember:  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 *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to combine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and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7" name="Picture 5" descr="_x0010_cascade-of-2.gif                                               000078EC_x0003_JJ2                            B083FE93:"/>
          <p:cNvPicPr/>
          <p:nvPr/>
        </p:nvPicPr>
        <p:blipFill>
          <a:blip r:embed="rId1"/>
          <a:stretch/>
        </p:blipFill>
        <p:spPr>
          <a:xfrm>
            <a:off x="0" y="41274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28432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67294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C6F6-2D58-4885-BFFA-1B3E819F8A2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27A-0F2F-4646-8C88-D17DEB49D34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Group 51"/>
          <p:cNvGrpSpPr/>
          <p:nvPr/>
        </p:nvGrpSpPr>
        <p:grpSpPr>
          <a:xfrm>
            <a:off x="687240" y="2743200"/>
            <a:ext cx="6856560" cy="914400"/>
            <a:chOff x="687240" y="2743200"/>
            <a:chExt cx="6856560" cy="914400"/>
          </a:xfrm>
        </p:grpSpPr>
        <p:sp>
          <p:nvSpPr>
            <p:cNvPr id="346" name="Rectangle 28"/>
            <p:cNvSpPr/>
            <p:nvPr/>
          </p:nvSpPr>
          <p:spPr>
            <a:xfrm>
              <a:off x="1752480" y="2743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762120" y="3200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8" name="Line 30"/>
            <p:cNvSpPr/>
            <p:nvPr/>
          </p:nvSpPr>
          <p:spPr>
            <a:xfrm>
              <a:off x="3657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68724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33"/>
                <p:cNvSpPr txBox="1"/>
                <p:nvPr/>
              </p:nvSpPr>
              <p:spPr>
                <a:xfrm>
                  <a:off x="2011320" y="2849400"/>
                  <a:ext cx="14572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Rectangle 34"/>
            <p:cNvSpPr/>
            <p:nvPr/>
          </p:nvSpPr>
          <p:spPr>
            <a:xfrm>
              <a:off x="4648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>
              <a:off x="6553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685260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9"/>
                <p:cNvSpPr txBox="1"/>
                <p:nvPr/>
              </p:nvSpPr>
              <p:spPr>
                <a:xfrm>
                  <a:off x="4884840" y="2849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Object 40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Group 52"/>
          <p:cNvGrpSpPr/>
          <p:nvPr/>
        </p:nvGrpSpPr>
        <p:grpSpPr>
          <a:xfrm>
            <a:off x="552240" y="2514600"/>
            <a:ext cx="6153480" cy="3416400"/>
            <a:chOff x="552240" y="2514600"/>
            <a:chExt cx="6153480" cy="3416400"/>
          </a:xfrm>
        </p:grpSpPr>
        <p:sp>
          <p:nvSpPr>
            <p:cNvPr id="357" name="Rectangle 9"/>
            <p:cNvSpPr/>
            <p:nvPr/>
          </p:nvSpPr>
          <p:spPr>
            <a:xfrm>
              <a:off x="3352680" y="4038480"/>
              <a:ext cx="190512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>
              <a:off x="2362320" y="4495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5257800" y="4495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5411160" y="4038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2516040" y="4038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6"/>
                <p:cNvSpPr txBox="1"/>
                <p:nvPr/>
              </p:nvSpPr>
              <p:spPr>
                <a:xfrm>
                  <a:off x="3679920" y="416736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Line 44"/>
            <p:cNvSpPr/>
            <p:nvPr/>
          </p:nvSpPr>
          <p:spPr>
            <a:xfrm flipV="1">
              <a:off x="2743200" y="4876560"/>
              <a:ext cx="5335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Text Box 45"/>
            <p:cNvSpPr/>
            <p:nvPr/>
          </p:nvSpPr>
          <p:spPr>
            <a:xfrm>
              <a:off x="552240" y="5105520"/>
              <a:ext cx="2225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QUIVALEN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STE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1600200" y="2514600"/>
              <a:ext cx="5105520" cy="1295280"/>
            </a:xfrm>
            <a:prstGeom prst="rect">
              <a:avLst/>
            </a:prstGeom>
            <a:noFill/>
            <a:ln w="76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524-B0E8-4B73-AC66-541FA2D654F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0714-3E2C-4686-B4A4-C2A5AD87F22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70" name="Group 28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71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" name="Group 29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78" name="Rectangle 15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Line 16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19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20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Rectangle 22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23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Rectangle 24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0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1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2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3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302D-68B7-424A-B935-6D1FD63671F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6CE1-9072-47C7-BCE7-AAEB5AF8347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s 7-1 through 7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CADING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, 7-6 to the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D9B-EDE6-4654-AAA0-8957A1A9571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FD4E-C5C1-4927-A609-7834E2D997B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RODUCE the Z-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 Mathematical 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(z) POLYNOMI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mplifies analysi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 SIMPLIFIED 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-Transform can be applied t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: h[n] --&gt;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gnals: x[n] --&gt; X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70480" y="5121360"/>
                <a:ext cx="3738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895480" y="4952880"/>
                <a:ext cx="205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666880" y="54864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AA95-DCED-4D41-B414-10CA50B1E78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721-4DA3-4882-BE94-0B1E6105630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812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TWO (no, THREE) DOMAINS</a:t>
            </a:r>
            <a:endParaRPr b="0" lang="en-US" sz="28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1" name="Group 2065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2" name="Text Box 2055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Text Box 2056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Freeform 2061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5" name="Group 2068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6" name="Line 2066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067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8" name="Group 2075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19" name="Text Box 2053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070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2074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2" name="Text Box 2052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072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Group 2080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5" name="Line 2060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079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5505480" y="539640"/>
                <a:ext cx="3603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E80-1E75-426E-9ED0-8E05CDBD58D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07A9-866F-4EA2-80D5-C2E5D7D533B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 CONCEP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to a new domain whe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ERATIONS are EASIER &amp; FAMILIA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YNOM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NSFORM both way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---&gt; X(z)   (into the z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z) ---&gt; x[n]  (back to the time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1295280" y="45720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1295280" y="5181480"/>
                <a:ext cx="1981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BE5-0960-4CA5-9ED2-AB03F177EFA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F826-C7EA-4B87-B542-3A9897787F0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”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743200"/>
            <a:ext cx="35812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80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952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062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34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371600" y="4495680"/>
            <a:ext cx="35053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3808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4876920" y="49528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503028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53496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Line 38"/>
          <p:cNvSpPr/>
          <p:nvPr/>
        </p:nvSpPr>
        <p:spPr>
          <a:xfrm>
            <a:off x="76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Line 39"/>
          <p:cNvSpPr/>
          <p:nvPr/>
        </p:nvSpPr>
        <p:spPr>
          <a:xfrm flipV="1">
            <a:off x="838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Line 40"/>
          <p:cNvSpPr/>
          <p:nvPr/>
        </p:nvSpPr>
        <p:spPr>
          <a:xfrm flipV="1">
            <a:off x="10666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Line 41"/>
          <p:cNvSpPr/>
          <p:nvPr/>
        </p:nvSpPr>
        <p:spPr>
          <a:xfrm flipV="1">
            <a:off x="6094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Line 42"/>
          <p:cNvSpPr/>
          <p:nvPr/>
        </p:nvSpPr>
        <p:spPr>
          <a:xfrm flipV="1">
            <a:off x="12193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Line 43"/>
          <p:cNvSpPr/>
          <p:nvPr/>
        </p:nvSpPr>
        <p:spPr>
          <a:xfrm flipV="1">
            <a:off x="45720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4648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Line 45"/>
          <p:cNvSpPr/>
          <p:nvPr/>
        </p:nvSpPr>
        <p:spPr>
          <a:xfrm flipV="1">
            <a:off x="5410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Line 46"/>
          <p:cNvSpPr/>
          <p:nvPr/>
        </p:nvSpPr>
        <p:spPr>
          <a:xfrm flipV="1">
            <a:off x="56386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Line 47"/>
          <p:cNvSpPr/>
          <p:nvPr/>
        </p:nvSpPr>
        <p:spPr>
          <a:xfrm flipV="1">
            <a:off x="51814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Line 48"/>
          <p:cNvSpPr/>
          <p:nvPr/>
        </p:nvSpPr>
        <p:spPr>
          <a:xfrm flipV="1">
            <a:off x="5791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Line 49"/>
          <p:cNvSpPr/>
          <p:nvPr/>
        </p:nvSpPr>
        <p:spPr>
          <a:xfrm flipV="1">
            <a:off x="50292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Line 52"/>
          <p:cNvSpPr/>
          <p:nvPr/>
        </p:nvSpPr>
        <p:spPr>
          <a:xfrm>
            <a:off x="358128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3"/>
              <p:cNvSpPr txBox="1"/>
              <p:nvPr/>
            </p:nvSpPr>
            <p:spPr>
              <a:xfrm>
                <a:off x="5257800" y="347040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4"/>
              <p:cNvSpPr txBox="1"/>
              <p:nvPr/>
            </p:nvSpPr>
            <p:spPr>
              <a:xfrm>
                <a:off x="1389240" y="4613400"/>
                <a:ext cx="34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5"/>
              <p:cNvSpPr txBox="1"/>
              <p:nvPr/>
            </p:nvSpPr>
            <p:spPr>
              <a:xfrm>
                <a:off x="1447920" y="2967120"/>
                <a:ext cx="350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5333-8251-4F0D-B209-77D6C9EAE2F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84B-F724-4F65-884F-14D40D9AEC2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IDE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OLYNOMI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909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6002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4956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6490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75392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590920" y="449568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60020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4956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64904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75392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12952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20574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V="1">
            <a:off x="22860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243828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 flipV="1">
            <a:off x="16765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42670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 flipV="1">
            <a:off x="50292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 flipV="1">
            <a:off x="52578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V="1">
            <a:off x="48006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 flipV="1">
            <a:off x="54100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Line 25"/>
          <p:cNvSpPr/>
          <p:nvPr/>
        </p:nvSpPr>
        <p:spPr>
          <a:xfrm flipV="1">
            <a:off x="4648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2917800" y="4624560"/>
                <a:ext cx="1320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003480" y="2827440"/>
                <a:ext cx="109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8"/>
          <p:cNvSpPr/>
          <p:nvPr/>
        </p:nvSpPr>
        <p:spPr>
          <a:xfrm>
            <a:off x="342900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5756400" y="3511440"/>
                <a:ext cx="320652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398-0DD4-45F6-A022-80C8DCC875A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42F8-BCA4-4CEC-97D0-5F520C5ACA7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53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Line 1056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1057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Text Box 1058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62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63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64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65"/>
              <p:cNvSpPr txBox="1"/>
              <p:nvPr/>
            </p:nvSpPr>
            <p:spPr>
              <a:xfrm>
                <a:off x="762120" y="380988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05-16T00:05:32Z</cp:lastPrinted>
  <dcterms:modified xsi:type="dcterms:W3CDTF">2013-05-01T23:05:51Z</dcterms:modified>
  <cp:revision>244</cp:revision>
  <dc:subject/>
  <dc:title>SPFirst Lecture #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