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4.png" ContentType="image/png"/>
  <Override PartName="/ppt/media/image1.png" ContentType="image/png"/>
  <Override PartName="/ppt/media/image2.wmf" ContentType="image/x-wmf"/>
  <Override PartName="/ppt/media/image29.png" ContentType="image/png"/>
  <Override PartName="/ppt/media/image3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51.png" ContentType="image/png"/>
  <Override PartName="/ppt/media/image38.png" ContentType="image/png"/>
  <Override PartName="/ppt/media/image30.wmf" ContentType="image/x-wmf"/>
  <Override PartName="/ppt/media/image42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25.png" ContentType="image/png"/>
  <Override PartName="/ppt/media/image35.png" ContentType="image/png"/>
  <Override PartName="/ppt/media/image46.wmf" ContentType="image/x-wmf"/>
  <Override PartName="/ppt/media/image52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0.png" ContentType="image/png"/>
  <Override PartName="/ppt/media/image8.wmf" ContentType="image/x-wmf"/>
  <Override PartName="/ppt/media/image53.wmf" ContentType="image/x-wmf"/>
  <Override PartName="/ppt/media/image13.png" ContentType="image/png"/>
  <Override PartName="/ppt/media/image11.wmf" ContentType="image/x-wmf"/>
  <Override PartName="/ppt/media/image50.png" ContentType="image/png"/>
  <Override PartName="/ppt/media/image48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media/image10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E41-A597-4D3F-96B6-3C61B09D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87D-D4A4-45EE-BBF1-B258FD1C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51F-70D1-410A-85C9-7653EF77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4DD-4A49-44E2-8D5E-36DC2388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AC7-305A-4F4A-9234-083FF07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F29-8681-465F-8AC8-F0297C11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1414-D218-4AED-ADC5-8620DFAD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115-01EC-4098-8098-FFB1EDF7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FE3A-F739-4D71-9EDD-FE16CF7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A0FA-4CE0-483E-A39C-56234C32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0CA9-E57E-4CA5-B096-AD4A900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732-55FE-4C5B-905A-8CC0EA4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6466-E5C8-47AC-8ACF-A322199E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F94D-061F-42F3-928B-D305149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0E7-BB2F-45CE-A715-BC1D40BD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5533-A1F1-4FA3-A59D-48E985BB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448-EC0C-4C9B-B69D-47F784B8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8A6-A75F-44BF-8ED1-107FC5C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B21-F437-46E8-917B-B8BC430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4CF-718B-4586-B064-EB91750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749-B8C2-447B-AA26-E346CB6A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567-B14F-4018-9CD0-A80B7EF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9FD-8492-4281-B962-754E09D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4FE-D730-4D83-96D0-A87AA705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26F3-6A24-4A5C-A337-2BADB188080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3A01-3816-4FD8-8C93-A849700FCAB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F627-2150-499C-BF4E-232DA8D9EB5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5DC-027F-4BA3-82D3-72FBB084446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5120" y="34286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5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ampling and Reconstru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Fourier View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2E4-73D4-4236-8CBA-DD67CD78F5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A2A17B-47B3-4DF9-A415-A5D8D35C2763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SpecgramQuadModGray" descr=""/>
          <p:cNvPicPr/>
          <p:nvPr/>
        </p:nvPicPr>
        <p:blipFill>
          <a:blip r:embed="rId1"/>
          <a:stretch/>
        </p:blipFill>
        <p:spPr>
          <a:xfrm>
            <a:off x="0" y="990720"/>
            <a:ext cx="7696080" cy="58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adrature Modulation: 4 sig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7773480" y="2286000"/>
            <a:ext cx="122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87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67000" y="4495680"/>
            <a:ext cx="122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36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514600"/>
            <a:ext cx="6858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724280"/>
            <a:ext cx="6858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4EC-ECB3-4BF3-84A9-45DEBA43B5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A0080-ADB8-41C9-98AC-5AD8A784B4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Conver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6858000" cy="38289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thematical Model for A-to-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248520" y="3886200"/>
          <a:ext cx="27432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3886200"/>
                    <a:ext cx="2743200" cy="549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3123720" y="3580920"/>
            <a:ext cx="5716080" cy="2461320"/>
            <a:chOff x="3123720" y="3580920"/>
            <a:chExt cx="5716080" cy="2461320"/>
          </a:xfrm>
        </p:grpSpPr>
        <p:sp>
          <p:nvSpPr>
            <p:cNvPr id="175" name=""/>
            <p:cNvSpPr/>
            <p:nvPr/>
          </p:nvSpPr>
          <p:spPr>
            <a:xfrm>
              <a:off x="6714360" y="4800600"/>
              <a:ext cx="2125440" cy="124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URI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TRANSFO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f x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(t) ???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123720" y="3580920"/>
              <a:ext cx="358164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05F-D472-471A-8E54-4DEDC5CD4A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CB35C-FC5B-4B0C-9923-524951D15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eriodic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315200" y="3962520"/>
          <a:ext cx="13716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962520"/>
                    <a:ext cx="1371600" cy="9651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1" name="impulseTrain_FT" descr=""/>
          <p:cNvPicPr/>
          <p:nvPr/>
        </p:nvPicPr>
        <p:blipFill>
          <a:blip r:embed="rId3"/>
          <a:stretch/>
        </p:blipFill>
        <p:spPr>
          <a:xfrm>
            <a:off x="533520" y="1050840"/>
            <a:ext cx="8076960" cy="247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4920" y="3657600"/>
                <a:ext cx="64767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7200" y="5160960"/>
                <a:ext cx="51055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720400" y="5334120"/>
            <a:ext cx="2003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DFD-FD46-48D0-9EB0-5EEAD561E7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D89E2-5001-4E8F-999D-8E31AACDF5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T of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066680"/>
                <a:ext cx="84582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↔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88" name="impulseTrain_FT" descr=""/>
          <p:cNvPicPr/>
          <p:nvPr/>
        </p:nvPicPr>
        <p:blipFill>
          <a:blip r:embed="rId1"/>
          <a:stretch/>
        </p:blipFill>
        <p:spPr>
          <a:xfrm>
            <a:off x="380880" y="2249640"/>
            <a:ext cx="6782040" cy="45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250040" y="2438280"/>
                <a:ext cx="15130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A18-866B-4ADA-90E7-0D3713C128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00F64-981C-48B9-88A1-90F98F4FF7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Train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3886200"/>
            <a:ext cx="7772040" cy="1025280"/>
            <a:chOff x="762120" y="3886200"/>
            <a:chExt cx="7772040" cy="1025280"/>
          </a:xfrm>
        </p:grpSpPr>
        <p:graphicFrame>
          <p:nvGraphicFramePr>
            <p:cNvPr id="192" name=""/>
            <p:cNvGraphicFramePr/>
            <p:nvPr/>
          </p:nvGraphicFramePr>
          <p:xfrm>
            <a:off x="762120" y="3886200"/>
            <a:ext cx="777204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3886200"/>
                      <a:ext cx="777204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6267240" y="4627080"/>
              <a:ext cx="21859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905120" y="5219640"/>
            <a:ext cx="5714640" cy="1409400"/>
            <a:chOff x="1905120" y="5219640"/>
            <a:chExt cx="5714640" cy="1409400"/>
          </a:xfrm>
        </p:grpSpPr>
        <p:graphicFrame>
          <p:nvGraphicFramePr>
            <p:cNvPr id="196" name=""/>
            <p:cNvGraphicFramePr/>
            <p:nvPr/>
          </p:nvGraphicFramePr>
          <p:xfrm>
            <a:off x="1905120" y="5219640"/>
            <a:ext cx="5714640" cy="140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5219640"/>
                      <a:ext cx="5714640" cy="14094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4426200" y="6240240"/>
              <a:ext cx="31093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pic>
        <p:nvPicPr>
          <p:cNvPr id="199" name="sys_Sampling" descr=""/>
          <p:cNvPicPr/>
          <p:nvPr/>
        </p:nvPicPr>
        <p:blipFill>
          <a:blip r:embed="rId5"/>
          <a:stretch/>
        </p:blipFill>
        <p:spPr>
          <a:xfrm>
            <a:off x="533520" y="1371600"/>
            <a:ext cx="489564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6CB-64C4-49BE-A09F-5F926E23E5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01E25-074C-4A04-8B62-E576E4D796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sampled_signal_wave" descr=""/>
          <p:cNvPicPr/>
          <p:nvPr/>
        </p:nvPicPr>
        <p:blipFill>
          <a:blip r:embed="rId1"/>
          <a:stretch/>
        </p:blipFill>
        <p:spPr>
          <a:xfrm>
            <a:off x="685800" y="949320"/>
            <a:ext cx="6095880" cy="5908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llustr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85800" y="1143000"/>
            <a:ext cx="1295280" cy="609480"/>
            <a:chOff x="685800" y="1143000"/>
            <a:chExt cx="1295280" cy="609480"/>
          </a:xfrm>
        </p:grpSpPr>
        <p:graphicFrame>
          <p:nvGraphicFramePr>
            <p:cNvPr id="203" name=""/>
            <p:cNvGraphicFramePr/>
            <p:nvPr/>
          </p:nvGraphicFramePr>
          <p:xfrm>
            <a:off x="685800" y="1143000"/>
            <a:ext cx="57168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1143000"/>
                      <a:ext cx="571680" cy="3301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>
              <a:off x="1219320" y="1447920"/>
              <a:ext cx="761760" cy="304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276720" y="3962520"/>
          <a:ext cx="19047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962520"/>
                    <a:ext cx="1904760" cy="380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2897280"/>
                <a:ext cx="37335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83320" y="5794200"/>
                <a:ext cx="274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670800" y="2514600"/>
                <a:ext cx="191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C2C-F088-4D3D-910B-D3C86F2FBE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51065-C303-4EE1-9D72-3A3BB765AA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sys_Sampling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2770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: Freq. 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6482160" y="3276720"/>
            <a:ext cx="24058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ING !!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9480" y="4800600"/>
                <a:ext cx="72392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2952720"/>
                <a:ext cx="30477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CCC-8CF5-4D6B-BE61-E91428397A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D2847-67DB-44A4-9136-AC38DB306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Analysi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828800"/>
          <a:ext cx="81788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78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976320" y="3193920"/>
            <a:ext cx="7143840" cy="1017720"/>
            <a:chOff x="976320" y="3193920"/>
            <a:chExt cx="7143840" cy="1017720"/>
          </a:xfrm>
        </p:grpSpPr>
        <p:graphicFrame>
          <p:nvGraphicFramePr>
            <p:cNvPr id="220" name=""/>
            <p:cNvGraphicFramePr/>
            <p:nvPr/>
          </p:nvGraphicFramePr>
          <p:xfrm>
            <a:off x="976320" y="3193920"/>
            <a:ext cx="714384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6320" y="3193920"/>
                      <a:ext cx="714384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6553080" y="3886200"/>
              <a:ext cx="152424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295280" y="4649760"/>
            <a:ext cx="7467840" cy="1878120"/>
            <a:chOff x="1295280" y="4649760"/>
            <a:chExt cx="7467840" cy="1878120"/>
          </a:xfrm>
        </p:grpSpPr>
        <p:grpSp>
          <p:nvGrpSpPr>
            <p:cNvPr id="224" name=""/>
            <p:cNvGrpSpPr/>
            <p:nvPr/>
          </p:nvGrpSpPr>
          <p:grpSpPr>
            <a:xfrm>
              <a:off x="1295280" y="4649760"/>
              <a:ext cx="7467840" cy="1878120"/>
              <a:chOff x="1295280" y="4649760"/>
              <a:chExt cx="7467840" cy="187812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1295280" y="4649760"/>
              <a:ext cx="6091200" cy="117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95280" y="4649760"/>
                        <a:ext cx="6091200" cy="1179720"/>
                      </a:xfrm>
                      <a:prstGeom prst="rect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7" name=""/>
              <p:cNvGraphicFramePr/>
              <p:nvPr/>
            </p:nvGraphicFramePr>
            <p:xfrm>
              <a:off x="7391520" y="5562720"/>
              <a:ext cx="1371600" cy="96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91520" y="5562720"/>
                        <a:ext cx="1371600" cy="965160"/>
                      </a:xfrm>
                      <a:prstGeom prst="rect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9" name=""/>
            <p:cNvSpPr/>
            <p:nvPr/>
          </p:nvSpPr>
          <p:spPr>
            <a:xfrm>
              <a:off x="4572000" y="5486400"/>
              <a:ext cx="274320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6324120" y="3886200"/>
            <a:ext cx="685800" cy="9144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0B3-B410-4D04-80B9-76B97B4D8C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055D2-B6CC-4B19-8FE6-4E9257EAC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aliased1_signal_trans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666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Represent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00200" y="3222720"/>
          <a:ext cx="61722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22720"/>
                    <a:ext cx="6172200" cy="119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0880" y="17366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6" name="aliased2_signal_trans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8839440" cy="23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695-F99E-4C88-9CE2-6B94B6D608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A9E3-A45C-455B-AE1D-6F7FF762C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liasing Distor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3029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2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the copies of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verlap, and we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asing distor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9" name="aliased3_signal_tran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686800" cy="2017800"/>
          </a:xfrm>
          <a:prstGeom prst="rect">
            <a:avLst/>
          </a:prstGeom>
          <a:ln w="0">
            <a:noFill/>
          </a:ln>
        </p:spPr>
      </p:pic>
      <p:pic>
        <p:nvPicPr>
          <p:cNvPr id="240" name="aliased1_signal_trans" descr=""/>
          <p:cNvPicPr/>
          <p:nvPr/>
        </p:nvPicPr>
        <p:blipFill>
          <a:blip r:embed="rId2"/>
          <a:stretch/>
        </p:blipFill>
        <p:spPr>
          <a:xfrm>
            <a:off x="304920" y="1333440"/>
            <a:ext cx="8686800" cy="1638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880" y="16002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961-781E-4043-8CD6-B0D4ECB739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28054-E413-48B4-892A-EB9D57AA3C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893-C47F-4A94-B0FB-656848AD0F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FB2F1-19AB-4349-8AD1-86CDCF1E172C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sys_Reconstruct" descr=""/>
          <p:cNvPicPr/>
          <p:nvPr/>
        </p:nvPicPr>
        <p:blipFill>
          <a:blip r:embed="rId1"/>
          <a:srcRect l="0" t="0" r="0" b="37572"/>
          <a:stretch/>
        </p:blipFill>
        <p:spPr>
          <a:xfrm>
            <a:off x="457200" y="12193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o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14600" y="3124080"/>
          <a:ext cx="45720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4572000" cy="974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76520" y="4343400"/>
          <a:ext cx="5486400" cy="10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343400"/>
                    <a:ext cx="54864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828800" y="5638680"/>
          <a:ext cx="5181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638680"/>
                    <a:ext cx="5181480" cy="546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DF8-2D1B-40E9-814E-C7BC115EAE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94F32-5233-43F7-B60F-32306AFB4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onstruct_tran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7828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Reconstruction: Frequency-Domain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638680" y="2743200"/>
                <a:ext cx="3353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the copies of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o not overlap, so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304920" y="3276720"/>
            <a:ext cx="2286000" cy="761760"/>
            <a:chOff x="304920" y="3276720"/>
            <a:chExt cx="2286000" cy="761760"/>
          </a:xfrm>
        </p:grpSpPr>
        <p:sp>
          <p:nvSpPr>
            <p:cNvPr id="254" name=""/>
            <p:cNvSpPr/>
            <p:nvPr/>
          </p:nvSpPr>
          <p:spPr>
            <a:xfrm>
              <a:off x="1371600" y="3581280"/>
              <a:ext cx="121932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304920" y="3276720"/>
            <a:ext cx="1117440" cy="36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276720"/>
                      <a:ext cx="1117440" cy="3682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69B-1A81-41A9-B24D-BFA9F4293E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EF142-E7AD-461A-A2A2-65007A9DB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ideal_BLht_Recon_Filter" descr=""/>
          <p:cNvPicPr/>
          <p:nvPr/>
        </p:nvPicPr>
        <p:blipFill>
          <a:blip r:embed="rId1"/>
          <a:stretch/>
        </p:blipFill>
        <p:spPr>
          <a:xfrm>
            <a:off x="1219320" y="4056120"/>
            <a:ext cx="6324480" cy="2589120"/>
          </a:xfrm>
          <a:prstGeom prst="rect">
            <a:avLst/>
          </a:prstGeom>
          <a:ln w="0">
            <a:noFill/>
          </a:ln>
        </p:spPr>
      </p:pic>
      <p:pic>
        <p:nvPicPr>
          <p:cNvPr id="258" name="ideal_BL_Recon_Filte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467480" cy="2428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Reconstruction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4038480"/>
          <a:ext cx="28195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2819520" cy="170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4920" y="1447920"/>
          <a:ext cx="328932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289320" cy="14857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4419720" y="4191120"/>
            <a:ext cx="2128680" cy="457200"/>
            <a:chOff x="4419720" y="4191120"/>
            <a:chExt cx="2128680" cy="457200"/>
          </a:xfrm>
        </p:grpSpPr>
        <p:graphicFrame>
          <p:nvGraphicFramePr>
            <p:cNvPr id="265" name=""/>
            <p:cNvGraphicFramePr/>
            <p:nvPr/>
          </p:nvGraphicFramePr>
          <p:xfrm>
            <a:off x="5181480" y="4191120"/>
            <a:ext cx="136692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4191120"/>
                      <a:ext cx="1366920" cy="3999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7" name=""/>
            <p:cNvSpPr/>
            <p:nvPr/>
          </p:nvSpPr>
          <p:spPr>
            <a:xfrm flipH="1">
              <a:off x="4419720" y="4419720"/>
              <a:ext cx="76176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028840" y="5280120"/>
            <a:ext cx="4115160" cy="914400"/>
            <a:chOff x="5028840" y="5280120"/>
            <a:chExt cx="4115160" cy="914400"/>
          </a:xfrm>
        </p:grpSpPr>
        <p:graphicFrame>
          <p:nvGraphicFramePr>
            <p:cNvPr id="269" name=""/>
            <p:cNvGraphicFramePr/>
            <p:nvPr/>
          </p:nvGraphicFramePr>
          <p:xfrm>
            <a:off x="5238720" y="5280120"/>
            <a:ext cx="390528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8720" y="5280120"/>
                      <a:ext cx="3905280" cy="414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1" name=""/>
            <p:cNvSpPr/>
            <p:nvPr/>
          </p:nvSpPr>
          <p:spPr>
            <a:xfrm flipH="1">
              <a:off x="5028840" y="5661000"/>
              <a:ext cx="228600" cy="53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F59-ACB9-4045-8F04-323C2177B8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5606A-27DA-4F0C-8B89-B2A580AE3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Reconstru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1905120"/>
          <a:ext cx="81788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1671480" y="4267080"/>
            <a:ext cx="5808960" cy="1968120"/>
            <a:chOff x="1671480" y="4267080"/>
            <a:chExt cx="5808960" cy="1968120"/>
          </a:xfrm>
        </p:grpSpPr>
        <p:graphicFrame>
          <p:nvGraphicFramePr>
            <p:cNvPr id="277" name=""/>
            <p:cNvGraphicFramePr/>
            <p:nvPr/>
          </p:nvGraphicFramePr>
          <p:xfrm>
            <a:off x="1938240" y="4267080"/>
            <a:ext cx="544032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8240" y="4267080"/>
                      <a:ext cx="5440320" cy="1352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1671480" y="5775480"/>
              <a:ext cx="58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Ideal bandlimited interpolation formul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905120" y="2514600"/>
            <a:ext cx="5181480" cy="1547640"/>
            <a:chOff x="1905120" y="2514600"/>
            <a:chExt cx="5181480" cy="1547640"/>
          </a:xfrm>
        </p:grpSpPr>
        <p:graphicFrame>
          <p:nvGraphicFramePr>
            <p:cNvPr id="281" name=""/>
            <p:cNvGraphicFramePr/>
            <p:nvPr/>
          </p:nvGraphicFramePr>
          <p:xfrm>
            <a:off x="1905120" y="3048120"/>
            <a:ext cx="4897440" cy="101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048120"/>
                      <a:ext cx="48974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 flipH="1">
              <a:off x="5334120" y="2514600"/>
              <a:ext cx="1752480" cy="838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2590920"/>
              <a:ext cx="6858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B64-6846-40D2-B240-85E2F22486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6451C-179E-415F-92ED-568D165F4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38088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hannon Sampling Theor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C” Interpol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the ide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FECT RE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 BANDLIMITED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3414600"/>
            <a:ext cx="87631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2D6-6277-4917-BD8E-E39763A43C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CEAEB-68C3-4C6B-9DEA-B4C76FEBE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in Time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9" name="reconst_wave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290" name="reconst_wave" descr=""/>
          <p:cNvPicPr/>
          <p:nvPr/>
        </p:nvPicPr>
        <p:blipFill>
          <a:blip r:embed="rId2"/>
          <a:stretch/>
        </p:blipFill>
        <p:spPr>
          <a:xfrm>
            <a:off x="0" y="1614600"/>
            <a:ext cx="4568760" cy="47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0CD-BB3E-4BEF-A07A-89FF9562118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C2762-8F1A-492F-AEE7-972748959B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and D-to-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1219320" y="4267080"/>
          <a:ext cx="19047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1904760" cy="38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378320" y="3568680"/>
          <a:ext cx="430848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78320" y="3568680"/>
                    <a:ext cx="4308480" cy="1155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193400" y="474516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Samp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19160" y="47451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bandlimited interpol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257800" y="5313240"/>
          <a:ext cx="3809880" cy="40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5313240"/>
                    <a:ext cx="3809880" cy="401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280" y="5257800"/>
          <a:ext cx="4572000" cy="88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257800"/>
                    <a:ext cx="4572000" cy="88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FC7-8DF4-4D88-8539-3B5908A13C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EF52B-A599-4B96-9347-664258514B6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pling Theore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visi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the FREQUENCY DOMAI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ier transform of sampled sig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nstruction from s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ding: Chap 12, Section 12-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 of FT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olution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lti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 of A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E4C-63B6-41AD-AD05-EA53A82E98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EF4CF-373E-40C9-8E01-A684D996E0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8840" y="269568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200" y="403848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19680" y="541008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D92-8808-4AEB-8D5D-4D4ADE8647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B10DC-21CC-4E26-8DD5-7A3295E4A9FE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mplitud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17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ulat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amplitude of the cosine wave.  The result in the frequency-domain is two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pies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1676520"/>
            <a:ext cx="812160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48320" y="1697040"/>
          <a:ext cx="342900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97040"/>
                    <a:ext cx="3429000" cy="463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04920" y="2482920"/>
          <a:ext cx="118116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48292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920" y="1873080"/>
          <a:ext cx="57132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873080"/>
                    <a:ext cx="571320" cy="3304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447920" y="3112920"/>
          <a:ext cx="19047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3112920"/>
                    <a:ext cx="1904760" cy="468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2438280"/>
          <a:ext cx="5715000" cy="150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2438280"/>
                    <a:ext cx="5715000" cy="15004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1061640" y="3505320"/>
            <a:ext cx="1910160" cy="703440"/>
            <a:chOff x="1061640" y="3505320"/>
            <a:chExt cx="1910160" cy="703440"/>
          </a:xfrm>
        </p:grpSpPr>
        <p:sp>
          <p:nvSpPr>
            <p:cNvPr id="116" name=""/>
            <p:cNvSpPr/>
            <p:nvPr/>
          </p:nvSpPr>
          <p:spPr>
            <a:xfrm>
              <a:off x="1061640" y="3809880"/>
              <a:ext cx="9306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Pha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981080" y="3505320"/>
              <a:ext cx="990720" cy="457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166-7FB8-4E27-B9C2-71370AF8E7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53A88-9FAA-45E0-99B8-3ACC951579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:  Frequency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7980120" cy="4754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1574640"/>
            <a:ext cx="20732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ical”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put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240" y="3906720"/>
            <a:ext cx="238896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Frequency-shift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5165640"/>
                <a:ext cx="2209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ϕ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58000" y="5157720"/>
                <a:ext cx="2133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3900240" y="4332240"/>
            <a:ext cx="4992120" cy="1382760"/>
            <a:chOff x="3900240" y="4332240"/>
            <a:chExt cx="4992120" cy="1382760"/>
          </a:xfrm>
        </p:grpSpPr>
        <p:grpSp>
          <p:nvGrpSpPr>
            <p:cNvPr id="126" name=""/>
            <p:cNvGrpSpPr/>
            <p:nvPr/>
          </p:nvGrpSpPr>
          <p:grpSpPr>
            <a:xfrm>
              <a:off x="6713640" y="4332240"/>
              <a:ext cx="2178720" cy="1214640"/>
              <a:chOff x="6713640" y="4332240"/>
              <a:chExt cx="2178720" cy="121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6788520" y="4332240"/>
                <a:ext cx="2103840" cy="3988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Upper sideband</a:t>
                </a:r>
                <a:endParaRPr b="0" lang="en-US" sz="20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13640" y="4784760"/>
                <a:ext cx="380880" cy="762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900240" y="4424400"/>
              <a:ext cx="2271960" cy="1290600"/>
              <a:chOff x="3900240" y="4424400"/>
              <a:chExt cx="2271960" cy="1290600"/>
            </a:xfrm>
          </p:grpSpPr>
          <p:sp>
            <p:nvSpPr>
              <p:cNvPr id="130" name=""/>
              <p:cNvSpPr/>
              <p:nvPr/>
            </p:nvSpPr>
            <p:spPr>
              <a:xfrm>
                <a:off x="3900240" y="4424400"/>
                <a:ext cx="2117880" cy="3988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Lower sideband</a:t>
                </a:r>
                <a:endParaRPr b="0" lang="en-US" sz="20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0440" y="4876560"/>
                <a:ext cx="761760" cy="8384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1600200"/>
                <a:ext cx="1190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78A-69F7-4C6A-BF0A-77D8852B5D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8EEC4-5290-46C8-847E-573DF12D35CB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Demod Phase Synch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74040" cy="26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952880" y="2209680"/>
          <a:ext cx="54936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209680"/>
                    <a:ext cx="54936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285040" y="2209680"/>
          <a:ext cx="478080" cy="33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5040" y="2209680"/>
                    <a:ext cx="47808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0960" y="2209680"/>
          <a:ext cx="501840" cy="3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960" y="2209680"/>
                    <a:ext cx="50184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600200" y="3505320"/>
          <a:ext cx="102708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3505320"/>
                    <a:ext cx="1027080" cy="355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962520" y="1371600"/>
            <a:ext cx="3962160" cy="27432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4280" y="3436920"/>
                <a:ext cx="1524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03240" y="2133720"/>
                <a:ext cx="2387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76200" y="5143680"/>
                <a:ext cx="86202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170160" y="4470480"/>
                <a:ext cx="5891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at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905120" y="5029200"/>
            <a:ext cx="5715000" cy="1066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E2F-327B-4E03-AAD9-B16923F27C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A2F6-38BD-4D56-934F-0C0FE3D2746D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rob_QuadMod1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754380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adratur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88800" y="5302080"/>
            <a:ext cx="80614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WO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signals on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NE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channel:  “out of phase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an you “separate” them in the demodulator 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72000" y="3886200"/>
                <a:ext cx="4495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D0F-D644-45DD-BA5A-A33153BC60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75CCA-9F1D-4A4B-871E-B1EE7DF36DAA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rob_QuadMod2" descr=""/>
          <p:cNvPicPr/>
          <p:nvPr/>
        </p:nvPicPr>
        <p:blipFill>
          <a:blip r:embed="rId1"/>
          <a:stretch/>
        </p:blipFill>
        <p:spPr>
          <a:xfrm>
            <a:off x="152280" y="1349280"/>
            <a:ext cx="7239240" cy="2565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mod: Quadrature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14400" y="3200400"/>
                <a:ext cx="2362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2520" y="5322960"/>
                <a:ext cx="8082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248520" y="1752480"/>
                <a:ext cx="2828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62720" y="3124080"/>
                <a:ext cx="3522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" y="4191120"/>
                <a:ext cx="744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629400" y="35812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655308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86728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6DE-8D7F-496A-B28C-6678D14BD2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A8910-2540-417D-9AC7-5C5B5ED866F1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02T00:50:16Z</cp:lastPrinted>
  <dcterms:modified xsi:type="dcterms:W3CDTF">2003-08-21T22:11:59Z</dcterms:modified>
  <cp:revision>490</cp:revision>
  <dc:subject/>
  <dc:title>SPFirst Lecture #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