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2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1.wmf" ContentType="image/x-wmf"/>
  <Override PartName="/ppt/media/image3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42.wmf" ContentType="image/x-wmf"/>
  <Override PartName="/ppt/media/image41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3D3-A0FE-47DA-B8B4-9464ADE2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4F5-2D80-4BCB-A866-5001C028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4F7-F16F-418B-AC46-0B7A6B27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11E-6CC7-4DBB-8954-109E6DF6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854A-3B0C-4DDB-A59B-345F6108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0D4A-9399-4A2E-A4BB-234871C5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6FAE-EC13-43FA-AFA5-19C2CF97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CA95-4ADF-4202-9C51-9E959CE5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08A2-87F3-4035-BB99-C20B452E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0765-C532-4D3F-BB4A-EFBB2EF3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5EC3-D8F1-4878-9F3E-7915228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376-0B4F-4169-A123-DC8F6D8D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9C72-7337-45C4-8002-0AE28C6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8055-155F-466F-85AF-AB67F505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7B7D-16DD-490F-ACAE-654B4754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CDDB-374D-4D03-87D6-D5502E31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A9E9-85D7-4F9E-810A-0E7F4682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C9B-34AD-4D68-842F-DF5EBCA8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D8B-DE5B-433C-B874-8F054502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B55-BF3C-4982-83E8-9D6E1C1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88B-1B15-4950-8E3B-1F09B985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E35-4683-4744-A633-8894F742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5E9-B1DB-4B84-A749-4E7D90D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96E-EEEF-4EAA-BC0B-F63EFC8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3EC4-4461-4024-8DD9-1AA3A63C356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F08E-D438-4B8E-9AAD-9CEA2AD2163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337B-F6CF-41CC-8FEF-E22B51526A7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91E0-5BCD-4526-BB86-DC54B29E984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.wmf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040" y="3352680"/>
            <a:ext cx="655308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2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troduction to the Fourier Transfor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6B84-EAA6-499A-8CCD-0A82787C5A6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5ADFA6D-BB2E-4A5E-B8C6-996F4EB76A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miting Behavior of F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36520" y="150804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2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200" y="327672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4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520" y="541008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8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8" name="sq_waves" descr=""/>
          <p:cNvPicPr/>
          <p:nvPr/>
        </p:nvPicPr>
        <p:blipFill>
          <a:blip r:embed="rId1"/>
          <a:stretch/>
        </p:blipFill>
        <p:spPr>
          <a:xfrm>
            <a:off x="1295280" y="1093680"/>
            <a:ext cx="5943600" cy="568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D25-DE4A-4EF0-A482-0225C6D4EA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D1C6E-7D47-4CD9-A5A7-A98C6B6E401D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miting Behavior of Spectru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65120" y="150804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2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800" y="327672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4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5120" y="541008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8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3" name="sq_wave_spect" descr=""/>
          <p:cNvPicPr/>
          <p:nvPr/>
        </p:nvPicPr>
        <p:blipFill>
          <a:blip r:embed="rId1"/>
          <a:stretch/>
        </p:blipFill>
        <p:spPr>
          <a:xfrm>
            <a:off x="1525680" y="990720"/>
            <a:ext cx="5408640" cy="571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188120" y="3048120"/>
                <a:ext cx="14940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2E4-7556-470B-8A0B-1ED1637A962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74109-FEE6-4201-8C21-BADD126D5EBE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50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S in the LIMIT  (long period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65320" y="2590920"/>
            <a:ext cx="318312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Synthe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13400" y="5796000"/>
            <a:ext cx="29667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Analy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2920" y="1274760"/>
                <a:ext cx="89247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k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1520" y="4321080"/>
                <a:ext cx="878832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193920"/>
                <a:ext cx="2209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d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14600" y="3197160"/>
                <a:ext cx="21337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486400" y="3384720"/>
                <a:ext cx="3025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EB7-CE2D-468A-BA9C-17FBBE9A97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7F16E-B64A-43AE-8A84-51E6D46E6417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Transform Define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non-periodic sign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47320" y="2438280"/>
            <a:ext cx="318312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Synthe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70640" y="4419720"/>
            <a:ext cx="29667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Analy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4435560"/>
                <a:ext cx="52941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49400" y="2449440"/>
                <a:ext cx="548928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059-0663-4931-9FFC-5F64CB45AB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75CFD-091F-4E35-8165-2F7BF725BF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1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91000" y="625320"/>
          <a:ext cx="2644920" cy="5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1000" y="625320"/>
                    <a:ext cx="2644920" cy="578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071880" y="5057640"/>
          <a:ext cx="3246480" cy="11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5057640"/>
                    <a:ext cx="3246480" cy="119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95280" y="1676520"/>
          <a:ext cx="6934320" cy="14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676520"/>
                    <a:ext cx="693432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120680" y="3124080"/>
          <a:ext cx="6750000" cy="16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20680" y="3124080"/>
                    <a:ext cx="67500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905600" y="3029040"/>
          <a:ext cx="102888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05600" y="3029040"/>
                    <a:ext cx="1028880" cy="457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8BF-F052-475C-B04C-A1EE21F5E7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8AF1B-33C7-458F-899A-D8C905199E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Transform of h(t)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30592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143000" y="5029200"/>
                <a:ext cx="6553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343400" y="304812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9A9-B324-46DD-B885-602BCC7D21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8F3B5-5B3C-4018-A067-94F8C4650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FT_1st_order" descr=""/>
          <p:cNvPicPr/>
          <p:nvPr/>
        </p:nvPicPr>
        <p:blipFill>
          <a:blip r:embed="rId1"/>
          <a:stretch/>
        </p:blipFill>
        <p:spPr>
          <a:xfrm>
            <a:off x="1371600" y="1255680"/>
            <a:ext cx="6324480" cy="55594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gnitude and Phase Pl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6320" y="1133640"/>
                <a:ext cx="28191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068880" y="3976560"/>
                <a:ext cx="29894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240600" y="1133640"/>
                <a:ext cx="282708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6320" y="6076800"/>
                <a:ext cx="3276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C73-CAC9-4B38-8813-F387ADE3DD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06798-97F2-4B63-88E3-40EAAB9B45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809800" y="5345280"/>
          <a:ext cx="362592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5345280"/>
                    <a:ext cx="3625920" cy="10555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2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28600"/>
          <a:ext cx="32637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28600"/>
                    <a:ext cx="3263760" cy="10684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944640" y="3471840"/>
          <a:ext cx="7208640" cy="14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4640" y="3471840"/>
                    <a:ext cx="72086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066680" y="1905120"/>
          <a:ext cx="7040520" cy="122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1905120"/>
                    <a:ext cx="704052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399-A751-4A07-9260-1955D8974D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73249-20FC-48B4-B01D-D0EA0027B1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06440" y="152280"/>
          <a:ext cx="84852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2280"/>
                    <a:ext cx="8485200" cy="11667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6" name="pulse_FT" descr=""/>
          <p:cNvPicPr/>
          <p:nvPr/>
        </p:nvPicPr>
        <p:blipFill>
          <a:blip r:embed="rId3"/>
          <a:stretch/>
        </p:blipFill>
        <p:spPr>
          <a:xfrm>
            <a:off x="1066680" y="1386000"/>
            <a:ext cx="7162920" cy="53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71E-AB79-48B3-8391-C2869CF5C7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23BA3-D0E4-457E-A274-981A36B49F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3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267080" y="76320"/>
                <a:ext cx="358164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95480" y="5462640"/>
                <a:ext cx="27432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04920" y="1685880"/>
                <a:ext cx="838188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75080"/>
                <a:ext cx="723096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281-D76C-4A0B-84CF-41CA13CE58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3E582-C92E-460F-AD98-193A83DCC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70E-5033-41EF-837D-1B1A3090DB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C2D02-E94F-4048-B4C3-47CC165CE31D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23" name="pulse_trans" descr=""/>
          <p:cNvPicPr/>
          <p:nvPr/>
        </p:nvPicPr>
        <p:blipFill>
          <a:blip r:embed="rId1"/>
          <a:stretch/>
        </p:blipFill>
        <p:spPr>
          <a:xfrm>
            <a:off x="1066680" y="1643040"/>
            <a:ext cx="6705720" cy="513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5800" y="33480"/>
                <a:ext cx="739152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F53-5E5F-4019-9B9D-25B647CE3A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346BB-FB20-46BE-9C39-A2F87FBD8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4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752480" y="2057400"/>
          <a:ext cx="548640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4864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49760" y="3886200"/>
            <a:ext cx="48074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hifting Property of the Impul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91120" y="330120"/>
                <a:ext cx="38098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62120" y="4419720"/>
                <a:ext cx="745488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065-A9F6-495B-8ACC-66DBC65642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FE608-3E3F-4BA0-9885-41024BB8A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57480" y="304920"/>
          <a:ext cx="681984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304920"/>
                    <a:ext cx="6819840" cy="7254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5" name="impulse_FT" descr=""/>
          <p:cNvPicPr/>
          <p:nvPr/>
        </p:nvPicPr>
        <p:blipFill>
          <a:blip r:embed="rId3"/>
          <a:stretch/>
        </p:blipFill>
        <p:spPr>
          <a:xfrm>
            <a:off x="914400" y="1198440"/>
            <a:ext cx="7696080" cy="554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A96-0ACC-40C9-9EAD-04E4676C5D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4A5DE-C4D0-4CC6-9307-276BDF664B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5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32200" y="647640"/>
          <a:ext cx="52354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2200" y="647640"/>
                    <a:ext cx="5235480" cy="6476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23720" y="1752480"/>
          <a:ext cx="8186760" cy="13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720" y="1752480"/>
                    <a:ext cx="818676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676520" y="4503600"/>
          <a:ext cx="568476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503600"/>
                    <a:ext cx="5684760" cy="5256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838080" y="3332160"/>
          <a:ext cx="7678800" cy="70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332160"/>
                    <a:ext cx="7678800" cy="706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069920" y="5514840"/>
          <a:ext cx="7197840" cy="11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9920" y="5514840"/>
                    <a:ext cx="7197840" cy="119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580-45EE-4ABC-85F4-F9788619524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C251A-38C6-428D-87DF-102AA2CD3A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43000" y="152280"/>
          <a:ext cx="719784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280"/>
                    <a:ext cx="7197840" cy="119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51" name="cosine_FT" descr=""/>
          <p:cNvPicPr/>
          <p:nvPr/>
        </p:nvPicPr>
        <p:blipFill>
          <a:blip r:embed="rId3"/>
          <a:stretch/>
        </p:blipFill>
        <p:spPr>
          <a:xfrm>
            <a:off x="838080" y="1440000"/>
            <a:ext cx="7772400" cy="53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684-AB90-468C-A0E1-DEF5B8DC9DA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E51E3-DB72-4648-A178-7971715F07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1522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ourier Transfor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244520" y="1219320"/>
          <a:ext cx="652788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1219320"/>
                    <a:ext cx="6527880" cy="1127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57200" y="2514600"/>
          <a:ext cx="82296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8229600" cy="11318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62120" y="3809880"/>
          <a:ext cx="7559640" cy="112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809880"/>
                    <a:ext cx="7559640" cy="11257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447920" y="5105520"/>
          <a:ext cx="651492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105520"/>
                    <a:ext cx="6514920" cy="6667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066680" y="5978520"/>
          <a:ext cx="706932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978520"/>
                    <a:ext cx="7069320" cy="65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14A-838C-4982-900B-7E319C59A9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F4947-0838-4519-9708-7A4A897CCC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1, Sects. 11-1 to 11-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10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Chapter 11, Sects. 11-1 to 11-4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11, Sects. 11-5, 11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17F-5AF6-4C68-A7FD-B701DECDFE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50007-F31F-4BED-9566-842CCB5604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ier Ser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finition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 to Fourier Ser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s of  Fourier transform pai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986120" y="3603600"/>
                <a:ext cx="40287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3B9-F74D-4C9F-8395-12863BC9D5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6FF7A-F766-40AF-A65D-49266AF375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erything = Sum of Sinusoid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 Square Pulse = Sum of Sinusoid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??????????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ite Leng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 Period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mit of Square Wave as Period </a:t>
            </a: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fin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uitive Argum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666880"/>
            <a:ext cx="396252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432"/>
                </a:moveTo>
                <a:lnTo>
                  <a:pt x="528" y="432"/>
                </a:lnTo>
                <a:lnTo>
                  <a:pt x="528" y="0"/>
                </a:lnTo>
                <a:lnTo>
                  <a:pt x="960" y="0"/>
                </a:lnTo>
                <a:lnTo>
                  <a:pt x="960" y="432"/>
                </a:lnTo>
                <a:lnTo>
                  <a:pt x="1440" y="432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047-CDA3-45E5-A01A-BFEEE1FFC0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01B7E-BB76-4A2D-8AA4-883A8B011A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Series:  Periodic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(t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3120" cy="20588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022400" y="1676520"/>
            <a:ext cx="7664400" cy="2133360"/>
            <a:chOff x="1022400" y="1676520"/>
            <a:chExt cx="7664400" cy="2133360"/>
          </a:xfrm>
        </p:grpSpPr>
        <p:graphicFrame>
          <p:nvGraphicFramePr>
            <p:cNvPr id="99" name=""/>
            <p:cNvGraphicFramePr/>
            <p:nvPr/>
          </p:nvGraphicFramePr>
          <p:xfrm>
            <a:off x="3422520" y="1676520"/>
            <a:ext cx="217188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22520" y="1676520"/>
                      <a:ext cx="21718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6013440" y="3429000"/>
            <a:ext cx="3427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3440" y="342900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1022400" y="3429000"/>
            <a:ext cx="72360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22400" y="342900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2705040" y="34290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05040" y="34290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7518240" y="34290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518240" y="34290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4413240" y="34290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413240" y="34290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559720" y="3429000"/>
            <a:ext cx="127080" cy="241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559720" y="3429000"/>
                      <a:ext cx="12708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3" name=""/>
          <p:cNvGraphicFramePr/>
          <p:nvPr/>
        </p:nvGraphicFramePr>
        <p:xfrm>
          <a:off x="990720" y="3960720"/>
          <a:ext cx="3886200" cy="1328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90720" y="3960720"/>
                    <a:ext cx="3886200" cy="1328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90720" y="5391000"/>
          <a:ext cx="3849480" cy="1238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90720" y="5391000"/>
                    <a:ext cx="3849480" cy="1238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10080" y="4637160"/>
          <a:ext cx="3429000" cy="1093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10080" y="4637160"/>
                    <a:ext cx="3429000" cy="1093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4876920" y="3927600"/>
            <a:ext cx="3753000" cy="520560"/>
            <a:chOff x="4876920" y="3927600"/>
            <a:chExt cx="3753000" cy="520560"/>
          </a:xfrm>
        </p:grpSpPr>
        <p:sp>
          <p:nvSpPr>
            <p:cNvPr id="122" name=""/>
            <p:cNvSpPr/>
            <p:nvPr/>
          </p:nvSpPr>
          <p:spPr>
            <a:xfrm>
              <a:off x="5446800" y="3927600"/>
              <a:ext cx="318312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Arial"/>
                </a:rPr>
                <a:t>Fourier Synthe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876920" y="419112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800600" y="5832360"/>
            <a:ext cx="3540600" cy="520560"/>
            <a:chOff x="4800600" y="5832360"/>
            <a:chExt cx="3540600" cy="520560"/>
          </a:xfrm>
        </p:grpSpPr>
        <p:sp>
          <p:nvSpPr>
            <p:cNvPr id="125" name=""/>
            <p:cNvSpPr/>
            <p:nvPr/>
          </p:nvSpPr>
          <p:spPr>
            <a:xfrm>
              <a:off x="5374440" y="5832360"/>
              <a:ext cx="296676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Arial"/>
                </a:rPr>
                <a:t>Fourier Analy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800600" y="592884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169-26D5-4835-A1EA-85D5A84813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D1C1A-4E05-4681-B47B-F48F2ED478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Signal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61800" y="5214960"/>
          <a:ext cx="849636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5214960"/>
                    <a:ext cx="849636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223120" cy="20592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990720" y="1523880"/>
            <a:ext cx="7664400" cy="2133360"/>
            <a:chOff x="990720" y="1523880"/>
            <a:chExt cx="7664400" cy="2133360"/>
          </a:xfrm>
        </p:grpSpPr>
        <p:graphicFrame>
          <p:nvGraphicFramePr>
            <p:cNvPr id="134" name=""/>
            <p:cNvGraphicFramePr/>
            <p:nvPr/>
          </p:nvGraphicFramePr>
          <p:xfrm>
            <a:off x="3390840" y="1523880"/>
            <a:ext cx="217188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90840" y="1523880"/>
                      <a:ext cx="21718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5981760" y="3276360"/>
            <a:ext cx="3427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81760" y="327636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990720" y="3276360"/>
            <a:ext cx="72360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90720" y="327636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2673360" y="3276360"/>
            <a:ext cx="5587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73360" y="327636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7486560" y="3276360"/>
            <a:ext cx="53352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486560" y="327636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4381560" y="3276360"/>
            <a:ext cx="203040" cy="279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381560" y="327636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8528040" y="3276360"/>
            <a:ext cx="127080" cy="241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528040" y="3276360"/>
                      <a:ext cx="12708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219320" y="3733920"/>
                <a:ext cx="36576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4C9-EEC5-45DD-B4DB-F9D4247C7F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CF8D4-2BA7-4461-9544-026A10F62A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trum from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057480"/>
            <a:ext cx="845820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90720" y="1547640"/>
                <a:ext cx="6835680" cy="15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πk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±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±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985-6818-41D1-B622-BADAFBE4E1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18036-9E9A-4D01-BC4B-4FC3C64643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What if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(t)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is not periodic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 of Sinusoid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-harmonically related sinusoid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ould not be periodic, but would probably be non-zero for all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s a “sum” (actually 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tegra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that involve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requenc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represent signals that are identically zero for negativ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!!!!!!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17F-3AA5-4D62-B671-C7D1E2D1A4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9DBBF-D3CE-465E-AF6C-0C721A151B60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15T13:46:33Z</cp:lastPrinted>
  <dcterms:modified xsi:type="dcterms:W3CDTF">2004-03-27T21:38:46Z</dcterms:modified>
  <cp:revision>430</cp:revision>
  <dc:subject/>
  <dc:title>SPFirst Lecture #2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