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F77-7CA6-4F8E-B938-8F6EE54A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002-CF05-45DA-A006-819D65BF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BAC-9216-4D25-A3C0-CF347858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9E8-B7F9-477F-9444-0E5C0535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733D-6581-4468-B57A-D6ABD449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7EEF-8298-449F-B57F-B6467F3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2F64-EBDA-4E15-8664-C25526DB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24C-C477-40C3-A989-AA0811C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5624-35D8-445F-9676-1ACC8059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878-B2EC-4546-8174-B69DB47E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5851-F971-49D4-A519-651A238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F7C-AF04-4D9E-954A-94A137E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B604-16F5-43B5-9246-E2973DC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0CEA-F28E-4E94-A8D9-87AB116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F350-7657-4679-9B36-D15B7976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2853-462C-4DDA-B6EC-DE7EE63B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3924-6A7C-464F-99AA-C52039E4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1B9-BA37-401E-9B2C-69852FD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832-06E2-428B-85AA-8745AEA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807-18E5-43BD-9198-D93576B6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639-E6B0-4F4F-8A08-B668B2EE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062-448B-4128-8B2B-1178FB0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473-162F-47F0-9128-D141C66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2D7-DB61-4698-AE93-FE9EDED3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C987-C727-4D00-B376-4C05020A7DF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4D42-FC37-4469-952B-3E9B7222838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5BA-22EC-4D55-AB0B-DB0CFA03EB8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A29-5F7B-401E-8ABE-81889A85035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2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FIR Filte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5C09-E490-41B0-8884-495480FDDE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505FBF-8907-4887-B549-D503B89A4E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pt AVG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1514520"/>
            <a:ext cx="8991360" cy="5343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8120" y="4114800"/>
            <a:ext cx="2487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USE PAST VALU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71240" y="4495680"/>
            <a:ext cx="15228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62120" y="1363680"/>
                <a:ext cx="7968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: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A68-8D2A-4741-AB32-860CC99ED2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3B685-F71C-431D-A36D-5C3E50CC52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7-pt FIR EXAMPLE (AVG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1424160"/>
            <a:ext cx="8915400" cy="5433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560" y="3962520"/>
            <a:ext cx="27867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AUSAL: Use Previo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895480"/>
            <a:ext cx="106668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362320"/>
            <a:ext cx="10670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24760" y="2438280"/>
            <a:ext cx="0" cy="3276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21200" y="6462720"/>
            <a:ext cx="218160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LONGER OUTP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343400"/>
            <a:ext cx="68580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1295280"/>
                <a:ext cx="7968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: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664-7DE4-411B-93C9-F82E56BBAE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2AB2F-FB8C-4AB7-980B-A50DB66A15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:  x[n] =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:  y[n] will also be a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Amplitude and Ph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SAM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PLITUDE &amp; PHASE CHANG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AE6-A0A5-4259-BC67-CF1AA768E2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D2AB0-B4A2-4D5B-99D0-1847CE6DA0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CONVDEMO: MATLAB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3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A9F-4B5B-4C50-8683-54E9A55B77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BA2DF-69F8-4261-947B-93A73AF263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ONENTI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2120" y="3301920"/>
            <a:ext cx="7619760" cy="1897560"/>
            <a:chOff x="762120" y="3301920"/>
            <a:chExt cx="7619760" cy="18975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62120" y="3301920"/>
                  <a:ext cx="761976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1911240" y="4800600"/>
              <a:ext cx="37897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R DIFFERENCE EQU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990720" y="2438280"/>
            <a:ext cx="2514600" cy="1295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676520"/>
            <a:ext cx="6781680" cy="1236960"/>
            <a:chOff x="685800" y="1676520"/>
            <a:chExt cx="6781680" cy="123696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85800" y="1676520"/>
                  <a:ext cx="67816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jϕ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n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r>
                        <m:t xml:space="preserve">n</m:t>
                      </m:r>
                      <m:r>
                        <m:t xml:space="preserve">&lt;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135880" y="2514600"/>
              <a:ext cx="52801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x[n] is the input signal—a complex exponential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E51-2655-4A42-8F73-9ABE037A44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3715C-9A6E-4551-BFC1-DBBF05ED61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 OUT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the FIR “Difference Equation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7400" y="5359320"/>
                <a:ext cx="4368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66680" y="2284560"/>
                <a:ext cx="70614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3664080"/>
                <a:ext cx="502920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3FE-1802-4D78-BF03-EFB19D6447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2FE7A-5375-4058-8A26-A7AA2E409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8178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x-valued formul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s MAGNITUD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d PHAS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4120" y="2743200"/>
            <a:ext cx="2419200" cy="703800"/>
            <a:chOff x="5334120" y="2743200"/>
            <a:chExt cx="2419200" cy="703800"/>
          </a:xfrm>
        </p:grpSpPr>
        <p:sp>
          <p:nvSpPr>
            <p:cNvPr id="177" name=""/>
            <p:cNvSpPr/>
            <p:nvPr/>
          </p:nvSpPr>
          <p:spPr>
            <a:xfrm>
              <a:off x="5958720" y="2743200"/>
              <a:ext cx="1794600" cy="703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REQUENCY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334120" y="3048120"/>
              <a:ext cx="6091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07960" y="1752480"/>
            <a:ext cx="81788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each frequency, we c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19520" y="5597640"/>
                <a:ext cx="466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in place of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841400" y="2479680"/>
                <a:ext cx="332604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447920" y="2443320"/>
                <a:ext cx="36576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740-58D4-4BDC-8624-03DD6A4C8C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698A5-BBA4-4E32-BF49-C2D5C33D0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56320" y="2514600"/>
            <a:ext cx="3988800" cy="914400"/>
            <a:chOff x="4756320" y="2514600"/>
            <a:chExt cx="3988800" cy="914400"/>
          </a:xfrm>
        </p:grpSpPr>
        <p:sp>
          <p:nvSpPr>
            <p:cNvPr id="185" name=""/>
            <p:cNvSpPr/>
            <p:nvPr/>
          </p:nvSpPr>
          <p:spPr>
            <a:xfrm>
              <a:off x="6755400" y="2514600"/>
              <a:ext cx="19897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XPLO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SYMMETR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56320" y="2666520"/>
              <a:ext cx="198144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137200" y="2971800"/>
              <a:ext cx="1600200" cy="457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03240" y="1752480"/>
                <a:ext cx="2311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81200" y="2516040"/>
                <a:ext cx="441324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47720" y="4373640"/>
                <a:ext cx="53913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Magnitude is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nd  Phase is 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A8C-4863-4BD3-AC28-5A7ECAF3E1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E67A5-574B-488A-B4B2-58A827B0D7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of FREQ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58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438280" y="3117960"/>
                <a:ext cx="385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6095520" y="1599840"/>
            <a:ext cx="2522520" cy="3657960"/>
            <a:chOff x="6095520" y="1599840"/>
            <a:chExt cx="2522520" cy="3657960"/>
          </a:xfrm>
        </p:grpSpPr>
        <p:sp>
          <p:nvSpPr>
            <p:cNvPr id="195" name=""/>
            <p:cNvSpPr/>
            <p:nvPr/>
          </p:nvSpPr>
          <p:spPr>
            <a:xfrm flipH="1" flipV="1">
              <a:off x="6095520" y="1599840"/>
              <a:ext cx="6858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95520" y="3581280"/>
              <a:ext cx="838440" cy="1676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3760" y="3200400"/>
              <a:ext cx="2204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 at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/3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47000" y="685800"/>
                <a:ext cx="1868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62520" y="6432480"/>
                <a:ext cx="144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6226200"/>
                <a:ext cx="592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458200" y="6242040"/>
                <a:ext cx="446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715240" y="2790720"/>
                <a:ext cx="352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A28-CD4E-4687-AD3A-5C12F1D245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A6F97-65A4-4794-ACBE-7133E8DC2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57400" y="3657600"/>
            <a:ext cx="4572000" cy="1219320"/>
            <a:chOff x="2057400" y="3657600"/>
            <a:chExt cx="4572000" cy="1219320"/>
          </a:xfrm>
        </p:grpSpPr>
        <p:sp>
          <p:nvSpPr>
            <p:cNvPr id="205" name=""/>
            <p:cNvSpPr/>
            <p:nvPr/>
          </p:nvSpPr>
          <p:spPr>
            <a:xfrm>
              <a:off x="3352680" y="3657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2320" y="4114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57800" y="4114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1160" y="3657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6040" y="3657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8195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0481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5909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20040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43828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913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199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627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17220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1008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430440" y="371952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44640" y="5343480"/>
                <a:ext cx="5380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93800" y="1676520"/>
                <a:ext cx="725148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B7B-70DE-4E36-81C4-CAA8209E16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708C4-9D1A-4E67-970C-DC7F380F6E1E}" type="datetime1">
              <a:rPr lang="en-US"/>
              <a:t>07/30/26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005-4E69-4656-8033-2B3A0D6589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7B5A3-8BFF-4B4B-8F0F-616FCCF6BD4B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39840" y="1638360"/>
                <a:ext cx="8312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 (answ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03120" y="2637000"/>
                <a:ext cx="7472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One Step-evaluate 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H="1">
            <a:off x="7162560" y="2133720"/>
            <a:ext cx="609480" cy="685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6720" y="3486240"/>
                <a:ext cx="5380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8520" y="4275000"/>
                <a:ext cx="6154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52280" y="5176800"/>
                <a:ext cx="5678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21200" y="5181480"/>
                <a:ext cx="31705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E26-BDF2-421B-9996-9DC7B59199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F4A4F-1E9E-4432-8705-46DEE231908E}" type="datetime1">
              <a:rPr lang="en-US"/>
              <a:t>07/30/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3680" y="1673280"/>
                <a:ext cx="814680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44640" y="5321160"/>
                <a:ext cx="5380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p:grpSp>
          <p:nvGrpSpPr>
            <p:cNvPr id="237" name=""/>
            <p:cNvGrpSpPr/>
            <p:nvPr/>
          </p:nvGrpSpPr>
          <p:grpSpPr>
            <a:xfrm>
              <a:off x="2057400" y="3657600"/>
              <a:ext cx="4572000" cy="1219320"/>
              <a:chOff x="2057400" y="3657600"/>
              <a:chExt cx="4572000" cy="1219320"/>
            </a:xfrm>
          </p:grpSpPr>
          <p:sp>
            <p:nvSpPr>
              <p:cNvPr id="238" name=""/>
              <p:cNvSpPr/>
              <p:nvPr/>
            </p:nvSpPr>
            <p:spPr>
              <a:xfrm>
                <a:off x="3352680" y="36576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41148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57800" y="41148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11160" y="36576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16040" y="36576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574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8195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0481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5909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20040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43828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292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7913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5627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17220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41008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3430440" y="371160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ED9-802C-4013-91F0-6024E05318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3CD5D-6414-4B6A-AA56-6EAFA7E08AC9}" type="datetime1">
              <a:rPr lang="en-US"/>
              <a:t>07/30/26</a:t>
            </a:fld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8360" y="2708280"/>
                <a:ext cx="84358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585800" y="4378320"/>
                <a:ext cx="617076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51200" y="4419720"/>
            <a:ext cx="130104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1FB-0AC5-40D1-8C99-9596183BC8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79C6-4D49-4D96-8535-7782A19FAAF7}" type="datetime1">
              <a:rPr lang="en-US"/>
              <a:t>07/30/26</a:t>
            </a:fld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2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96840" y="3487680"/>
                <a:ext cx="8985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4280" y="5105520"/>
                <a:ext cx="70009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66880" y="2577960"/>
                <a:ext cx="5535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04F-B23C-456C-B58B-1C694632CF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90742-E63E-403B-B8AE-F992DC60F17E}" type="datetime1">
              <a:rPr lang="en-US"/>
              <a:t>07/30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LAB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urier New"/>
              </a:rPr>
              <a:t>HH = freqz(bb,1,ww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40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-First:   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HH = freekz(bb,1,ww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{b</a:t>
            </a:r>
            <a:r>
              <a:rPr b="0" lang="en-US" sz="32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125800" y="4683240"/>
                <a:ext cx="42829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0CE-E2BD-48C6-87A5-110D7707A1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847B2-0C0B-4D98-A486-5E70FFD7DF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 Linear &amp;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ULSE RESPONSE 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usoid IN -----&gt; Sinusoid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At the SAME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9AB-0DA3-4DA0-9392-F7E6F7C3DB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E0842-994D-4D82-875B-D86F28765E81}" type="datetime1">
              <a:rPr lang="en-US"/>
              <a:t>07/30/26</a:t>
            </a:fld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uency Rel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Frequency Response from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68120" y="3200400"/>
            <a:ext cx="8739360" cy="2822040"/>
            <a:chOff x="168120" y="3200400"/>
            <a:chExt cx="8739360" cy="28220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68120" y="3200400"/>
                  <a:ext cx="8047080" cy="16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 </m:t>
                          </m:r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77" name=""/>
            <p:cNvGrpSpPr/>
            <p:nvPr/>
          </p:nvGrpSpPr>
          <p:grpSpPr>
            <a:xfrm>
              <a:off x="5657400" y="4419360"/>
              <a:ext cx="3250080" cy="1603080"/>
              <a:chOff x="5657400" y="4419360"/>
              <a:chExt cx="3250080" cy="160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5657400" y="5562720"/>
                <a:ext cx="325008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IMPULSE RESPON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6400440" y="4419360"/>
                <a:ext cx="304920" cy="1143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95480" y="4343400"/>
              <a:ext cx="4419720" cy="1066680"/>
            </a:xfrm>
            <a:custGeom>
              <a:avLst/>
              <a:gdLst/>
              <a:ahLst/>
              <a:rect l="l" t="t" r="r" b="b"/>
              <a:pathLst>
                <a:path w="2168" h="712">
                  <a:moveTo>
                    <a:pt x="1896" y="0"/>
                  </a:moveTo>
                  <a:cubicBezTo>
                    <a:pt x="2032" y="160"/>
                    <a:pt x="2168" y="320"/>
                    <a:pt x="2136" y="432"/>
                  </a:cubicBezTo>
                  <a:cubicBezTo>
                    <a:pt x="2104" y="544"/>
                    <a:pt x="2000" y="632"/>
                    <a:pt x="1704" y="672"/>
                  </a:cubicBezTo>
                  <a:cubicBezTo>
                    <a:pt x="1408" y="712"/>
                    <a:pt x="640" y="696"/>
                    <a:pt x="360" y="672"/>
                  </a:cubicBezTo>
                  <a:cubicBezTo>
                    <a:pt x="80" y="648"/>
                    <a:pt x="47" y="639"/>
                    <a:pt x="24" y="528"/>
                  </a:cubicBezTo>
                  <a:cubicBezTo>
                    <a:pt x="0" y="416"/>
                    <a:pt x="108" y="208"/>
                    <a:pt x="21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3EA-03D4-4BF0-A20E-0337DC80D4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E13A3-9900-4E31-95B7-12078CE1D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LOCK DIAGRA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 Re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09680" y="2743200"/>
            <a:ext cx="4815000" cy="3382920"/>
            <a:chOff x="2209680" y="2743200"/>
            <a:chExt cx="4815000" cy="3382920"/>
          </a:xfrm>
        </p:grpSpPr>
        <p:sp>
          <p:nvSpPr>
            <p:cNvPr id="284" name=""/>
            <p:cNvSpPr/>
            <p:nvPr/>
          </p:nvSpPr>
          <p:spPr>
            <a:xfrm>
              <a:off x="3505320" y="274320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460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3440" y="27432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8320" y="2743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449568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49528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49528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3440" y="44956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8320" y="44956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3583080" y="45576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917880" y="2827440"/>
                  <a:ext cx="1093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4343400" y="3733920"/>
              <a:ext cx="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673680" y="5686560"/>
                  <a:ext cx="351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5181480" y="571500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43600" y="518148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72200" y="556236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15000" y="556236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2448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56272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716280" y="571500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2209680" y="571500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71800" y="518148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20040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4320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352680" y="5486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90920" y="5486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369-DF7D-417B-9247-0B1323A43B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604D5-CCE0-48D5-9C12-31EF3586D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-DELAY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76520" y="2666880"/>
            <a:ext cx="3886200" cy="914400"/>
            <a:chOff x="1676520" y="2666880"/>
            <a:chExt cx="3886200" cy="914400"/>
          </a:xfrm>
        </p:grpSpPr>
        <p:sp>
          <p:nvSpPr>
            <p:cNvPr id="313" name=""/>
            <p:cNvSpPr/>
            <p:nvPr/>
          </p:nvSpPr>
          <p:spPr>
            <a:xfrm>
              <a:off x="2666880" y="266688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520" y="31240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31240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5360" y="26668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0240" y="26668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12960" y="2751120"/>
                  <a:ext cx="18255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9" name=""/>
          <p:cNvGrpSpPr/>
          <p:nvPr/>
        </p:nvGrpSpPr>
        <p:grpSpPr>
          <a:xfrm>
            <a:off x="77760" y="3960720"/>
            <a:ext cx="7026480" cy="2224080"/>
            <a:chOff x="77760" y="3960720"/>
            <a:chExt cx="7026480" cy="2224080"/>
          </a:xfrm>
        </p:grpSpPr>
        <p:grpSp>
          <p:nvGrpSpPr>
            <p:cNvPr id="320" name=""/>
            <p:cNvGrpSpPr/>
            <p:nvPr/>
          </p:nvGrpSpPr>
          <p:grpSpPr>
            <a:xfrm>
              <a:off x="2438280" y="4648320"/>
              <a:ext cx="3886200" cy="1003320"/>
              <a:chOff x="2438280" y="4648320"/>
              <a:chExt cx="3886200" cy="1003320"/>
            </a:xfrm>
          </p:grpSpPr>
          <p:sp>
            <p:nvSpPr>
              <p:cNvPr id="321" name=""/>
              <p:cNvSpPr/>
              <p:nvPr/>
            </p:nvSpPr>
            <p:spPr>
              <a:xfrm>
                <a:off x="3429000" y="46609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38280" y="51181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51181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87480" y="46609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92360" y="4660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6" name=""/>
                  <p:cNvSpPr txBox="1"/>
                  <p:nvPr/>
                </p:nvSpPr>
                <p:spPr>
                  <a:xfrm>
                    <a:off x="3570120" y="4648320"/>
                    <a:ext cx="1471680" cy="100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27" name=""/>
            <p:cNvGrpSpPr/>
            <p:nvPr/>
          </p:nvGrpSpPr>
          <p:grpSpPr>
            <a:xfrm>
              <a:off x="77760" y="3960720"/>
              <a:ext cx="3960720" cy="866880"/>
              <a:chOff x="77760" y="3960720"/>
              <a:chExt cx="3960720" cy="866880"/>
            </a:xfrm>
          </p:grpSpPr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77760" y="3960720"/>
                    <a:ext cx="182088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9" name=""/>
              <p:cNvSpPr/>
              <p:nvPr/>
            </p:nvSpPr>
            <p:spPr>
              <a:xfrm>
                <a:off x="1828800" y="3962520"/>
                <a:ext cx="2209680" cy="850680"/>
              </a:xfrm>
              <a:custGeom>
                <a:avLst/>
                <a:gdLst/>
                <a:ahLst/>
                <a:rect l="l" t="t" r="r" b="b"/>
                <a:pathLst>
                  <a:path w="1488" h="536">
                    <a:moveTo>
                      <a:pt x="0" y="296"/>
                    </a:moveTo>
                    <a:cubicBezTo>
                      <a:pt x="80" y="267"/>
                      <a:pt x="160" y="239"/>
                      <a:pt x="336" y="200"/>
                    </a:cubicBezTo>
                    <a:cubicBezTo>
                      <a:pt x="511" y="160"/>
                      <a:pt x="864" y="0"/>
                      <a:pt x="1056" y="56"/>
                    </a:cubicBezTo>
                    <a:cubicBezTo>
                      <a:pt x="1247" y="111"/>
                      <a:pt x="1367" y="323"/>
                      <a:pt x="1488" y="53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057400" y="5270400"/>
              <a:ext cx="5046840" cy="914400"/>
              <a:chOff x="2057400" y="5270400"/>
              <a:chExt cx="5046840" cy="91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057400" y="5270400"/>
                <a:ext cx="1846440" cy="914400"/>
                <a:chOff x="2057400" y="5270400"/>
                <a:chExt cx="184644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32" name=""/>
                    <p:cNvSpPr txBox="1"/>
                    <p:nvPr/>
                  </p:nvSpPr>
                  <p:spPr>
                    <a:xfrm>
                      <a:off x="3581640" y="5803920"/>
                      <a:ext cx="32220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33" name=""/>
                <p:cNvSpPr/>
                <p:nvPr/>
              </p:nvSpPr>
              <p:spPr>
                <a:xfrm>
                  <a:off x="2057400" y="5803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819520" y="5270400"/>
                  <a:ext cx="0" cy="5335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30481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25909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20040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243864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257800" y="5270400"/>
                <a:ext cx="1846440" cy="914400"/>
                <a:chOff x="5257800" y="5270400"/>
                <a:chExt cx="184644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40" name=""/>
                    <p:cNvSpPr txBox="1"/>
                    <p:nvPr/>
                  </p:nvSpPr>
                  <p:spPr>
                    <a:xfrm>
                      <a:off x="6782040" y="5803920"/>
                      <a:ext cx="32220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41" name=""/>
                <p:cNvSpPr/>
                <p:nvPr/>
              </p:nvSpPr>
              <p:spPr>
                <a:xfrm>
                  <a:off x="5257800" y="5803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6019920" y="5270400"/>
                  <a:ext cx="0" cy="5335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62485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57913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640080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563904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60360" y="1731960"/>
                <a:ext cx="7889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3394080"/>
                <a:ext cx="32004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D6D-541A-405D-AB19-8ADCD9A2BF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69E04-9152-44F6-8421-AF8636384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ST DIFFERENCE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11120" y="5194440"/>
            <a:ext cx="4341960" cy="901440"/>
            <a:chOff x="2211120" y="5194440"/>
            <a:chExt cx="4341960" cy="901440"/>
          </a:xfrm>
        </p:grpSpPr>
        <p:sp>
          <p:nvSpPr>
            <p:cNvPr id="351" name=""/>
            <p:cNvSpPr/>
            <p:nvPr/>
          </p:nvSpPr>
          <p:spPr>
            <a:xfrm>
              <a:off x="3276720" y="5334120"/>
              <a:ext cx="2286000" cy="76176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57276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2720" y="57276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2040" y="51944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1120" y="52704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613320" y="5308560"/>
                  <a:ext cx="176508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2035080" y="3446640"/>
            <a:ext cx="4975200" cy="896760"/>
            <a:chOff x="2035080" y="3446640"/>
            <a:chExt cx="4975200" cy="896760"/>
          </a:xfrm>
        </p:grpSpPr>
        <p:sp>
          <p:nvSpPr>
            <p:cNvPr id="358" name=""/>
            <p:cNvSpPr/>
            <p:nvPr/>
          </p:nvSpPr>
          <p:spPr>
            <a:xfrm>
              <a:off x="3124080" y="3505320"/>
              <a:ext cx="2895840" cy="838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33720" y="390384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9920" y="390384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3120" y="34466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5080" y="3446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3352680" y="3657600"/>
                  <a:ext cx="251460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"/>
          <p:cNvGrpSpPr/>
          <p:nvPr/>
        </p:nvGrpSpPr>
        <p:grpSpPr>
          <a:xfrm>
            <a:off x="100080" y="4483080"/>
            <a:ext cx="3938400" cy="851040"/>
            <a:chOff x="100080" y="4483080"/>
            <a:chExt cx="3938400" cy="851040"/>
          </a:xfrm>
        </p:grpSpPr>
        <p:sp>
          <p:nvSpPr>
            <p:cNvPr id="365" name=""/>
            <p:cNvSpPr/>
            <p:nvPr/>
          </p:nvSpPr>
          <p:spPr>
            <a:xfrm>
              <a:off x="1676520" y="4483080"/>
              <a:ext cx="2361960" cy="851040"/>
            </a:xfrm>
            <a:custGeom>
              <a:avLst/>
              <a:gdLst/>
              <a:ahLst/>
              <a:rect l="l" t="t" r="r" b="b"/>
              <a:pathLst>
                <a:path w="1488" h="536">
                  <a:moveTo>
                    <a:pt x="0" y="296"/>
                  </a:moveTo>
                  <a:cubicBezTo>
                    <a:pt x="80" y="267"/>
                    <a:pt x="160" y="239"/>
                    <a:pt x="336" y="200"/>
                  </a:cubicBezTo>
                  <a:cubicBezTo>
                    <a:pt x="511" y="160"/>
                    <a:pt x="864" y="0"/>
                    <a:pt x="1056" y="56"/>
                  </a:cubicBezTo>
                  <a:cubicBezTo>
                    <a:pt x="1247" y="111"/>
                    <a:pt x="1367" y="323"/>
                    <a:pt x="1488" y="53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100080" y="4503600"/>
                  <a:ext cx="177624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33520" y="1676520"/>
                <a:ext cx="7931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the Differe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:    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A9D-097E-441B-9549-8438251AE6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A397D-0D93-4175-BD68-3503C0E1AC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6, Sections 6-1, 6-2, 6-3, 6-4, &amp; 6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. 6, Sects. 6-6, 6-7 &amp; 6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CD6-0307-44C0-AEE1-7F008ADEF4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E939D-E782-4CC7-BB7A-209B45CC8B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62120" y="1012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LTI Demo with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4875840" y="1752480"/>
            <a:ext cx="11271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4160" y="1600200"/>
            <a:ext cx="706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09800" y="1647720"/>
            <a:ext cx="6901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0DE-874F-483B-9A0C-C0EDDBF526C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AAF94-06C9-446B-9BB2-195C46598550}" type="datetime1">
              <a:rPr lang="en-US"/>
              <a:t>07/30/26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FILTER COEFFS?   {b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the overall FREQUENCY RESPONSE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0" t="0" r="0" b="20806"/>
          <a:stretch/>
        </p:blipFill>
        <p:spPr>
          <a:xfrm>
            <a:off x="0" y="44197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843280" y="532296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9480" y="532296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5321160"/>
                <a:ext cx="712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26000" y="5321160"/>
                <a:ext cx="76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58040" y="5321160"/>
                <a:ext cx="170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752480" y="5168880"/>
                <a:ext cx="770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700600" y="5168880"/>
                <a:ext cx="798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606-AC66-4B52-9CB0-3213B7B4AC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6BE0F-E187-4386-A74D-384BFB00435C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1160" y="40384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604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452760" y="4038480"/>
                <a:ext cx="1778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5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808280" y="2743200"/>
                <a:ext cx="1866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064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57680" y="2760840"/>
                <a:ext cx="19591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916360" y="5243400"/>
                <a:ext cx="6014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399960" y="5105520"/>
            <a:ext cx="22258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66880" y="4876920"/>
            <a:ext cx="60984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60C-8831-4912-8101-47A432834D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2B2D7-8E2B-4479-80F7-49C0748026F2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NUSOI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PUT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TERMINE the FIR FILTER OUTP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RESPON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 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OTTING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GNITUD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AS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038480" y="3732120"/>
            <a:ext cx="5105520" cy="2440080"/>
            <a:chOff x="4038480" y="3732120"/>
            <a:chExt cx="5105520" cy="2440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4038480" y="5237280"/>
                  <a:ext cx="510552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e>
                      </m:d>
                      <m:r>
                        <m:t xml:space="preserve">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∠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181480" y="4648320"/>
              <a:ext cx="0" cy="685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789240" y="3732120"/>
              <a:ext cx="1238400" cy="1602000"/>
              <a:chOff x="6789240" y="3732120"/>
              <a:chExt cx="1238400" cy="1602000"/>
            </a:xfrm>
          </p:grpSpPr>
          <p:sp>
            <p:nvSpPr>
              <p:cNvPr id="96" name=""/>
              <p:cNvSpPr/>
              <p:nvPr/>
            </p:nvSpPr>
            <p:spPr>
              <a:xfrm>
                <a:off x="7135200" y="3732120"/>
                <a:ext cx="89244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MAG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789240" y="4170240"/>
                <a:ext cx="330120" cy="11638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714080" y="4417920"/>
              <a:ext cx="1227600" cy="916200"/>
              <a:chOff x="7714080" y="4417920"/>
              <a:chExt cx="1227600" cy="916200"/>
            </a:xfrm>
          </p:grpSpPr>
          <p:sp>
            <p:nvSpPr>
              <p:cNvPr id="99" name=""/>
              <p:cNvSpPr/>
              <p:nvPr/>
            </p:nvSpPr>
            <p:spPr>
              <a:xfrm>
                <a:off x="7848720" y="4876920"/>
                <a:ext cx="228600" cy="4572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14080" y="4417920"/>
                <a:ext cx="122760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PHA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881-CB2D-4449-8730-FB2745FA36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C592E-CD84-474D-9460-A74F0BFED3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OMAINS: Time &amp; Frequenc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ime-Domain:  “n” = 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   discrete-time sign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(t)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inuous-time sign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requency Domain (sum of sinusoid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vs. f (H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OG vs. DIGIT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vs. omega-h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ve back and forth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QUICKL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892-A0EB-4EE7-925F-BAFD8FA2E2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629D6-5534-441C-8995-F1F864FB1E77}" type="datetime1">
              <a:rPr lang="en-US"/>
              <a:t>07/30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ar &amp;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y[n] = x[n]*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“rule”defining the system can ALWAYS be re-written as 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Example: h[n] is same as 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A7B-0A5F-4953-A374-4EC778C64A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158A1-1AE1-42E3-B7E4-AB819EEC5B8E}" type="datetime1">
              <a:rPr lang="en-US"/>
              <a:t>07/30/26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33400"/>
            <a:ext cx="81788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[n] = x[n] - x[n-1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 output as a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ed impulse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another way to compute the outpu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46520" y="4044960"/>
                <a:ext cx="3452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763640" y="5410080"/>
                <a:ext cx="4678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5C5-7477-4A4E-B793-F152D656DB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851A3-4FE8-4820-9834-ADB46183A3B5}" type="datetime1">
              <a:rPr lang="en-US"/>
              <a:t>07/30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“FILTER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NTRATE on the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PECTRU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USOIDAL INP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x[n]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OUTPU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[n]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10666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05120"/>
            <a:ext cx="10666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560" y="19051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440" y="1905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3440" y="190512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8320" y="190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91320" y="3019320"/>
                <a:ext cx="351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19520" y="3095640"/>
                <a:ext cx="351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209680" y="312408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59056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4320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289512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289512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12408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943600" y="259056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72200" y="2971440"/>
            <a:ext cx="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15000" y="2971440"/>
            <a:ext cx="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32448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103-192B-4739-8419-145E26AF24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69E9B-00AE-44C6-AF4C-27DFA18A53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ING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-point AVERAG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oves cosi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y making its amplitude (A) small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960" y="4419720"/>
            <a:ext cx="817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-point AVERA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s A slightl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1981080"/>
                <a:ext cx="4038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76920" y="4343400"/>
                <a:ext cx="4000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E13-EFDE-4677-9313-741F1631B8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F3FE8-87A6-4421-AA5A-E99B8277C0F1}" type="datetime1">
              <a:rPr lang="en-US"/>
              <a:t>07/30/26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2000-02-21T15:28:05Z</cp:lastPrinted>
  <dcterms:modified xsi:type="dcterms:W3CDTF">2005-02-25T19:37:45Z</dcterms:modified>
  <cp:revision>251</cp:revision>
  <dc:subject/>
  <dc:title>SPFirst Lecture #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