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6.wmf" ContentType="image/x-wmf"/>
  <Override PartName="/ppt/media/image45.jpeg" ContentType="image/jpeg"/>
  <Override PartName="/ppt/media/image15.wmf" ContentType="image/x-wmf"/>
  <Override PartName="/ppt/media/image1.png" ContentType="image/png"/>
  <Override PartName="/ppt/media/image29.wmf" ContentType="image/x-wmf"/>
  <Override PartName="/ppt/media/image3.png" ContentType="image/png"/>
  <Override PartName="/ppt/media/image33.png" ContentType="image/png"/>
  <Override PartName="/ppt/media/image12.png" ContentType="image/png"/>
  <Override PartName="/ppt/media/image32.wmf" ContentType="image/x-wmf"/>
  <Override PartName="/ppt/media/image37.wmf" ContentType="image/x-wmf"/>
  <Override PartName="/ppt/media/image7.wmf" ContentType="image/x-wmf"/>
  <Override PartName="/ppt/media/image30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42.png" ContentType="image/png"/>
  <Override PartName="/ppt/media/image31.wmf" ContentType="image/x-wmf"/>
  <Override PartName="/ppt/media/image11.png" ContentType="image/png"/>
  <Override PartName="/ppt/media/image43.wmf" ContentType="image/x-wmf"/>
  <Override PartName="/ppt/media/image44.wmf" ContentType="image/x-wmf"/>
  <Override PartName="/ppt/media/image46.wmf" ContentType="image/x-wmf"/>
  <Override PartName="/ppt/media/image13.wmf" ContentType="image/x-wmf"/>
  <Override PartName="/ppt/media/image5.png" ContentType="image/png"/>
  <Override PartName="/ppt/media/image35.png" ContentType="image/png"/>
  <Override PartName="/ppt/media/image9.png" ContentType="image/png"/>
  <Override PartName="/ppt/media/image17.wmf" ContentType="image/x-wmf"/>
  <Override PartName="/ppt/media/image38.wmf" ContentType="image/x-wmf"/>
  <Override PartName="/ppt/media/image8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76DA-C4D7-4007-B14D-60ED9591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900-C66B-48C7-AB01-872343E6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E32E-5AD1-4D7F-8F84-B3F4D482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6670-E847-4B20-B76F-88FE8D09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27E2-701D-4550-965C-84E8F59E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A464-CC7A-425C-8C17-67FF3736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9A1E-4BBE-4ADB-8211-B35A84C8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295D-EB95-4291-9C37-BF1C089B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27C2-A787-4F99-A47D-51B4B2EF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539A-CF13-41C7-B438-DF741342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CE13-98D8-4B6D-878F-AB630BA8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B49B-E07C-47CD-BBB1-3F662B70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F3E6-56CE-4246-A773-4668AC1A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10B0-A6DC-4A93-8DC5-BCAAFDE2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4D9E-95E7-48B3-AD45-F3BC5558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AB09-4064-409F-B72E-D1C92BFC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4D5E-9529-41EF-B56B-5B932496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CA0C-81A7-4931-A558-F204082F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751-1409-4739-8B48-C872B995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1FF0-7C60-4816-8770-6CB8FC72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BFB1-C3B5-4D8F-8676-4719B036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D877-A3E4-4614-A1D8-7B9D201F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C98-C902-47B6-84B1-5C383856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7F84-DA1A-4941-B7CE-F27B316B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AB22-D07B-4446-8B07-62A3106232E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F053-C7DA-43BD-9493-3C2FD4DA04F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1BBF-16AC-4104-AA75-4140FCF37977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CD64-A5D2-4496-B357-233EE6C0E758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04760" y="3428640"/>
            <a:ext cx="70102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2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view: Digital Filter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f Analog Signal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B823-2768-4043-8338-BC4A1AE2979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E492317-89E3-4C08-A1F9-681D99909F65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Reconstruc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905120"/>
          <a:ext cx="8178840" cy="101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817884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1671480" y="4267080"/>
            <a:ext cx="5808960" cy="1968120"/>
            <a:chOff x="1671480" y="4267080"/>
            <a:chExt cx="5808960" cy="1968120"/>
          </a:xfrm>
        </p:grpSpPr>
        <p:graphicFrame>
          <p:nvGraphicFramePr>
            <p:cNvPr id="141" name=""/>
            <p:cNvGraphicFramePr/>
            <p:nvPr/>
          </p:nvGraphicFramePr>
          <p:xfrm>
            <a:off x="1938240" y="4267080"/>
            <a:ext cx="5440320" cy="135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38240" y="4267080"/>
                      <a:ext cx="5440320" cy="13525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1671480" y="5775480"/>
              <a:ext cx="580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Ideal bandlimited interpolation formula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2514600"/>
            <a:ext cx="5181480" cy="1547640"/>
            <a:chOff x="1905120" y="2514600"/>
            <a:chExt cx="5181480" cy="1547640"/>
          </a:xfrm>
        </p:grpSpPr>
        <p:graphicFrame>
          <p:nvGraphicFramePr>
            <p:cNvPr id="145" name=""/>
            <p:cNvGraphicFramePr/>
            <p:nvPr/>
          </p:nvGraphicFramePr>
          <p:xfrm>
            <a:off x="1905120" y="3048120"/>
            <a:ext cx="4897440" cy="101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05120" y="3048120"/>
                      <a:ext cx="4897440" cy="101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"/>
            <p:cNvSpPr/>
            <p:nvPr/>
          </p:nvSpPr>
          <p:spPr>
            <a:xfrm flipH="1">
              <a:off x="5334120" y="2514600"/>
              <a:ext cx="1752480" cy="8380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19720" y="2590920"/>
              <a:ext cx="685800" cy="685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103A-2A4B-4800-8E90-65474089634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4912F-8167-463C-AF9E-E38D882798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380880"/>
            <a:ext cx="8204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hannon Sampling Theor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“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SINC” Interpolati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s the idea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ERFECT RECONSTRUC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f BANDLIMITED SIGNA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2280" y="3414600"/>
            <a:ext cx="8763120" cy="29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A4C1-463A-4736-BA79-9D06C1050A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169AA-09F9-42FF-8B5D-EC19C805D3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construction in Time-Dom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53" name="reconst_wave2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495680" cy="4800600"/>
          </a:xfrm>
          <a:prstGeom prst="rect">
            <a:avLst/>
          </a:prstGeom>
          <a:ln w="0">
            <a:noFill/>
          </a:ln>
        </p:spPr>
      </p:pic>
      <p:pic>
        <p:nvPicPr>
          <p:cNvPr id="154" name="reconst_wave" descr=""/>
          <p:cNvPicPr/>
          <p:nvPr/>
        </p:nvPicPr>
        <p:blipFill>
          <a:blip r:embed="rId2"/>
          <a:stretch/>
        </p:blipFill>
        <p:spPr>
          <a:xfrm>
            <a:off x="0" y="1614600"/>
            <a:ext cx="4568760" cy="47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F8E-8203-4220-BA5B-DCF10A77C62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4298B-2B62-40BF-BCB0-6080CE224C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C-to-D and D-to-C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1219320" y="4267080"/>
          <a:ext cx="1904760" cy="38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267080"/>
                    <a:ext cx="1904760" cy="3812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378320" y="3568680"/>
          <a:ext cx="4308480" cy="1155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78320" y="3568680"/>
                    <a:ext cx="4308480" cy="11556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193400" y="474516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deal Sampl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19160" y="4745160"/>
            <a:ext cx="37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deal bandlimited interpolato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57800" y="5313240"/>
          <a:ext cx="3809880" cy="40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5313240"/>
                    <a:ext cx="3809880" cy="4017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152280" y="5257800"/>
          <a:ext cx="4572000" cy="887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280" y="5257800"/>
                    <a:ext cx="4572000" cy="8874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8E93-1E3F-4E3E-809C-D9BE70C1C29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7B4CA-4F84-4E49-A3CD-1826CB1827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T Filtering of CT Signal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1752480"/>
            <a:ext cx="1904760" cy="91440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1752480"/>
            <a:ext cx="106668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D-to-C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1752480"/>
            <a:ext cx="106668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C-to-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22096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22096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67480" y="22096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22096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4920" y="1773360"/>
            <a:ext cx="5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x(t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23800" y="177336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y(t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91160" y="177336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Tahoma"/>
              </a:rPr>
              <a:t>y[n]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95680" y="1773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Tahoma"/>
              </a:rPr>
              <a:t>x[n]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733920" y="1828800"/>
          <a:ext cx="14223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828800"/>
                    <a:ext cx="1422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04920" y="2362320"/>
          <a:ext cx="952560" cy="34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362320"/>
                    <a:ext cx="9525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7696080" y="2324160"/>
          <a:ext cx="914400" cy="34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96080" y="2324160"/>
                    <a:ext cx="9144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438280" y="2514600"/>
          <a:ext cx="106704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514600"/>
                    <a:ext cx="10670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5435640" y="2514600"/>
          <a:ext cx="10159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35640" y="2514600"/>
                    <a:ext cx="1015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337680" y="3292560"/>
            <a:ext cx="83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ahoma"/>
              </a:rPr>
              <a:t>If no aliasing occurs in sampling x(t), then it follows tha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752480" y="3886200"/>
          <a:ext cx="5988240" cy="646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52480" y="3886200"/>
                    <a:ext cx="5988240" cy="6462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838080" y="4851360"/>
          <a:ext cx="7696440" cy="1778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4851360"/>
                    <a:ext cx="7696440" cy="17780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967920" y="5715000"/>
            <a:ext cx="200484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UNDEFIN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NOT   LTI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91F-ECC2-400E-BB30-7BBD4786DCA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D415D-84D1-4DA6-9D98-7F8BFE77C4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DTFT_filtering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6553080" cy="6105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T Filtering of a CT Signal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0" y="2835360"/>
            <a:ext cx="1752480" cy="520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Times New Roman"/>
              </a:rPr>
              <a:t>Spectrum of 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Times New Roman"/>
              </a:rPr>
              <a:t>Discrete-Time Signal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3962520"/>
            <a:ext cx="1219320" cy="307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Times New Roman"/>
              </a:rPr>
              <a:t>Digital Filter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724280" y="4952880"/>
            <a:ext cx="2286000" cy="3049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34320" y="4816440"/>
            <a:ext cx="1981080" cy="52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Times New Roman"/>
              </a:rPr>
              <a:t>Reconstruction Filter (Analog)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553080" y="1523880"/>
                <a:ext cx="33048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629400" y="4440240"/>
                <a:ext cx="287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629400" y="3505320"/>
                <a:ext cx="287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553080" y="5487840"/>
                <a:ext cx="33048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858000" y="914400"/>
            <a:ext cx="1219320" cy="30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Times New Roman"/>
              </a:rPr>
              <a:t>Analog Input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0" y="6019920"/>
            <a:ext cx="1371600" cy="30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Times New Roman"/>
              </a:rPr>
              <a:t>Analog Output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50E-D5C3-4371-93A0-71F227693E9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7E979-4648-4848-B1E8-B13B88D6FC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FFECTIVE Freq.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ssume NO Aliasing, the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ALOG FREQ &lt;--&gt; DIGITAL FREQ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, we can plot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aled Freq. Axis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752480" y="3200400"/>
                <a:ext cx="373392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w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10" name=""/>
          <p:cNvGraphicFramePr/>
          <p:nvPr/>
        </p:nvGraphicFramePr>
        <p:xfrm>
          <a:off x="4800600" y="4621320"/>
          <a:ext cx="3505320" cy="78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4621320"/>
                    <a:ext cx="3505320" cy="7887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6095880" y="4952880"/>
            <a:ext cx="152640" cy="838440"/>
          </a:xfrm>
          <a:prstGeom prst="upArrow">
            <a:avLst>
              <a:gd name="adj1" fmla="val 50000"/>
              <a:gd name="adj2" fmla="val 137323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5410080"/>
            <a:ext cx="152280" cy="533520"/>
          </a:xfrm>
          <a:prstGeom prst="upArrow">
            <a:avLst>
              <a:gd name="adj1" fmla="val 50000"/>
              <a:gd name="adj2" fmla="val 87589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45080" y="5791320"/>
            <a:ext cx="29545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ALOG FREQUENCY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27680" y="3809880"/>
            <a:ext cx="2768400" cy="990720"/>
          </a:xfrm>
          <a:custGeom>
            <a:avLst/>
            <a:gdLst/>
            <a:ahLst/>
            <a:rect l="l" t="t" r="r" b="b"/>
            <a:pathLst>
              <a:path w="1744" h="624">
                <a:moveTo>
                  <a:pt x="16" y="624"/>
                </a:moveTo>
                <a:cubicBezTo>
                  <a:pt x="8" y="544"/>
                  <a:pt x="0" y="464"/>
                  <a:pt x="112" y="432"/>
                </a:cubicBezTo>
                <a:cubicBezTo>
                  <a:pt x="224" y="400"/>
                  <a:pt x="456" y="440"/>
                  <a:pt x="688" y="432"/>
                </a:cubicBezTo>
                <a:cubicBezTo>
                  <a:pt x="920" y="424"/>
                  <a:pt x="1328" y="455"/>
                  <a:pt x="1504" y="384"/>
                </a:cubicBezTo>
                <a:cubicBezTo>
                  <a:pt x="1679" y="312"/>
                  <a:pt x="1711" y="156"/>
                  <a:pt x="1744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76000" y="3429000"/>
            <a:ext cx="21589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GITAL FILT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3898-C233-4351-B779-218807DE416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9CCF5-3C69-4589-9611-ABA2129DDC0F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65240" y="304920"/>
            <a:ext cx="8826480" cy="6426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55640" y="4084560"/>
            <a:ext cx="36295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FFECTIVE RESPO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6629400"/>
            <a:ext cx="175284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3429000"/>
            <a:ext cx="15242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1143000"/>
            <a:ext cx="152280" cy="15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00600" y="4343400"/>
            <a:ext cx="152280" cy="15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62720" y="5410080"/>
            <a:ext cx="152280" cy="1526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62720" y="2209680"/>
            <a:ext cx="152280" cy="1526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2362320"/>
            <a:ext cx="0" cy="3047760"/>
          </a:xfrm>
          <a:prstGeom prst="line">
            <a:avLst/>
          </a:prstGeom>
          <a:ln w="38160">
            <a:solidFill>
              <a:srgbClr val="9966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27960" y="838080"/>
            <a:ext cx="21589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GITAL FILT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387520" y="1295280"/>
          <a:ext cx="1422360" cy="5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87520" y="1295280"/>
                    <a:ext cx="1422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838080" y="4648320"/>
          <a:ext cx="2170080" cy="74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4648320"/>
                    <a:ext cx="2170080" cy="7412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7010280" y="3505320"/>
          <a:ext cx="1865520" cy="438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10280" y="3505320"/>
                    <a:ext cx="1865520" cy="4381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5943600" y="914400"/>
          <a:ext cx="1663560" cy="888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943600" y="914400"/>
                    <a:ext cx="16635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C7BD-7E4D-42FD-90BD-DB93712F0200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80D30-FA85-4E02-AF98-3F351B0A846D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requency Response for Discrete-tim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alog Frequency Respon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</a:t>
            </a:r>
            <a:r>
              <a:rPr b="0" lang="en-US" sz="4000" spc="-1" strike="noStrike" baseline="-25000">
                <a:solidFill>
                  <a:srgbClr val="0000cc"/>
                </a:solidFill>
                <a:latin typeface="Arial Black"/>
              </a:rPr>
              <a:t>eff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for 11-pt Averag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954600" y="3581280"/>
                <a:ext cx="42750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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990720" y="2306520"/>
                <a:ext cx="367344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990720" y="5257800"/>
                <a:ext cx="37130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EA8D-AE11-4538-A724-F0D782A99AB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55BC6-5E4E-4258-BB93-A361A38F8971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output, y(t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673360" y="4514760"/>
                <a:ext cx="44132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p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700440" y="2457360"/>
                <a:ext cx="18288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553080" y="2610000"/>
            <a:ext cx="10670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D-to-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2610000"/>
            <a:ext cx="106668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-to-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30672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30672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30672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30672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840" y="26100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848720" y="26100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16080" y="26100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20960" y="2610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143000" y="5440320"/>
                <a:ext cx="25146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0</m:t>
                    </m:r>
                    <m: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177840" y="3295800"/>
            <a:ext cx="1422360" cy="2438280"/>
          </a:xfrm>
          <a:custGeom>
            <a:avLst/>
            <a:gdLst/>
            <a:ahLst/>
            <a:rect l="l" t="t" r="r" b="b"/>
            <a:pathLst>
              <a:path w="896" h="1536">
                <a:moveTo>
                  <a:pt x="560" y="1536"/>
                </a:moveTo>
                <a:cubicBezTo>
                  <a:pt x="412" y="1528"/>
                  <a:pt x="264" y="1520"/>
                  <a:pt x="176" y="1344"/>
                </a:cubicBezTo>
                <a:cubicBezTo>
                  <a:pt x="88" y="1168"/>
                  <a:pt x="0" y="687"/>
                  <a:pt x="32" y="480"/>
                </a:cubicBezTo>
                <a:cubicBezTo>
                  <a:pt x="63" y="272"/>
                  <a:pt x="224" y="175"/>
                  <a:pt x="368" y="96"/>
                </a:cubicBezTo>
                <a:cubicBezTo>
                  <a:pt x="511" y="16"/>
                  <a:pt x="703" y="8"/>
                  <a:pt x="896" y="0"/>
                </a:cubicBezTo>
              </a:path>
            </a:pathLst>
          </a:custGeom>
          <a:noFill/>
          <a:ln w="38160">
            <a:solidFill>
              <a:srgbClr val="333399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7172-5436-4208-B6E2-77F05D00606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71AAA-6346-4395-B10C-61374EEF8A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C82D-12D9-48EF-AF55-C3F1B7053F9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F95F0-CB81-49D0-BC21-31F64DC57AEF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 BECOM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output, y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ecau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886120" y="4191120"/>
                <a:ext cx="41734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p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438280" y="2057400"/>
                <a:ext cx="31356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048120" y="5334120"/>
                <a:ext cx="52736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1439280" y="5867280"/>
            <a:ext cx="167436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O Alias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0949-CAE3-4746-BB4C-7A78C1D5422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569CA-D92F-4E71-8EE7-D10CDEEF11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066680" y="3124080"/>
                <a:ext cx="6985080" cy="32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then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sup>
                            </m:sSup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AL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x[n] = SINUSOID =&gt; y[n] is SINUSOI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et MAGNITUDE &amp; PHASE from H(z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476760" y="2971800"/>
            <a:ext cx="609480" cy="24382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2971800"/>
            <a:ext cx="685800" cy="281952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4869-63F8-4891-8970-9ACB76C255B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7D2B0-FDB9-4130-85DB-C8F00706E1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 INSIDE ANSW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input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n y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252960" y="3276720"/>
                <a:ext cx="3781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p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438280" y="1828800"/>
                <a:ext cx="31356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176640" y="4191120"/>
                <a:ext cx="51544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pn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20840" y="5033880"/>
                <a:ext cx="79912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2</m:t>
                        </m:r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 flipH="1" flipV="1">
            <a:off x="4876560" y="4648320"/>
            <a:ext cx="1600200" cy="838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7924680" y="4800600"/>
            <a:ext cx="0" cy="5335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320" y="2438280"/>
            <a:ext cx="2286000" cy="3124440"/>
          </a:xfrm>
          <a:custGeom>
            <a:avLst/>
            <a:gdLst/>
            <a:ahLst/>
            <a:rect l="l" t="t" r="r" b="b"/>
            <a:pathLst>
              <a:path w="1440" h="1968">
                <a:moveTo>
                  <a:pt x="192" y="1968"/>
                </a:moveTo>
                <a:cubicBezTo>
                  <a:pt x="132" y="1884"/>
                  <a:pt x="72" y="1800"/>
                  <a:pt x="48" y="1632"/>
                </a:cubicBezTo>
                <a:cubicBezTo>
                  <a:pt x="24" y="1464"/>
                  <a:pt x="0" y="1175"/>
                  <a:pt x="48" y="960"/>
                </a:cubicBezTo>
                <a:cubicBezTo>
                  <a:pt x="95" y="744"/>
                  <a:pt x="104" y="495"/>
                  <a:pt x="336" y="336"/>
                </a:cubicBezTo>
                <a:cubicBezTo>
                  <a:pt x="567" y="176"/>
                  <a:pt x="1003" y="88"/>
                  <a:pt x="1440" y="0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8CA1-AEAF-45CB-857C-9CC18E9162E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F5723-F06E-4863-B64D-166B02467F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 ANSW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output i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438280" y="3983040"/>
                <a:ext cx="44132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p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700440" y="2286000"/>
                <a:ext cx="18288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6553080" y="2438280"/>
            <a:ext cx="1067040" cy="914400"/>
          </a:xfrm>
          <a:prstGeom prst="rect">
            <a:avLst/>
          </a:prstGeom>
          <a:solidFill>
            <a:srgbClr val="ffcc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D-to-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00200" y="2438280"/>
            <a:ext cx="1066680" cy="914400"/>
          </a:xfrm>
          <a:prstGeom prst="rect">
            <a:avLst/>
          </a:prstGeom>
          <a:solidFill>
            <a:srgbClr val="ffcc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-to-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6880" y="28954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28954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0120" y="28954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28954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840" y="24382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48720" y="24382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16080" y="2438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20960" y="24382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52280" y="3392640"/>
                <a:ext cx="198144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0</m:t>
                    </m:r>
                    <m: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5800" y="5486400"/>
                <a:ext cx="7639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pt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2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DF08-9C16-44E0-A49C-24BE05BB0DF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7BB3B-AD9F-4D29-BAF0-9876483F5F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ANOTHER INPUT FREQ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output, y(t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700440" y="2590920"/>
                <a:ext cx="18288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6553080" y="2743200"/>
            <a:ext cx="10670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D-to-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00200" y="2743200"/>
            <a:ext cx="106668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-to-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668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62720" y="32004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20120" y="32004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840" y="27432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48720" y="27432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6080" y="27432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20960" y="2743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143000" y="5573880"/>
                <a:ext cx="25146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0</m:t>
                    </m:r>
                    <m: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177840" y="3429000"/>
            <a:ext cx="1422360" cy="2438280"/>
          </a:xfrm>
          <a:custGeom>
            <a:avLst/>
            <a:gdLst/>
            <a:ahLst/>
            <a:rect l="l" t="t" r="r" b="b"/>
            <a:pathLst>
              <a:path w="896" h="1536">
                <a:moveTo>
                  <a:pt x="560" y="1536"/>
                </a:moveTo>
                <a:cubicBezTo>
                  <a:pt x="412" y="1528"/>
                  <a:pt x="264" y="1520"/>
                  <a:pt x="176" y="1344"/>
                </a:cubicBezTo>
                <a:cubicBezTo>
                  <a:pt x="88" y="1168"/>
                  <a:pt x="0" y="687"/>
                  <a:pt x="32" y="480"/>
                </a:cubicBezTo>
                <a:cubicBezTo>
                  <a:pt x="63" y="272"/>
                  <a:pt x="224" y="175"/>
                  <a:pt x="368" y="96"/>
                </a:cubicBezTo>
                <a:cubicBezTo>
                  <a:pt x="511" y="16"/>
                  <a:pt x="703" y="8"/>
                  <a:pt x="896" y="0"/>
                </a:cubicBezTo>
              </a:path>
            </a:pathLst>
          </a:custGeom>
          <a:noFill/>
          <a:ln w="38160">
            <a:solidFill>
              <a:srgbClr val="333399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5651640" y="5526000"/>
          <a:ext cx="2577960" cy="11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5526000"/>
                    <a:ext cx="2577960" cy="1197000"/>
                  </a:xfrm>
                  <a:prstGeom prst="rect">
                    <a:avLst/>
                  </a:prstGeom>
                  <a:ln w="572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 flipH="1">
            <a:off x="3048120" y="2209680"/>
            <a:ext cx="457200" cy="6098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429000" y="1752480"/>
                <a:ext cx="1143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438280" y="4521240"/>
                <a:ext cx="54864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00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925F-7DBA-4581-91BD-17B9EA02436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F1284-3484-4533-B57C-AA30450D6E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2nd POP QUIZ ANSW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3700440" y="2590920"/>
                <a:ext cx="18288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6553080" y="2743200"/>
            <a:ext cx="10670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D-to-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2743200"/>
            <a:ext cx="106668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-to-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668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32004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0120" y="32004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4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840" y="27432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848720" y="27432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16080" y="27432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20960" y="2743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04920" y="5486400"/>
                <a:ext cx="2133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0</m:t>
                    </m:r>
                    <m: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26" name=""/>
          <p:cNvGraphicFramePr/>
          <p:nvPr/>
        </p:nvGraphicFramePr>
        <p:xfrm>
          <a:off x="5560920" y="5105520"/>
          <a:ext cx="2933640" cy="10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0920" y="5105520"/>
                    <a:ext cx="2933640" cy="1082520"/>
                  </a:xfrm>
                  <a:prstGeom prst="rect">
                    <a:avLst/>
                  </a:prstGeom>
                  <a:ln w="572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2438280" y="5562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29200" y="5562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3048120" y="2209680"/>
            <a:ext cx="457200" cy="6098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7848720" y="3505320"/>
          <a:ext cx="109044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3505320"/>
                    <a:ext cx="1090440" cy="465120"/>
                  </a:xfrm>
                  <a:prstGeom prst="rect">
                    <a:avLst/>
                  </a:prstGeom>
                  <a:ln w="572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209680" y="4114800"/>
                <a:ext cx="54864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00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 rot="10800000">
                <a:off x="2514600" y="1715400"/>
                <a:ext cx="51814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0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 rot="10800000">
                <a:off x="2971800" y="5257800"/>
                <a:ext cx="20574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BF82-A5E6-4415-AB83-37E30F8CA65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23210-0364-4A5B-9015-796C3C3A16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MPORTANT CONCEP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956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L Signals hav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requency Conte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m of Sinusoid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lex Exponentia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pulses, Square Puls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ILTER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alter th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requency Conte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age Processing Example: Blu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inear Time-Invariant Process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3 Domain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for Analysi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79BE-A85C-49D5-A450-3DE14A6FA3F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ADE9C-5CB3-42C5-8AF4-4A5044DA92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uperficial Knowledg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7772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t depends how carefully you think about it.  If you don’t think very carefully it’s obvious; but if you think about it in depth, you’ll get confused and it won’t be obvious.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3FD2-B59C-4B59-8C96-5D0D486FF14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ABF91-42DD-448C-994E-D1965915129E}" type="datetime1">
              <a:rPr lang="en-US"/>
              <a:t>07/30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REE DOMAIN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457200" y="1419120"/>
            <a:ext cx="8458200" cy="54388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 flipV="1">
            <a:off x="2438280" y="2057400"/>
            <a:ext cx="1828800" cy="266688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55600" y="2001960"/>
                <a:ext cx="332568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l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6248520" y="2514600"/>
            <a:ext cx="1371600" cy="2362320"/>
          </a:xfrm>
          <a:prstGeom prst="line">
            <a:avLst/>
          </a:prstGeom>
          <a:ln w="76320">
            <a:solidFill>
              <a:srgbClr val="ff66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6400800" y="2994120"/>
                <a:ext cx="198108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CACE-F2EA-47EC-8C25-E582B5ACAE7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D08CF-8F38-476D-96FC-225B0473AE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E FUTUR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ircuits &amp;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Laplac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ransfor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514600" y="3048120"/>
            <a:ext cx="1295280" cy="129528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886200" y="2666880"/>
                <a:ext cx="9190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943600" y="4267080"/>
                <a:ext cx="12366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1981080" y="4343400"/>
                <a:ext cx="7430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 flipH="1">
            <a:off x="2743200" y="4495680"/>
            <a:ext cx="3200400" cy="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3124080"/>
            <a:ext cx="1143000" cy="106704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00800" y="4876920"/>
            <a:ext cx="1676520" cy="8254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Frequenc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Respo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7920" y="4952880"/>
            <a:ext cx="2646720" cy="8254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Implementation i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RLC-op-amp circui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08480" y="2514600"/>
            <a:ext cx="3647880" cy="459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olynomials: Poles &amp; Zero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9BE5-C69D-4130-8FAB-954E0030146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99B14-507D-4D87-AE6C-182C4A8E2F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ampling Theorem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Revisite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NERAL: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 the FREQUENCY DOMAI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urier transform of sampled sign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onstruction from samp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ffective Frequency Respon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portant FT propert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volution 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multiplic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equency shif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8B79-0704-4D0E-85D6-6B37797261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F3E01-AEA7-4B04-95A6-7BA5B95552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athematical Eleganc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380880" y="1752480"/>
            <a:ext cx="7943040" cy="1198800"/>
            <a:chOff x="380880" y="1752480"/>
            <a:chExt cx="7943040" cy="1198800"/>
          </a:xfrm>
        </p:grpSpPr>
        <p:graphicFrame>
          <p:nvGraphicFramePr>
            <p:cNvPr id="360" name=""/>
            <p:cNvGraphicFramePr/>
            <p:nvPr/>
          </p:nvGraphicFramePr>
          <p:xfrm>
            <a:off x="380880" y="1752480"/>
            <a:ext cx="4572000" cy="119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1752480"/>
                      <a:ext cx="4572000" cy="119880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62" name=""/>
            <p:cNvSpPr/>
            <p:nvPr/>
          </p:nvSpPr>
          <p:spPr>
            <a:xfrm>
              <a:off x="5291640" y="1905120"/>
              <a:ext cx="3032280" cy="82548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Fourier Synthesi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ahoma"/>
                </a:rPr>
                <a:t>Inverse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 Transform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aphicFrame>
        <p:nvGraphicFramePr>
          <p:cNvPr id="363" name=""/>
          <p:cNvGraphicFramePr/>
          <p:nvPr/>
        </p:nvGraphicFramePr>
        <p:xfrm>
          <a:off x="380880" y="5105520"/>
          <a:ext cx="7467840" cy="12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105520"/>
                    <a:ext cx="7467840" cy="1218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65" name="" descr=""/>
          <p:cNvPicPr/>
          <p:nvPr/>
        </p:nvPicPr>
        <p:blipFill>
          <a:blip r:embed="rId5"/>
          <a:stretch/>
        </p:blipFill>
        <p:spPr>
          <a:xfrm>
            <a:off x="6553080" y="1447920"/>
            <a:ext cx="2130480" cy="259056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331920" y="3400560"/>
            <a:ext cx="7776000" cy="1400040"/>
            <a:chOff x="331920" y="3400560"/>
            <a:chExt cx="7776000" cy="1400040"/>
          </a:xfrm>
        </p:grpSpPr>
        <p:graphicFrame>
          <p:nvGraphicFramePr>
            <p:cNvPr id="367" name=""/>
            <p:cNvGraphicFramePr/>
            <p:nvPr/>
          </p:nvGraphicFramePr>
          <p:xfrm>
            <a:off x="331920" y="3400560"/>
            <a:ext cx="4392360" cy="1400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31920" y="3400560"/>
                      <a:ext cx="4392360" cy="140004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69" name=""/>
            <p:cNvSpPr/>
            <p:nvPr/>
          </p:nvSpPr>
          <p:spPr>
            <a:xfrm>
              <a:off x="4944600" y="3936960"/>
              <a:ext cx="3163320" cy="82548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Fourier Analysi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ahoma"/>
                </a:rPr>
                <a:t>Forward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 Transform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148A-349F-4691-95BE-3A902CA5E40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0042B-0B01-4A5F-9ED9-5CCD79E8E6C6}" type="datetime1">
              <a:rPr lang="en-US"/>
              <a:t>07/30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igher Educa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620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primary goal of undergraduate education should be happy graduates; happy alums make better donors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C193-9021-43C2-B01B-1E2875DC5DA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07409-4DC6-48F1-8B87-6D083BD8FB1D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ys_Reconstruct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3295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ampling: Freq. Dom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6275520" y="3429000"/>
            <a:ext cx="2405880" cy="1373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PEC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REQUENCY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HIFTING !!!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09480" y="4800600"/>
                <a:ext cx="723924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80880" y="3200400"/>
                <a:ext cx="39625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447F-D608-4EC3-A7FD-8649AAA4E13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626974-346C-4DEF-A457-57902E99D5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aliased1_signal_trans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1666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-Domain Representation of Sampling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00200" y="3222720"/>
          <a:ext cx="617220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222720"/>
                    <a:ext cx="6172200" cy="11970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80880" y="173664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ypical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bandlimited signa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0" name="aliased2_signal_trans" descr=""/>
          <p:cNvPicPr/>
          <p:nvPr/>
        </p:nvPicPr>
        <p:blipFill>
          <a:blip r:embed="rId4"/>
          <a:stretch/>
        </p:blipFill>
        <p:spPr>
          <a:xfrm>
            <a:off x="152280" y="4495680"/>
            <a:ext cx="8839440" cy="237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A575-FD3F-42C6-AA24-251E48D8CFF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5C85E-22A4-42E1-AE90-E4BFE38BB3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Aliasing Distor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3029040"/>
            <a:ext cx="81788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&lt; 2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the copies of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verlap, and we hav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iasing distorti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3" name="aliased3_signal_trans" descr=""/>
          <p:cNvPicPr/>
          <p:nvPr/>
        </p:nvPicPr>
        <p:blipFill>
          <a:blip r:embed="rId1"/>
          <a:stretch/>
        </p:blipFill>
        <p:spPr>
          <a:xfrm>
            <a:off x="304920" y="4343400"/>
            <a:ext cx="8686800" cy="2017800"/>
          </a:xfrm>
          <a:prstGeom prst="rect">
            <a:avLst/>
          </a:prstGeom>
          <a:ln w="0">
            <a:noFill/>
          </a:ln>
        </p:spPr>
      </p:pic>
      <p:pic>
        <p:nvPicPr>
          <p:cNvPr id="104" name="aliased1_signal_trans" descr=""/>
          <p:cNvPicPr/>
          <p:nvPr/>
        </p:nvPicPr>
        <p:blipFill>
          <a:blip r:embed="rId2"/>
          <a:stretch/>
        </p:blipFill>
        <p:spPr>
          <a:xfrm>
            <a:off x="304920" y="1333440"/>
            <a:ext cx="8686800" cy="1638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0880" y="16002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ypical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bandlimited signa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6468-6D36-4454-9703-41C3DC7268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B2AE8-1A75-4D39-9B67-17BB787069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sys_Reconstruct" descr=""/>
          <p:cNvPicPr/>
          <p:nvPr/>
        </p:nvPicPr>
        <p:blipFill>
          <a:blip r:embed="rId1"/>
          <a:srcRect l="0" t="0" r="0" b="37572"/>
          <a:stretch/>
        </p:blipFill>
        <p:spPr>
          <a:xfrm>
            <a:off x="457200" y="1219320"/>
            <a:ext cx="8229600" cy="2057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construction of </a:t>
            </a:r>
            <a:r>
              <a:rPr b="0" i="1" lang="en-US" sz="4000" spc="-1" strike="noStrike">
                <a:solidFill>
                  <a:srgbClr val="0000cc"/>
                </a:solidFill>
                <a:latin typeface="Arial Black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(</a:t>
            </a:r>
            <a:r>
              <a:rPr b="0" i="1" lang="en-US" sz="4000" spc="-1" strike="noStrike">
                <a:solidFill>
                  <a:srgbClr val="0000cc"/>
                </a:solidFill>
                <a:latin typeface="Arial Black"/>
              </a:rPr>
              <a:t>t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14600" y="3124080"/>
          <a:ext cx="4572000" cy="97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3124080"/>
                    <a:ext cx="4572000" cy="9748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676520" y="4343400"/>
          <a:ext cx="5486400" cy="106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4343400"/>
                    <a:ext cx="548640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828800" y="5638680"/>
          <a:ext cx="5181480" cy="54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5638680"/>
                    <a:ext cx="5181480" cy="5461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65D7-1792-4828-8644-BED1D52A5E2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FF52C-EBD5-49DE-988F-0AC22141DC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construct_trans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5678280" cy="5943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 Black"/>
              </a:rPr>
              <a:t>Reconstruction: Frequency-Domain</a:t>
            </a:r>
            <a:endParaRPr b="0" lang="en-US" sz="36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638680" y="2743200"/>
                <a:ext cx="335304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the copies of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do not overlap, so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7" name=""/>
          <p:cNvGrpSpPr/>
          <p:nvPr/>
        </p:nvGrpSpPr>
        <p:grpSpPr>
          <a:xfrm>
            <a:off x="304920" y="3276720"/>
            <a:ext cx="2286000" cy="761760"/>
            <a:chOff x="304920" y="3276720"/>
            <a:chExt cx="2286000" cy="761760"/>
          </a:xfrm>
        </p:grpSpPr>
        <p:sp>
          <p:nvSpPr>
            <p:cNvPr id="118" name=""/>
            <p:cNvSpPr/>
            <p:nvPr/>
          </p:nvSpPr>
          <p:spPr>
            <a:xfrm>
              <a:off x="1371600" y="3581280"/>
              <a:ext cx="1219320" cy="457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119" name=""/>
            <p:cNvGraphicFramePr/>
            <p:nvPr/>
          </p:nvGraphicFramePr>
          <p:xfrm>
            <a:off x="304920" y="3276720"/>
            <a:ext cx="1117440" cy="368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3276720"/>
                      <a:ext cx="1117440" cy="3682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971C-FB06-41B9-8587-456ACD3BB92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976E9-6DD0-4BA5-A061-3E3E0B142F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deal_BLht_Recon_Filter" descr=""/>
          <p:cNvPicPr/>
          <p:nvPr/>
        </p:nvPicPr>
        <p:blipFill>
          <a:blip r:embed="rId1"/>
          <a:stretch/>
        </p:blipFill>
        <p:spPr>
          <a:xfrm>
            <a:off x="1219320" y="4056120"/>
            <a:ext cx="6324480" cy="2589120"/>
          </a:xfrm>
          <a:prstGeom prst="rect">
            <a:avLst/>
          </a:prstGeom>
          <a:ln w="0">
            <a:noFill/>
          </a:ln>
        </p:spPr>
      </p:pic>
      <p:pic>
        <p:nvPicPr>
          <p:cNvPr id="122" name="ideal_BL_Recon_Filter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7467480" cy="24289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Reconstruction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280" y="4038480"/>
          <a:ext cx="2819520" cy="170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038480"/>
                    <a:ext cx="2819520" cy="17067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04920" y="1447920"/>
          <a:ext cx="3289320" cy="14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1447920"/>
                    <a:ext cx="3289320" cy="14857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28" name=""/>
          <p:cNvGrpSpPr/>
          <p:nvPr/>
        </p:nvGrpSpPr>
        <p:grpSpPr>
          <a:xfrm>
            <a:off x="4419720" y="4191120"/>
            <a:ext cx="2128680" cy="457200"/>
            <a:chOff x="4419720" y="4191120"/>
            <a:chExt cx="2128680" cy="457200"/>
          </a:xfrm>
        </p:grpSpPr>
        <p:graphicFrame>
          <p:nvGraphicFramePr>
            <p:cNvPr id="129" name=""/>
            <p:cNvGraphicFramePr/>
            <p:nvPr/>
          </p:nvGraphicFramePr>
          <p:xfrm>
            <a:off x="5181480" y="4191120"/>
            <a:ext cx="1366920" cy="399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81480" y="4191120"/>
                      <a:ext cx="1366920" cy="3999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 flipH="1">
              <a:off x="4419720" y="4419720"/>
              <a:ext cx="761760" cy="228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028840" y="5280120"/>
            <a:ext cx="4115160" cy="914400"/>
            <a:chOff x="5028840" y="5280120"/>
            <a:chExt cx="4115160" cy="914400"/>
          </a:xfrm>
        </p:grpSpPr>
        <p:graphicFrame>
          <p:nvGraphicFramePr>
            <p:cNvPr id="133" name=""/>
            <p:cNvGraphicFramePr/>
            <p:nvPr/>
          </p:nvGraphicFramePr>
          <p:xfrm>
            <a:off x="5238720" y="5280120"/>
            <a:ext cx="3905280" cy="414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238720" y="5280120"/>
                      <a:ext cx="3905280" cy="4143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5" name=""/>
            <p:cNvSpPr/>
            <p:nvPr/>
          </p:nvSpPr>
          <p:spPr>
            <a:xfrm flipH="1">
              <a:off x="5028840" y="5661000"/>
              <a:ext cx="228600" cy="533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8EBE-C422-43DB-859C-D6AEE9EE250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27705-D53A-4E79-8756-521760AA70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Jim McClellan</cp:lastModifiedBy>
  <cp:lastPrinted>1999-11-02T00:50:16Z</cp:lastPrinted>
  <dcterms:modified xsi:type="dcterms:W3CDTF">2003-08-21T22:11:41Z</dcterms:modified>
  <cp:revision>486</cp:revision>
  <dc:subject/>
  <dc:title>SPFirst Lecture #2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