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7.wmf" ContentType="image/x-wmf"/>
  <Override PartName="/ppt/media/image12.png" ContentType="image/png"/>
  <Override PartName="/ppt/media/image5.png" ContentType="image/png"/>
  <Override PartName="/ppt/media/image13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17.wmf" ContentType="image/x-wmf"/>
  <Override PartName="/ppt/media/image20.png" ContentType="image/pn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7.png" ContentType="image/png"/>
  <Override PartName="/ppt/media/image3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D1A-FABB-4918-9C33-603E05C9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DA8-6570-42FD-8256-93B18DF3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246-4801-4135-A9CE-1C36785C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584-607E-48C6-B975-6E3874D8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23C6-14A9-4281-86CB-FC2D10C9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BCCE-7BD7-45BB-8DBE-E0A4A841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9173-8472-4A6C-AB14-E923C471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3105-4BDE-4DE8-9AA7-6A8A61B6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AE46-70E8-48B2-B94D-DBE8EADC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87E4-8C37-4FD9-977A-DE813559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E902-F11F-48A7-984F-21C0809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382-E838-4C9A-A8BD-641AB35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D7A0-5CF0-424F-BCD5-779131E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76AF-2EA6-4BE4-9AB2-B20D3C8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7A56-65BE-4FB6-8389-5EDA5AF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19FF-9DCA-4A6B-9FD0-C7BDE772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CC5E-6363-43A3-B2DD-0D59AF64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86C-430A-47F8-BC48-18F02B9E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C68-7022-4659-A672-7EA3CF1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2C6-6DB3-4CA7-B9B3-010CF719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F24-1D24-4238-A8E3-62D952B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049-B632-4E03-A62F-E006D73E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A91-5FBB-44FB-A0C0-9F6418CF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EEA-1C12-4D09-8822-EA7A79B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9BFE-CF9E-4B0E-8E87-B36DC0B08B5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C581-1BD0-4F66-AC28-EE04DCAB87B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199A-33D4-461E-BC99-40CF9BFA8E3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F70B-276E-464D-B28E-E19785DF0DB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8A31-9785-42E5-9286-C85A70D260D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43CA-ACFA-454F-9A43-F11AE467962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9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ous-Time Signals and Systems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3F99-71E0-490D-B495-E27013FEEC7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ED2B-270C-4181-A0C1-63653080B06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the properties apply to the limi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INTUITIVE”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finition i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fining the Impul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066680" y="4952880"/>
            <a:ext cx="4912200" cy="1206720"/>
            <a:chOff x="1066680" y="4952880"/>
            <a:chExt cx="4912200" cy="1206720"/>
          </a:xfrm>
        </p:grpSpPr>
        <p:sp>
          <p:nvSpPr>
            <p:cNvPr id="174" name="Text Box 6"/>
            <p:cNvSpPr/>
            <p:nvPr/>
          </p:nvSpPr>
          <p:spPr>
            <a:xfrm>
              <a:off x="4150800" y="525780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cc"/>
                  </a:solidFill>
                  <a:latin typeface="Arial"/>
                </a:rPr>
                <a:t>Unit area</a:t>
              </a:r>
              <a:endParaRPr b="0" lang="en-US" sz="3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5" name="Object 7"/>
            <p:cNvGraphicFramePr/>
            <p:nvPr/>
          </p:nvGraphicFramePr>
          <p:xfrm>
            <a:off x="1066680" y="4952880"/>
            <a:ext cx="2210040" cy="120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2210040" cy="1206720"/>
                    </a:xfrm>
                    <a:prstGeom prst="rect">
                      <a:avLst/>
                    </a:prstGeom>
                    <a:ln w="284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77" name="Group 11"/>
          <p:cNvGrpSpPr/>
          <p:nvPr/>
        </p:nvGrpSpPr>
        <p:grpSpPr>
          <a:xfrm>
            <a:off x="838080" y="4235400"/>
            <a:ext cx="6327360" cy="565200"/>
            <a:chOff x="838080" y="4235400"/>
            <a:chExt cx="6327360" cy="565200"/>
          </a:xfrm>
        </p:grpSpPr>
        <p:sp>
          <p:nvSpPr>
            <p:cNvPr id="178" name="Text Box 5"/>
            <p:cNvSpPr/>
            <p:nvPr/>
          </p:nvSpPr>
          <p:spPr>
            <a:xfrm>
              <a:off x="4298040" y="4267080"/>
              <a:ext cx="286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Concentrated at t=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9" name="Object 8"/>
            <p:cNvGraphicFramePr/>
            <p:nvPr/>
          </p:nvGraphicFramePr>
          <p:xfrm>
            <a:off x="838080" y="4235400"/>
            <a:ext cx="3029040" cy="56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4235400"/>
                      <a:ext cx="3029040" cy="565200"/>
                    </a:xfrm>
                    <a:prstGeom prst="rect">
                      <a:avLst/>
                    </a:prstGeom>
                    <a:ln w="284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2362320" y="2438280"/>
                <a:ext cx="3581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2F09-A048-4D8D-8788-4123C2C8F27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121-6F6E-48A9-82A1-36C7A72C3A0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6553080" cy="4678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3048120" y="4132440"/>
                <a:ext cx="3760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3048120" y="1746360"/>
                <a:ext cx="426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»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A3A-7A3C-4EE8-A2DF-EB492A632FD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96D5-F3EF-4AC1-B336-F7818BB198C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Samp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3017880"/>
            <a:ext cx="9144000" cy="323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895320" y="1922400"/>
                <a:ext cx="7562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0C1A-55DF-46D6-A9F2-4C09B125A60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8AC2-91A2-450F-A3A1-7130B1FFB7A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roperties of the Impul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060160" y="16765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Concentrated at one tim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823360" y="35812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ampling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88880" y="251460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Unit area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120280" y="45720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xtract one value of f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646520" y="57150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rivative of unit ste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152280" y="3505320"/>
          <a:ext cx="525780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05320"/>
                    <a:ext cx="5257800" cy="58716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7" name="Object 11"/>
          <p:cNvGraphicFramePr/>
          <p:nvPr/>
        </p:nvGraphicFramePr>
        <p:xfrm>
          <a:off x="673200" y="2222640"/>
          <a:ext cx="26938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2222640"/>
                    <a:ext cx="2693880" cy="120636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Object 12"/>
          <p:cNvGraphicFramePr/>
          <p:nvPr/>
        </p:nvGraphicFramePr>
        <p:xfrm>
          <a:off x="587520" y="1581120"/>
          <a:ext cx="383688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520" y="1581120"/>
                    <a:ext cx="3836880" cy="60480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04920" y="4160880"/>
          <a:ext cx="3925800" cy="117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160880"/>
                    <a:ext cx="3925800" cy="117324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14"/>
          <p:cNvGraphicFramePr/>
          <p:nvPr/>
        </p:nvGraphicFramePr>
        <p:xfrm>
          <a:off x="914400" y="5410080"/>
          <a:ext cx="2286000" cy="106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410080"/>
                    <a:ext cx="2286000" cy="106704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78D8-35DD-4E04-A7FF-9B5AC7E5B3E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C31-27DF-4477-B56A-79B65E173D5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tinuous-Tim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ul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r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073840" cy="1481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5562720" y="2590920"/>
                <a:ext cx="3047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a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2743200" y="3733920"/>
                <a:ext cx="2971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3809880" y="4581360"/>
                <a:ext cx="45198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3581280" y="5181480"/>
                <a:ext cx="297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9"/>
          <p:cNvSpPr/>
          <p:nvPr/>
        </p:nvSpPr>
        <p:spPr>
          <a:xfrm>
            <a:off x="534240" y="24224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776200" y="1828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F71D-9D32-40C0-83F5-61EBD47CFB5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9F7A-EFEE-4FE4-8DA9-1C778B4B90F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BUILDING BLOCK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GRATOR   (CIRCUIT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TI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AY by  t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DULATOR   (e.g., AM Radio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ER &amp; ADD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5C6D-EE1D-4922-A7A7-9AA8F27A09E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D87B-AEC0-4FEC-9331-A4011EC6D15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the IMPULSE RESPONSE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28"/>
              <p:cNvSpPr txBox="1"/>
              <p:nvPr/>
            </p:nvSpPr>
            <p:spPr>
              <a:xfrm>
                <a:off x="2286000" y="4803840"/>
                <a:ext cx="4038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30"/>
              <p:cNvSpPr txBox="1"/>
              <p:nvPr/>
            </p:nvSpPr>
            <p:spPr>
              <a:xfrm>
                <a:off x="2438280" y="2590920"/>
                <a:ext cx="3810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9FD0-6BCD-40CD-95C0-29B1A99912F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E6E6-EB17-4164-83C0-D32A9FDD1CE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2" name="Picture 1033" descr=""/>
          <p:cNvPicPr/>
          <p:nvPr/>
        </p:nvPicPr>
        <p:blipFill>
          <a:blip r:embed="rId1"/>
          <a:stretch/>
        </p:blipFill>
        <p:spPr>
          <a:xfrm>
            <a:off x="723960" y="4568760"/>
            <a:ext cx="7632720" cy="2136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34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632720" cy="21369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737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utput of Ideal Delay of 1 se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028"/>
              <p:cNvSpPr txBox="1"/>
              <p:nvPr/>
            </p:nvSpPr>
            <p:spPr>
              <a:xfrm>
                <a:off x="1905120" y="1523880"/>
                <a:ext cx="1892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29"/>
              <p:cNvSpPr txBox="1"/>
              <p:nvPr/>
            </p:nvSpPr>
            <p:spPr>
              <a:xfrm>
                <a:off x="685800" y="3733920"/>
                <a:ext cx="6858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E1E-6028-49F0-AD8A-A6EB4BB466D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D704-14DB-4AEB-BDD8-BDDA3D80423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the IMPULSE RESPONSE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054"/>
              <p:cNvSpPr txBox="1"/>
              <p:nvPr/>
            </p:nvSpPr>
            <p:spPr>
              <a:xfrm>
                <a:off x="2057400" y="2389320"/>
                <a:ext cx="32767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2055"/>
          <p:cNvGraphicFramePr/>
          <p:nvPr/>
        </p:nvGraphicFramePr>
        <p:xfrm>
          <a:off x="1905120" y="4896000"/>
          <a:ext cx="4419360" cy="14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0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896000"/>
                    <a:ext cx="441936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2056"/>
          <p:cNvSpPr/>
          <p:nvPr/>
        </p:nvSpPr>
        <p:spPr>
          <a:xfrm>
            <a:off x="6285240" y="2760840"/>
            <a:ext cx="241488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unning Integr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1D89-11AC-4A42-9484-2A6B875CF08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5217-FAEF-4A70-AE50-F50949AC05E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grate the impul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t&lt;0, we get zer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t&gt;0, we get on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us we have h(t) = u(t) for the integr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"/>
              <p:cNvSpPr txBox="1"/>
              <p:nvPr/>
            </p:nvSpPr>
            <p:spPr>
              <a:xfrm>
                <a:off x="4572000" y="152280"/>
                <a:ext cx="35053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2" name="Object 6"/>
          <p:cNvGraphicFramePr/>
          <p:nvPr/>
        </p:nvGraphicFramePr>
        <p:xfrm>
          <a:off x="3429000" y="2438280"/>
          <a:ext cx="387360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38280"/>
                    <a:ext cx="3873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86E-9FAA-4CCB-91C0-43FF9E4494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5BF4-0CCE-4294-AE8F-808237FAF2F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9, Sects 9-1 to 9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9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9, Sects 9-6 to 9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4FD8-CA5A-4BB6-86C1-85FA760DF29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AF65-6343-4D2A-BF51-4F190F0822E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raphical Represent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6755040" cy="4713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4489560" y="3244680"/>
                <a:ext cx="1648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6019920" y="1752480"/>
                <a:ext cx="22096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4724280" y="3809880"/>
                <a:ext cx="4013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0D0-E7B7-428B-A3AA-F2461664AA9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9924-30B1-4BC8-B2EE-8D0ED6E20E6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utput of Integr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6019920" y="330120"/>
                <a:ext cx="297180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7" name="Picture 9" descr="int_exponential30"/>
          <p:cNvPicPr/>
          <p:nvPr/>
        </p:nvPicPr>
        <p:blipFill>
          <a:blip r:embed="rId1"/>
          <a:stretch/>
        </p:blipFill>
        <p:spPr>
          <a:xfrm>
            <a:off x="0" y="1676520"/>
            <a:ext cx="5791320" cy="41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5411880" y="3835440"/>
                <a:ext cx="358452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t xml:space="preserve">8</m:t>
                                          </m:r>
                                          <m:r>
                                            <m:t xml:space="preserve">τ</m:t>
                                          </m:r>
                                        </m:sup>
                                      </m:sSup>
                                      <m:r>
                                        <m:t xml:space="preserve">u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τ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2787480" y="1752480"/>
                <a:ext cx="2241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Line 11"/>
          <p:cNvSpPr/>
          <p:nvPr/>
        </p:nvSpPr>
        <p:spPr>
          <a:xfrm flipH="1">
            <a:off x="6629040" y="5791320"/>
            <a:ext cx="685800" cy="152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5720-820A-4274-851B-2356A3A9EA8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93DE-6F1D-4B6C-9E83-A201DA83DEA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029"/>
              <p:cNvSpPr txBox="1"/>
              <p:nvPr/>
            </p:nvSpPr>
            <p:spPr>
              <a:xfrm>
                <a:off x="2590920" y="2438280"/>
                <a:ext cx="24588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30"/>
              <p:cNvSpPr txBox="1"/>
              <p:nvPr/>
            </p:nvSpPr>
            <p:spPr>
              <a:xfrm>
                <a:off x="1752480" y="4724280"/>
                <a:ext cx="39848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 Box 1031"/>
          <p:cNvSpPr/>
          <p:nvPr/>
        </p:nvSpPr>
        <p:spPr>
          <a:xfrm>
            <a:off x="6649560" y="4952880"/>
            <a:ext cx="122940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oubl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B19-D06B-46B6-8C86-1A955CD1818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B90B-0698-4DBD-9286-2D7269CD54B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or Output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6553080" y="304920"/>
                <a:ext cx="22860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4" name="Picture 7" descr="diff_exponential"/>
          <p:cNvPicPr/>
          <p:nvPr/>
        </p:nvPicPr>
        <p:blipFill>
          <a:blip r:embed="rId1"/>
          <a:stretch/>
        </p:blipFill>
        <p:spPr>
          <a:xfrm>
            <a:off x="3276720" y="1676520"/>
            <a:ext cx="5790960" cy="357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304920" y="1676520"/>
                <a:ext cx="30938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152280" y="4875120"/>
                <a:ext cx="5257800" cy="18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4371-B828-4280-A4D8-C7DC5965ED1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22A5-FC6F-44BE-B91A-2213A54C645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and Time-Invariant (LTI)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a continuous-time system is both linear and time-invariant, then the out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y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related to the in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 a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volution integ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f the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51000" y="3486240"/>
                <a:ext cx="85183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78AE-70FF-4ABF-BAC4-EA8ABED6847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58B-604F-46FB-A6FD-43C54640648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for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7" name="Picture 1027" descr=""/>
          <p:cNvPicPr/>
          <p:nvPr/>
        </p:nvPicPr>
        <p:blipFill>
          <a:blip r:embed="rId1"/>
          <a:stretch/>
        </p:blipFill>
        <p:spPr>
          <a:xfrm>
            <a:off x="0" y="1752480"/>
            <a:ext cx="9067680" cy="417996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1051"/>
          <p:cNvGrpSpPr/>
          <p:nvPr/>
        </p:nvGrpSpPr>
        <p:grpSpPr>
          <a:xfrm>
            <a:off x="209520" y="1828800"/>
            <a:ext cx="8458200" cy="3733920"/>
            <a:chOff x="209520" y="1828800"/>
            <a:chExt cx="8458200" cy="3733920"/>
          </a:xfrm>
        </p:grpSpPr>
        <p:sp>
          <p:nvSpPr>
            <p:cNvPr id="309" name="Line 1036"/>
            <p:cNvSpPr/>
            <p:nvPr/>
          </p:nvSpPr>
          <p:spPr>
            <a:xfrm flipH="1">
              <a:off x="2209680" y="32767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Object 1028"/>
                <p:cNvSpPr txBox="1"/>
                <p:nvPr/>
              </p:nvSpPr>
              <p:spPr>
                <a:xfrm>
                  <a:off x="1219320" y="2133720"/>
                  <a:ext cx="6858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Object 1029"/>
                <p:cNvSpPr txBox="1"/>
                <p:nvPr/>
              </p:nvSpPr>
              <p:spPr>
                <a:xfrm>
                  <a:off x="1200240" y="3200400"/>
                  <a:ext cx="723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Object 1030"/>
                <p:cNvSpPr txBox="1"/>
                <p:nvPr/>
              </p:nvSpPr>
              <p:spPr>
                <a:xfrm>
                  <a:off x="4730760" y="1828800"/>
                  <a:ext cx="6732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Object 1031"/>
                <p:cNvSpPr txBox="1"/>
                <p:nvPr/>
              </p:nvSpPr>
              <p:spPr>
                <a:xfrm>
                  <a:off x="4711680" y="2895480"/>
                  <a:ext cx="7113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Object 1032"/>
                <p:cNvSpPr txBox="1"/>
                <p:nvPr/>
              </p:nvSpPr>
              <p:spPr>
                <a:xfrm>
                  <a:off x="7194600" y="2457360"/>
                  <a:ext cx="622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Line 1033"/>
            <p:cNvSpPr/>
            <p:nvPr/>
          </p:nvSpPr>
          <p:spPr>
            <a:xfrm flipH="1">
              <a:off x="2209680" y="21337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6" name="Line 1034"/>
            <p:cNvSpPr/>
            <p:nvPr/>
          </p:nvSpPr>
          <p:spPr>
            <a:xfrm flipH="1">
              <a:off x="4876560" y="3276720"/>
              <a:ext cx="53316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7" name="Line 1035"/>
            <p:cNvSpPr/>
            <p:nvPr/>
          </p:nvSpPr>
          <p:spPr>
            <a:xfrm flipH="1">
              <a:off x="4800600" y="22096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8" name="Line 1037"/>
            <p:cNvSpPr/>
            <p:nvPr/>
          </p:nvSpPr>
          <p:spPr>
            <a:xfrm flipH="1">
              <a:off x="4724280" y="46483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9" name="Line 1038"/>
            <p:cNvSpPr/>
            <p:nvPr/>
          </p:nvSpPr>
          <p:spPr>
            <a:xfrm flipH="1">
              <a:off x="7238880" y="27432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0" name="Line 1039"/>
            <p:cNvSpPr/>
            <p:nvPr/>
          </p:nvSpPr>
          <p:spPr>
            <a:xfrm flipH="1">
              <a:off x="2361960" y="4648320"/>
              <a:ext cx="53316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1" name="Line 1040"/>
            <p:cNvSpPr/>
            <p:nvPr/>
          </p:nvSpPr>
          <p:spPr>
            <a:xfrm flipH="1">
              <a:off x="380880" y="41148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2" name="Line 1041"/>
            <p:cNvSpPr/>
            <p:nvPr/>
          </p:nvSpPr>
          <p:spPr>
            <a:xfrm flipH="1">
              <a:off x="380880" y="51814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1042"/>
                <p:cNvSpPr txBox="1"/>
                <p:nvPr/>
              </p:nvSpPr>
              <p:spPr>
                <a:xfrm>
                  <a:off x="4788000" y="435600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4" name="Object 1043"/>
                <p:cNvSpPr txBox="1"/>
                <p:nvPr/>
              </p:nvSpPr>
              <p:spPr>
                <a:xfrm>
                  <a:off x="2343240" y="4438800"/>
                  <a:ext cx="571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1044"/>
                <p:cNvSpPr txBox="1"/>
                <p:nvPr/>
              </p:nvSpPr>
              <p:spPr>
                <a:xfrm>
                  <a:off x="209520" y="4952880"/>
                  <a:ext cx="723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Object 1045"/>
                <p:cNvSpPr txBox="1"/>
                <p:nvPr/>
              </p:nvSpPr>
              <p:spPr>
                <a:xfrm>
                  <a:off x="228600" y="3809880"/>
                  <a:ext cx="6858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1046"/>
                <p:cNvSpPr txBox="1"/>
                <p:nvPr/>
              </p:nvSpPr>
              <p:spPr>
                <a:xfrm>
                  <a:off x="6324480" y="4114800"/>
                  <a:ext cx="6224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Object 1047"/>
                <p:cNvSpPr txBox="1"/>
                <p:nvPr/>
              </p:nvSpPr>
              <p:spPr>
                <a:xfrm>
                  <a:off x="8109000" y="433692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1048"/>
            <p:cNvSpPr/>
            <p:nvPr/>
          </p:nvSpPr>
          <p:spPr>
            <a:xfrm flipH="1">
              <a:off x="7543800" y="43434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0" name="Line 1049"/>
            <p:cNvSpPr/>
            <p:nvPr/>
          </p:nvSpPr>
          <p:spPr>
            <a:xfrm flipH="1">
              <a:off x="7010280" y="40384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0D0D-EDF7-4208-9A77-40D7A212136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C31-08A9-4507-ADE0-99EC347DB5E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1035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40"/>
          <p:cNvGrpSpPr/>
          <p:nvPr/>
        </p:nvGrpSpPr>
        <p:grpSpPr>
          <a:xfrm>
            <a:off x="152280" y="2362320"/>
            <a:ext cx="8985240" cy="2743200"/>
            <a:chOff x="152280" y="2362320"/>
            <a:chExt cx="8985240" cy="2743200"/>
          </a:xfrm>
        </p:grpSpPr>
        <mc:AlternateContent>
          <mc:Choice xmlns:a14="http://schemas.microsoft.com/office/drawing/2010/main" Requires="a14">
            <p:sp>
              <p:nvSpPr>
                <p:cNvPr id="337" name="Object 4"/>
                <p:cNvSpPr txBox="1"/>
                <p:nvPr/>
              </p:nvSpPr>
              <p:spPr>
                <a:xfrm>
                  <a:off x="209520" y="2610000"/>
                  <a:ext cx="571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5"/>
                <p:cNvSpPr txBox="1"/>
                <p:nvPr/>
              </p:nvSpPr>
              <p:spPr>
                <a:xfrm>
                  <a:off x="2216160" y="2514600"/>
                  <a:ext cx="11685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Object 6"/>
                <p:cNvSpPr txBox="1"/>
                <p:nvPr/>
              </p:nvSpPr>
              <p:spPr>
                <a:xfrm>
                  <a:off x="5003640" y="4686480"/>
                  <a:ext cx="559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Object 7"/>
                <p:cNvSpPr txBox="1"/>
                <p:nvPr/>
              </p:nvSpPr>
              <p:spPr>
                <a:xfrm>
                  <a:off x="5137200" y="2610000"/>
                  <a:ext cx="622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Object 9"/>
                <p:cNvSpPr txBox="1"/>
                <p:nvPr/>
              </p:nvSpPr>
              <p:spPr>
                <a:xfrm>
                  <a:off x="7397640" y="4724280"/>
                  <a:ext cx="11559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Line 10"/>
            <p:cNvSpPr/>
            <p:nvPr/>
          </p:nvSpPr>
          <p:spPr>
            <a:xfrm flipH="1">
              <a:off x="7315200" y="4114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 flipH="1">
              <a:off x="4952880" y="4114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4952880" y="2971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2514600" y="2895480"/>
              <a:ext cx="53352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 flipH="1">
              <a:off x="152280" y="2971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7" name="Line 15"/>
            <p:cNvSpPr/>
            <p:nvPr/>
          </p:nvSpPr>
          <p:spPr>
            <a:xfrm flipH="1">
              <a:off x="1523880" y="327672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16"/>
                <p:cNvSpPr txBox="1"/>
                <p:nvPr/>
              </p:nvSpPr>
              <p:spPr>
                <a:xfrm>
                  <a:off x="1987560" y="3429000"/>
                  <a:ext cx="254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17"/>
                <p:cNvSpPr txBox="1"/>
                <p:nvPr/>
              </p:nvSpPr>
              <p:spPr>
                <a:xfrm>
                  <a:off x="6324480" y="2438280"/>
                  <a:ext cx="6224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Object 18"/>
                <p:cNvSpPr txBox="1"/>
                <p:nvPr/>
              </p:nvSpPr>
              <p:spPr>
                <a:xfrm>
                  <a:off x="7981920" y="2438280"/>
                  <a:ext cx="11556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Line 19"/>
            <p:cNvSpPr/>
            <p:nvPr/>
          </p:nvSpPr>
          <p:spPr>
            <a:xfrm flipH="1">
              <a:off x="7010280" y="236232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 flipH="1">
              <a:off x="7391160" y="2666880"/>
              <a:ext cx="53316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38"/>
                <p:cNvSpPr txBox="1"/>
                <p:nvPr/>
              </p:nvSpPr>
              <p:spPr>
                <a:xfrm>
                  <a:off x="6832440" y="4572000"/>
                  <a:ext cx="254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39"/>
            <p:cNvSpPr/>
            <p:nvPr/>
          </p:nvSpPr>
          <p:spPr>
            <a:xfrm flipH="1">
              <a:off x="6400800" y="4495680"/>
              <a:ext cx="53352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446-A713-4EA6-BC56-766AD431F65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A111-1A3D-4352-BA2B-626C77E7D1A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4519440" y="527040"/>
          <a:ext cx="363384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9440" y="527040"/>
                    <a:ext cx="3633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5"/>
          <p:cNvGraphicFramePr/>
          <p:nvPr/>
        </p:nvGraphicFramePr>
        <p:xfrm>
          <a:off x="762120" y="2666880"/>
          <a:ext cx="777240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666880"/>
                    <a:ext cx="77724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762120" y="4419720"/>
                <a:ext cx="723888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119C-8A3D-4969-9C21-E83BA399C65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F12-98DB-42CD-83D6-E8B74BFAD8D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4267080" y="152280"/>
                <a:ext cx="38102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985680" y="2286000"/>
                <a:ext cx="73202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d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2" name="Object 6"/>
          <p:cNvGraphicFramePr/>
          <p:nvPr/>
        </p:nvGraphicFramePr>
        <p:xfrm>
          <a:off x="1211400" y="4114800"/>
          <a:ext cx="66006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1400" y="4114800"/>
                    <a:ext cx="66006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7"/>
          <p:cNvGraphicFramePr/>
          <p:nvPr/>
        </p:nvGraphicFramePr>
        <p:xfrm>
          <a:off x="1828800" y="5425920"/>
          <a:ext cx="518148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425920"/>
                    <a:ext cx="51814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3A05-3CBE-4729-B4D6-0DC414B08BF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868-4CE2-493B-9DA8-6138F15D370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ye bye to D-T Systems for a whi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NIT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inuous-time signals and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earity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vari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tegral: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mpul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5131-81A1-4DCF-A93C-081F092EC68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DCF-CCF4-4622-911B-BA77DD65101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-T Filtering of C-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413480" y="2471760"/>
            <a:ext cx="741600" cy="1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952560" y="1752480"/>
            <a:ext cx="7683480" cy="1219320"/>
            <a:chOff x="952560" y="1752480"/>
            <a:chExt cx="7683480" cy="1219320"/>
          </a:xfrm>
        </p:grpSpPr>
        <p:sp>
          <p:nvSpPr>
            <p:cNvPr id="105" name="Rectangle 5"/>
            <p:cNvSpPr/>
            <p:nvPr/>
          </p:nvSpPr>
          <p:spPr>
            <a:xfrm>
              <a:off x="2111400" y="1996920"/>
              <a:ext cx="135720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6058080" y="1996920"/>
              <a:ext cx="135720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-to-C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4084560" y="1996920"/>
              <a:ext cx="135756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TI System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1371600" y="2395440"/>
              <a:ext cx="74124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3467160" y="2395440"/>
              <a:ext cx="6174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5440320" y="2395440"/>
              <a:ext cx="61776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1927080" y="1752480"/>
              <a:ext cx="5616720" cy="121932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12"/>
                <p:cNvSpPr txBox="1"/>
                <p:nvPr/>
              </p:nvSpPr>
              <p:spPr>
                <a:xfrm>
                  <a:off x="952560" y="1981080"/>
                  <a:ext cx="571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13"/>
                <p:cNvSpPr txBox="1"/>
                <p:nvPr/>
              </p:nvSpPr>
              <p:spPr>
                <a:xfrm>
                  <a:off x="8077320" y="198108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" name="Group 30"/>
          <p:cNvGrpSpPr/>
          <p:nvPr/>
        </p:nvGrpSpPr>
        <p:grpSpPr>
          <a:xfrm>
            <a:off x="1600200" y="4648320"/>
            <a:ext cx="5435640" cy="914400"/>
            <a:chOff x="1600200" y="4648320"/>
            <a:chExt cx="5435640" cy="914400"/>
          </a:xfrm>
        </p:grpSpPr>
        <p:sp>
          <p:nvSpPr>
            <p:cNvPr id="115" name="Line 19"/>
            <p:cNvSpPr/>
            <p:nvPr/>
          </p:nvSpPr>
          <p:spPr>
            <a:xfrm>
              <a:off x="6019920" y="5105520"/>
              <a:ext cx="74124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2743200" y="4648320"/>
              <a:ext cx="3276720" cy="914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LTI ANALOG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System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Line 24"/>
            <p:cNvSpPr/>
            <p:nvPr/>
          </p:nvSpPr>
          <p:spPr>
            <a:xfrm>
              <a:off x="1981080" y="5105520"/>
              <a:ext cx="74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28"/>
                <p:cNvSpPr txBox="1"/>
                <p:nvPr/>
              </p:nvSpPr>
              <p:spPr>
                <a:xfrm>
                  <a:off x="1600200" y="4648320"/>
                  <a:ext cx="571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29"/>
                <p:cNvSpPr txBox="1"/>
                <p:nvPr/>
              </p:nvSpPr>
              <p:spPr>
                <a:xfrm>
                  <a:off x="6477120" y="4648320"/>
                  <a:ext cx="5587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Group 33"/>
          <p:cNvGrpSpPr/>
          <p:nvPr/>
        </p:nvGrpSpPr>
        <p:grpSpPr>
          <a:xfrm>
            <a:off x="2514600" y="2590560"/>
            <a:ext cx="5105520" cy="2133720"/>
            <a:chOff x="2514600" y="2590560"/>
            <a:chExt cx="5105520" cy="2133720"/>
          </a:xfrm>
        </p:grpSpPr>
        <p:graphicFrame>
          <p:nvGraphicFramePr>
            <p:cNvPr id="121" name="Object 14"/>
            <p:cNvGraphicFramePr/>
            <p:nvPr/>
          </p:nvGraphicFramePr>
          <p:xfrm>
            <a:off x="2514600" y="3352680"/>
            <a:ext cx="5105520" cy="71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3352680"/>
                      <a:ext cx="5105520" cy="71136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3" name="Line 31"/>
            <p:cNvSpPr/>
            <p:nvPr/>
          </p:nvSpPr>
          <p:spPr>
            <a:xfrm flipH="1">
              <a:off x="5486400" y="3886200"/>
              <a:ext cx="45720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 flipV="1">
              <a:off x="2971800" y="2590560"/>
              <a:ext cx="1295280" cy="990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59FF-C63B-4C6A-BE55-D528AC1AF92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E56E-131C-46F2-BBA5-4D0BC9942AC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ALOG SIGNALS   x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NUSOIDS: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t = time in sec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RIODIC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SIDED, e.g., for t&gt;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STEP:   u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QUARE PUL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SIGNAL:   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Rectangle 1028"/>
          <p:cNvSpPr/>
          <p:nvPr/>
        </p:nvSpPr>
        <p:spPr>
          <a:xfrm>
            <a:off x="431640" y="5695920"/>
            <a:ext cx="8178840" cy="704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ISCRETE-TIME: x[n] is list of number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9DFF-9F9C-4375-88A3-C4C07A2942E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6810-5EE5-40AD-9C3C-74C46EC8947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1"/>
          <a:stretch/>
        </p:blipFill>
        <p:spPr>
          <a:xfrm>
            <a:off x="260280" y="2425680"/>
            <a:ext cx="8350200" cy="3213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PERIODI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6" name="Object 7"/>
          <p:cNvGraphicFramePr/>
          <p:nvPr/>
        </p:nvGraphicFramePr>
        <p:xfrm>
          <a:off x="152280" y="1673280"/>
          <a:ext cx="312444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3280"/>
                    <a:ext cx="3124440" cy="441360"/>
                  </a:xfrm>
                  <a:prstGeom prst="rect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Text Box 11"/>
          <p:cNvSpPr/>
          <p:nvPr/>
        </p:nvSpPr>
        <p:spPr>
          <a:xfrm>
            <a:off x="6040800" y="1846440"/>
            <a:ext cx="25473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inusoidal signal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567760" y="5594400"/>
            <a:ext cx="21117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quare Wave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97080" y="5715000"/>
            <a:ext cx="31251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INFINITE DUR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2B7F-5792-464B-B24F-5A22C93DF2E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65AC-0EAC-48C2-B517-834B9D6C29A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4" name="Picture 1034" descr=""/>
          <p:cNvPicPr/>
          <p:nvPr/>
        </p:nvPicPr>
        <p:blipFill>
          <a:blip r:embed="rId1"/>
          <a:stretch/>
        </p:blipFill>
        <p:spPr>
          <a:xfrm>
            <a:off x="1752480" y="2068560"/>
            <a:ext cx="7099560" cy="4560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ONE-SIDE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9"/>
              <p:cNvSpPr txBox="1"/>
              <p:nvPr/>
            </p:nvSpPr>
            <p:spPr>
              <a:xfrm>
                <a:off x="228600" y="5207040"/>
                <a:ext cx="1866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1030"/>
          <p:cNvSpPr/>
          <p:nvPr/>
        </p:nvSpPr>
        <p:spPr>
          <a:xfrm>
            <a:off x="5728320" y="1752480"/>
            <a:ext cx="211464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Unit step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31"/>
              <p:cNvSpPr txBox="1"/>
              <p:nvPr/>
            </p:nvSpPr>
            <p:spPr>
              <a:xfrm>
                <a:off x="228600" y="1689120"/>
                <a:ext cx="1905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Text Box 1032"/>
          <p:cNvSpPr/>
          <p:nvPr/>
        </p:nvSpPr>
        <p:spPr>
          <a:xfrm>
            <a:off x="497520" y="3505320"/>
            <a:ext cx="146844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One-Sid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inusoi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Text Box 1033"/>
          <p:cNvSpPr/>
          <p:nvPr/>
        </p:nvSpPr>
        <p:spPr>
          <a:xfrm>
            <a:off x="6195240" y="5092560"/>
            <a:ext cx="262980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uddenly applied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xponenti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E155-FE42-499D-AFC1-58023019070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F978-7C61-454F-94E9-7A75CF275CF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4" name="Picture 1034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696080" cy="333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128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FINITE LENGTH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6" name="Text Box 1030"/>
          <p:cNvSpPr/>
          <p:nvPr/>
        </p:nvSpPr>
        <p:spPr>
          <a:xfrm>
            <a:off x="6203160" y="2362320"/>
            <a:ext cx="262224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quare Pulse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7" name="Object 1031"/>
          <p:cNvGraphicFramePr/>
          <p:nvPr/>
        </p:nvGraphicFramePr>
        <p:xfrm>
          <a:off x="1447920" y="1649520"/>
          <a:ext cx="4597200" cy="56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10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49520"/>
                    <a:ext cx="4597200" cy="560160"/>
                  </a:xfrm>
                  <a:prstGeom prst="rect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Text Box 1033"/>
          <p:cNvSpPr/>
          <p:nvPr/>
        </p:nvSpPr>
        <p:spPr>
          <a:xfrm>
            <a:off x="5955840" y="5397480"/>
            <a:ext cx="254736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inusoid multipli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y a square pul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35C4-E62C-48D4-B53B-0A8FE8BC718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0315-6A5D-4C42-ADC5-BD6765FA564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at is an Impulse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ignal that is “concentrated” at one poin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7394400" cy="256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5181480" y="2743200"/>
                <a:ext cx="3581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457200" y="3124080"/>
                <a:ext cx="25909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1-02T00:50:16Z</cp:lastPrinted>
  <dcterms:modified xsi:type="dcterms:W3CDTF">2013-05-16T00:49:49Z</dcterms:modified>
  <cp:revision>412</cp:revision>
  <dc:subject/>
  <dc:title>SPFirst Lecture #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