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55.png" ContentType="image/png"/>
  <Override PartName="/ppt/media/image12.wmf" ContentType="image/x-wmf"/>
  <Override PartName="/ppt/media/image54.wmf" ContentType="image/x-wmf"/>
  <Override PartName="/ppt/media/image51.wmf" ContentType="image/x-wmf"/>
  <Override PartName="/ppt/media/image50.wmf" ContentType="image/x-wmf"/>
  <Override PartName="/ppt/media/image28.png" ContentType="image/png"/>
  <Override PartName="/ppt/media/image52.wmf" ContentType="image/x-wmf"/>
  <Override PartName="/ppt/media/image49.png" ContentType="image/png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8.png" ContentType="image/png"/>
  <Override PartName="/ppt/media/image71.png" ContentType="image/png"/>
  <Override PartName="/ppt/media/image29.wmf" ContentType="image/x-wmf"/>
  <Override PartName="/ppt/media/image68.png" ContentType="image/png"/>
  <Override PartName="/ppt/media/image31.png" ContentType="image/png"/>
  <Override PartName="/ppt/media/image1.png" ContentType="image/png"/>
  <Override PartName="/ppt/media/image17.png" ContentType="image/png"/>
  <Override PartName="/ppt/media/image20.wmf" ContentType="image/x-wmf"/>
  <Override PartName="/ppt/media/image56.wmf" ContentType="image/x-wmf"/>
  <Override PartName="/ppt/media/image19.wmf" ContentType="image/x-wmf"/>
  <Override PartName="/ppt/media/image21.wmf" ContentType="image/x-wmf"/>
  <Override PartName="/ppt/media/image60.png" ContentType="image/png"/>
  <Override PartName="/ppt/media/image24.wmf" ContentType="image/x-wmf"/>
  <Override PartName="/ppt/media/image23.png" ContentType="image/png"/>
  <Override PartName="/ppt/media/image63.wmf" ContentType="image/x-wmf"/>
  <Override PartName="/ppt/media/image22.wmf" ContentType="image/x-wmf"/>
  <Override PartName="/ppt/media/image61.png" ContentType="image/png"/>
  <Override PartName="/ppt/media/image74.png" ContentType="image/png"/>
  <Override PartName="/ppt/media/image5.wmf" ContentType="image/x-wmf"/>
  <Override PartName="/ppt/media/image35.wmf" ContentType="image/x-wmf"/>
  <Override PartName="/ppt/media/image62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67.wmf" ContentType="image/x-wmf"/>
  <Override PartName="/ppt/media/image2.wmf" ContentType="image/x-wmf"/>
  <Override PartName="/ppt/media/image57.png" ContentType="image/png"/>
  <Override PartName="/ppt/media/image14.wmf" ContentType="image/x-wmf"/>
  <Override PartName="/ppt/media/image66.png" ContentType="image/png"/>
  <Override PartName="/ppt/media/image27.wmf" ContentType="image/x-wmf"/>
  <Override PartName="/ppt/media/image65.wmf" ContentType="image/x-wmf"/>
  <Override PartName="/ppt/media/image25.png" ContentType="image/png"/>
  <Override PartName="/ppt/media/image64.wmf" ContentType="image/x-wmf"/>
  <Override PartName="/ppt/media/image53.png" ContentType="image/png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58.png" ContentType="image/png"/>
  <Override PartName="/ppt/media/image3.wmf" ContentType="image/x-wmf"/>
  <Override PartName="/ppt/media/image15.wmf" ContentType="image/x-wmf"/>
  <Override PartName="/ppt/media/image40.wmf" ContentType="image/x-wmf"/>
  <Override PartName="/ppt/media/image26.png" ContentType="image/png"/>
  <Override PartName="/ppt/media/image11.wmf" ContentType="image/x-wmf"/>
  <Override PartName="/ppt/media/image48.wmf" ContentType="image/x-wmf"/>
  <Override PartName="/ppt/media/image7.png" ContentType="image/png"/>
  <Override PartName="/ppt/media/image41.wmf" ContentType="image/x-wmf"/>
  <Override PartName="/ppt/media/image16.png" ContentType="image/png"/>
  <Override PartName="/ppt/media/image4.png" ContentType="image/png"/>
  <Override PartName="/ppt/media/image34.png" ContentType="image/png"/>
  <Override PartName="/ppt/media/image9.wmf" ContentType="image/x-wmf"/>
  <Override PartName="/ppt/media/image39.wmf" ContentType="image/x-wmf"/>
  <Override PartName="/ppt/media/image13.wmf" ContentType="image/x-wmf"/>
  <Override PartName="/ppt/media/image30.wmf" ContentType="image/x-wmf"/>
  <Override PartName="/ppt/media/image73.png" ContentType="image/png"/>
  <Override PartName="/ppt/media/image33.png" ContentType="image/png"/>
  <Override PartName="/ppt/media/image37.wmf" ContentType="image/x-wmf"/>
  <Override PartName="/ppt/media/image3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9230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94D2-69E4-4954-8B0E-7A312FCBF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84A4-448D-4E9C-B047-14192893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E514-BA38-4BDA-A1E0-EAC3ACAF3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E30B-B924-4A5B-89EF-A41D1B7D7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C83E-2826-4550-AF1C-4521E8D9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AA56-99F8-4E6F-8FAF-C262C0C9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AF59-4258-4DDA-9C57-0170D101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8FA6-B6CD-4D95-AC35-C5892E62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0C31-9085-4C5A-B07E-E96E6BDE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9C03-9960-4E53-B6C1-901A0E9E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8901-3FBA-4C3B-A699-2E2CF694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6255-4236-4529-BCA5-62EA4F8D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1C58-2D11-486D-B7DD-213330BD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DA72-1DAD-4ED7-AE7E-5E368EBB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1EC1-5F08-428D-A245-8B0114CE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55AB-EB17-4C46-ABBC-7949EAC1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E782-77DB-4223-A8C0-280131A8D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8AAA-9011-4618-AD9F-B75A3EE0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F292-21EB-4357-8022-C909E5CC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2550-E568-41C2-95E2-4B7F1EBA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72D2-5259-4708-8669-81158BCF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88C6-52CD-428B-B6D4-9E4C5EF8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8E3F-C527-4107-8099-8019321B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95F7-84E4-4ECB-BF93-F6661C0E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1D11-01F6-4935-84B7-730F67AC2D7A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D465-E000-4134-8B9A-760FA05194E4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271E-7BC8-43D7-9877-6950202E9EA7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0402-36AB-4745-A165-CED7C7DF5D93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5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28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1.0/" TargetMode="External"/><Relationship Id="rId2" Type="http://schemas.openxmlformats.org/officeDocument/2006/relationships/hyperlink" Target="http://creativecommons.org/licenses/by-nc-sa/1.0/legalcode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2.wmf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7.wmf"/><Relationship Id="rId4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Processing Firs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360" y="3428640"/>
            <a:ext cx="65530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18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3-Domains for II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C531-CC2B-4139-9247-76413F3ECD0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1C3EDC2-E4A2-44BB-A798-B70638A03D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44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2nd ORDER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38080" y="5334120"/>
          <a:ext cx="5565960" cy="12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5334120"/>
                    <a:ext cx="5565960" cy="1287360"/>
                  </a:xfrm>
                  <a:prstGeom prst="rect">
                    <a:avLst/>
                  </a:prstGeom>
                  <a:ln w="5724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98360" y="2438280"/>
          <a:ext cx="7962840" cy="120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360" y="2438280"/>
                    <a:ext cx="7962840" cy="1201680"/>
                  </a:xfrm>
                  <a:prstGeom prst="rect">
                    <a:avLst/>
                  </a:prstGeom>
                  <a:ln w="5724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219240" y="3809880"/>
          <a:ext cx="8091360" cy="137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9240" y="3809880"/>
                    <a:ext cx="8091360" cy="1373400"/>
                  </a:xfrm>
                  <a:prstGeom prst="rect">
                    <a:avLst/>
                  </a:prstGeom>
                  <a:ln w="5724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52280" y="1614600"/>
                <a:ext cx="88394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jπ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jπ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A46C-B855-41B5-940D-061283D8C56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D4A04A-09EF-4EF9-95F6-3761ACCE1C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h[n]: Decays &amp; Oscillat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648320" y="5486400"/>
          <a:ext cx="3352680" cy="10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5486400"/>
                    <a:ext cx="3352680" cy="106056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3809880" y="4572000"/>
          <a:ext cx="5181840" cy="68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4572000"/>
                    <a:ext cx="5181840" cy="687240"/>
                  </a:xfrm>
                  <a:prstGeom prst="rect">
                    <a:avLst/>
                  </a:prstGeom>
                  <a:ln w="5724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1219320" y="1227240"/>
            <a:ext cx="7772400" cy="31161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0" y="4114800"/>
            <a:ext cx="3479760" cy="26686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302960" y="1523880"/>
            <a:ext cx="161784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RIOD”=6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2493-E547-4FD4-88AE-D29178FE49B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56FB17-B952-43E6-8FCB-D21187137F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440" y="304920"/>
            <a:ext cx="8508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2nd ORDER Z-transform PAI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52280" y="1752480"/>
          <a:ext cx="4326120" cy="6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52480"/>
                    <a:ext cx="4326120" cy="687600"/>
                  </a:xfrm>
                  <a:prstGeom prst="rect">
                    <a:avLst/>
                  </a:prstGeom>
                  <a:ln w="5724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2895480" y="2514600"/>
          <a:ext cx="6037560" cy="13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2514600"/>
                    <a:ext cx="6037560" cy="1373040"/>
                  </a:xfrm>
                  <a:prstGeom prst="rect">
                    <a:avLst/>
                  </a:prstGeom>
                  <a:ln w="5724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54" name=""/>
          <p:cNvGrpSpPr/>
          <p:nvPr/>
        </p:nvGrpSpPr>
        <p:grpSpPr>
          <a:xfrm>
            <a:off x="125280" y="4191120"/>
            <a:ext cx="8796600" cy="2135160"/>
            <a:chOff x="125280" y="4191120"/>
            <a:chExt cx="8796600" cy="2135160"/>
          </a:xfrm>
        </p:grpSpPr>
        <p:graphicFrame>
          <p:nvGraphicFramePr>
            <p:cNvPr id="155" name=""/>
            <p:cNvGraphicFramePr/>
            <p:nvPr/>
          </p:nvGraphicFramePr>
          <p:xfrm>
            <a:off x="125280" y="4191120"/>
            <a:ext cx="5437440" cy="687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5280" y="4191120"/>
                      <a:ext cx="5437440" cy="687240"/>
                    </a:xfrm>
                    <a:prstGeom prst="rect">
                      <a:avLst/>
                    </a:prstGeom>
                    <a:ln w="5724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57" name=""/>
            <p:cNvGraphicFramePr/>
            <p:nvPr/>
          </p:nvGraphicFramePr>
          <p:xfrm>
            <a:off x="2286000" y="4952880"/>
            <a:ext cx="6635880" cy="1373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86000" y="4952880"/>
                      <a:ext cx="6635880" cy="1373400"/>
                    </a:xfrm>
                    <a:prstGeom prst="rect">
                      <a:avLst/>
                    </a:prstGeom>
                    <a:ln w="5724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59" name=""/>
          <p:cNvSpPr/>
          <p:nvPr/>
        </p:nvSpPr>
        <p:spPr>
          <a:xfrm>
            <a:off x="6111000" y="1371600"/>
            <a:ext cx="2696760" cy="70380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GENERAL ENTRY fo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z-Transform TABL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2FA0-FA85-4C52-9595-98071622D39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49BEF4-043B-43D5-8DAC-A522E82CCD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2nd ORDER EX: n-Domai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666880" y="1752480"/>
          <a:ext cx="3353040" cy="10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752480"/>
                    <a:ext cx="3353040" cy="106056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308880" y="4038480"/>
            <a:ext cx="8288280" cy="222696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aa = [ 1, -0.9, 0.81 ];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bb = [ 1, -0.45 ];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nn = -2:19;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hh = filter( bb, aa, (nn==0) );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HH = freqz( bb, aa, [-pi,pi/100:pi] );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28600" y="3200400"/>
          <a:ext cx="8686800" cy="48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200400"/>
                    <a:ext cx="8686800" cy="48888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7726-3D89-421B-866E-5C9CD6577DA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C751D9-F642-4F74-80D8-A9B60335A1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mplex POLE-ZERO PLO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6320" y="1066680"/>
            <a:ext cx="5930640" cy="463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"/>
          <p:cNvGraphicFramePr/>
          <p:nvPr/>
        </p:nvGraphicFramePr>
        <p:xfrm>
          <a:off x="6172200" y="2286000"/>
          <a:ext cx="2825640" cy="1266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2286000"/>
                    <a:ext cx="2825640" cy="126684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4724280" y="4829040"/>
            <a:ext cx="4114800" cy="189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14BB-DFFB-4D6A-A17F-AF09189FACC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7710E8-165B-45A4-A34A-9B1348865405}" type="datetime1">
              <a:rPr lang="en-US"/>
              <a:t>07/30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UNIT CIRC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PPING BETWEE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638680" y="2514600"/>
                <a:ext cx="25146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724280" y="4186080"/>
                <a:ext cx="4191120" cy="19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«</m:t>
                          </m:r>
                        </m:e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w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z</m:t>
                          </m:r>
                          <m:r>
                            <m:rPr>
                              <m:lit/>
                              <m:nor/>
                            </m:rPr>
                            <m:t xml:space="preserve">=-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«</m:t>
                          </m:r>
                        </m:e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w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t xml:space="preserve">±</m:t>
                          </m:r>
                          <m:r>
                            <m:t xml:space="preserve">p</m:t>
                          </m:r>
                        </m:e>
                      </m:mr>
                      <m:m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±</m:t>
                          </m:r>
                          <m:r>
                            <m:t xml:space="preserve">j</m:t>
                          </m:r>
                        </m:e>
                        <m:e>
                          <m:r>
                            <m:t xml:space="preserve">«</m:t>
                          </m:r>
                        </m:e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w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t xml:space="preserve">±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p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52280" y="2403360"/>
            <a:ext cx="4419720" cy="39974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flipH="1" flipV="1">
            <a:off x="3962520" y="4343040"/>
            <a:ext cx="914400" cy="1522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1371240" y="4343400"/>
            <a:ext cx="3429000" cy="8380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2666520" y="5638320"/>
            <a:ext cx="2133720" cy="228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040360" y="1600200"/>
                <a:ext cx="17413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and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AB15-37D6-4394-846E-55788E3A3A4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6457BE-E1FA-42D7-A8AC-63D9B990DB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609120"/>
            <a:ext cx="8508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 RESPONSE</a:t>
            </a:r>
            <a:br>
              <a:rPr sz="4000"/>
            </a:b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om POLE-ZERO PLO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652920" y="1884240"/>
          <a:ext cx="5186160" cy="13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2920" y="1884240"/>
                    <a:ext cx="5186160" cy="1309680"/>
                  </a:xfrm>
                  <a:prstGeom prst="rect">
                    <a:avLst/>
                  </a:prstGeom>
                  <a:ln w="7632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1371600" y="3733920"/>
            <a:ext cx="6553080" cy="3017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304920" y="1460520"/>
            <a:ext cx="3200400" cy="250200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1981080" y="1905120"/>
            <a:ext cx="4419720" cy="4267080"/>
            <a:chOff x="1981080" y="1905120"/>
            <a:chExt cx="4419720" cy="4267080"/>
          </a:xfrm>
        </p:grpSpPr>
        <p:sp>
          <p:nvSpPr>
            <p:cNvPr id="186" name=""/>
            <p:cNvSpPr/>
            <p:nvPr/>
          </p:nvSpPr>
          <p:spPr>
            <a:xfrm>
              <a:off x="6172200" y="4648320"/>
              <a:ext cx="228600" cy="1523880"/>
            </a:xfrm>
            <a:prstGeom prst="upArrow">
              <a:avLst>
                <a:gd name="adj1" fmla="val 50000"/>
                <a:gd name="adj2" fmla="val 166654"/>
              </a:avLst>
            </a:prstGeom>
            <a:solidFill>
              <a:srgbClr val="ff66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81080" y="1905120"/>
              <a:ext cx="228600" cy="685800"/>
            </a:xfrm>
            <a:prstGeom prst="upArrow">
              <a:avLst>
                <a:gd name="adj1" fmla="val 50000"/>
                <a:gd name="adj2" fmla="val 75000"/>
              </a:avLst>
            </a:prstGeom>
            <a:solidFill>
              <a:srgbClr val="ff66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4B46-9DA7-46FF-AE98-35C915F3E47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9FE02E-28C6-408C-8C32-7CD5BF1A56B0}" type="datetime1">
              <a:rPr lang="en-US"/>
              <a:t>07/30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h[n]: Decays &amp; Oscillat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648320" y="5486400"/>
          <a:ext cx="3352680" cy="10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5486400"/>
                    <a:ext cx="3352680" cy="106056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3809880" y="4572000"/>
          <a:ext cx="5181840" cy="68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4572000"/>
                    <a:ext cx="5181840" cy="687240"/>
                  </a:xfrm>
                  <a:prstGeom prst="rect">
                    <a:avLst/>
                  </a:prstGeom>
                  <a:ln w="5724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1219320" y="1227240"/>
            <a:ext cx="7772400" cy="31161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0" y="4114800"/>
            <a:ext cx="3479760" cy="26686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7302960" y="1523880"/>
            <a:ext cx="161784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RIOD”=6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A153-ADB1-48C3-A544-D9921D20FF1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3AE642-030A-4F93-8440-4A83C21C3C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mplex POLE-ZERO PLO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343400" y="4724280"/>
          <a:ext cx="4003560" cy="12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4724280"/>
                    <a:ext cx="4003560" cy="126684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2895480" y="1463760"/>
            <a:ext cx="6032520" cy="28112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152280" y="3962520"/>
            <a:ext cx="3479760" cy="26683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666880" y="1981080"/>
            <a:ext cx="4191120" cy="2667240"/>
          </a:xfrm>
          <a:custGeom>
            <a:avLst/>
            <a:gdLst/>
            <a:ahLst/>
            <a:rect l="l" t="t" r="r" b="b"/>
            <a:pathLst>
              <a:path w="2496" h="1712">
                <a:moveTo>
                  <a:pt x="0" y="1536"/>
                </a:moveTo>
                <a:cubicBezTo>
                  <a:pt x="136" y="1624"/>
                  <a:pt x="272" y="1712"/>
                  <a:pt x="576" y="1536"/>
                </a:cubicBezTo>
                <a:cubicBezTo>
                  <a:pt x="880" y="1360"/>
                  <a:pt x="1504" y="735"/>
                  <a:pt x="1824" y="480"/>
                </a:cubicBezTo>
                <a:cubicBezTo>
                  <a:pt x="2143" y="224"/>
                  <a:pt x="2319" y="112"/>
                  <a:pt x="2496" y="0"/>
                </a:cubicBez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6811-F7FB-4C22-AD72-C9D65215112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79103A-70B7-4730-B149-CF8338AA85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h[n]: Decays &amp; Oscillat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267080" y="5410080"/>
          <a:ext cx="4376880" cy="10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5410080"/>
                    <a:ext cx="4376880" cy="106056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3629160" y="4495680"/>
          <a:ext cx="5438520" cy="68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29160" y="4495680"/>
                    <a:ext cx="5438520" cy="687600"/>
                  </a:xfrm>
                  <a:prstGeom prst="rect">
                    <a:avLst/>
                  </a:prstGeom>
                  <a:ln w="5724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1752480" y="1371600"/>
            <a:ext cx="7162920" cy="28591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38160" y="4081320"/>
            <a:ext cx="3390840" cy="2624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7301160" y="1523880"/>
            <a:ext cx="175968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RIOD”=1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909F-3A82-4095-B0BD-49C045D5CF8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7FAF24-8F37-45C8-9706-B29370ACBB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cense Info for SPFirst Slid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s work released under a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Creative Commons License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with the following term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trib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ust give the original authors credit.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-Commerci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ay not use the work for commercial purposes—unless they get the licensor's permission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e Alik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distribute derivative works only under a license identical to the one that governs the licensor's work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Full Text of the Licens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This (hidden) page should be kept with the present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79BD-CA3F-4CFE-8B04-B61E1310C2E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C6F448-7B50-4D43-9965-CC4FA17BAE96}" type="datetime1">
              <a:rPr lang="en-US"/>
              <a:t>07/30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mplex POLE-ZERO PLO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965320" y="1447920"/>
            <a:ext cx="6178680" cy="28368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4145040"/>
            <a:ext cx="3505320" cy="2712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3962520" y="4648320"/>
          <a:ext cx="4876560" cy="118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4648320"/>
                    <a:ext cx="4876560" cy="118116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2895480" y="1981080"/>
            <a:ext cx="3733920" cy="3200400"/>
          </a:xfrm>
          <a:custGeom>
            <a:avLst/>
            <a:gdLst/>
            <a:ahLst/>
            <a:rect l="l" t="t" r="r" b="b"/>
            <a:pathLst>
              <a:path w="2496" h="1712">
                <a:moveTo>
                  <a:pt x="0" y="1536"/>
                </a:moveTo>
                <a:cubicBezTo>
                  <a:pt x="136" y="1624"/>
                  <a:pt x="272" y="1712"/>
                  <a:pt x="576" y="1536"/>
                </a:cubicBezTo>
                <a:cubicBezTo>
                  <a:pt x="880" y="1360"/>
                  <a:pt x="1504" y="735"/>
                  <a:pt x="1824" y="480"/>
                </a:cubicBezTo>
                <a:cubicBezTo>
                  <a:pt x="2143" y="224"/>
                  <a:pt x="2319" y="112"/>
                  <a:pt x="2496" y="0"/>
                </a:cubicBez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5F2F-8E6F-4F01-9E67-4AF7B072A01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4EE3B8-D1F0-4ABC-92EA-1E565BD4D5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096920" y="1600200"/>
            <a:ext cx="6948360" cy="47242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3 DOMAINS MOVIE: II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74520" y="1447920"/>
            <a:ext cx="184644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LE MOV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0120" y="4648320"/>
            <a:ext cx="66240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[n]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128080" y="4191120"/>
            <a:ext cx="71100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(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054640" y="2209680"/>
            <a:ext cx="66384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(z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990720" y="1905120"/>
            <a:ext cx="2438280" cy="304560"/>
          </a:xfrm>
          <a:custGeom>
            <a:avLst/>
            <a:gdLst/>
            <a:ahLst/>
            <a:rect l="l" t="t" r="r" b="b"/>
            <a:pathLst>
              <a:path w="1056" h="2208">
                <a:moveTo>
                  <a:pt x="192" y="2208"/>
                </a:moveTo>
                <a:cubicBezTo>
                  <a:pt x="96" y="2032"/>
                  <a:pt x="0" y="1856"/>
                  <a:pt x="0" y="1584"/>
                </a:cubicBezTo>
                <a:cubicBezTo>
                  <a:pt x="0" y="1312"/>
                  <a:pt x="16" y="840"/>
                  <a:pt x="192" y="576"/>
                </a:cubicBezTo>
                <a:cubicBezTo>
                  <a:pt x="368" y="312"/>
                  <a:pt x="712" y="156"/>
                  <a:pt x="1056" y="0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6DA6-D9CF-4786-A56A-410CA62B1B3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975AB-7663-4A8C-8690-8F187B432E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HREE INPU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d the output, y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e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809880" y="1752480"/>
          <a:ext cx="2971800" cy="9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752480"/>
                    <a:ext cx="2971800" cy="99216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3048120" y="2209680"/>
            <a:ext cx="7617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81680" y="2209680"/>
            <a:ext cx="7621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2209680" y="3890880"/>
            <a:ext cx="5334120" cy="243360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sp>
        <p:nvSpPr>
          <p:cNvPr id="230" name=""/>
          <p:cNvSpPr/>
          <p:nvPr/>
        </p:nvSpPr>
        <p:spPr>
          <a:xfrm>
            <a:off x="2189160" y="4495680"/>
            <a:ext cx="54100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07DE-69F0-4D17-B456-D643DEF0747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EC5337-7DE4-4CAE-B3A7-111B1BD19E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04920" y="5029200"/>
                <a:ext cx="825480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9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9</m:t>
                        </m:r>
                        <m:r>
                          <m:t xml:space="preserve">π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NUSOID ANSW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input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n y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252960" y="3276720"/>
          <a:ext cx="3781080" cy="60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3276720"/>
                    <a:ext cx="3781080" cy="601560"/>
                  </a:xfrm>
                  <a:prstGeom prst="rect">
                    <a:avLst/>
                  </a:prstGeom>
                  <a:ln w="5724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3176640" y="4191120"/>
          <a:ext cx="5154480" cy="60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6640" y="4191120"/>
                    <a:ext cx="5154480" cy="601560"/>
                  </a:xfrm>
                  <a:prstGeom prst="rect">
                    <a:avLst/>
                  </a:prstGeom>
                  <a:ln w="5724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 flipH="1" flipV="1">
            <a:off x="4876560" y="4648320"/>
            <a:ext cx="1600200" cy="8380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7924680" y="4800600"/>
            <a:ext cx="0" cy="5335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320" y="2438280"/>
            <a:ext cx="2286000" cy="3124440"/>
          </a:xfrm>
          <a:custGeom>
            <a:avLst/>
            <a:gdLst/>
            <a:ahLst/>
            <a:rect l="l" t="t" r="r" b="b"/>
            <a:pathLst>
              <a:path w="1440" h="1968">
                <a:moveTo>
                  <a:pt x="192" y="1968"/>
                </a:moveTo>
                <a:cubicBezTo>
                  <a:pt x="132" y="1884"/>
                  <a:pt x="72" y="1800"/>
                  <a:pt x="48" y="1632"/>
                </a:cubicBezTo>
                <a:cubicBezTo>
                  <a:pt x="24" y="1464"/>
                  <a:pt x="0" y="1175"/>
                  <a:pt x="48" y="960"/>
                </a:cubicBezTo>
                <a:cubicBezTo>
                  <a:pt x="95" y="744"/>
                  <a:pt x="104" y="495"/>
                  <a:pt x="336" y="336"/>
                </a:cubicBezTo>
                <a:cubicBezTo>
                  <a:pt x="567" y="176"/>
                  <a:pt x="1003" y="88"/>
                  <a:pt x="1440" y="0"/>
                </a:cubicBezTo>
              </a:path>
            </a:pathLst>
          </a:custGeom>
          <a:noFill/>
          <a:ln w="76320">
            <a:solidFill>
              <a:srgbClr val="3333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438280" y="1752480"/>
          <a:ext cx="320040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1752480"/>
                    <a:ext cx="3200400" cy="106848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C6DD-B46E-419C-8EEC-9DC95E8C500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48339-C77F-49DB-A316-3F4DD9C360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NUSOID Starting at n=0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input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n y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438280" y="1752480"/>
          <a:ext cx="3200400" cy="10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752480"/>
                    <a:ext cx="3200400" cy="106848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124080" y="3211560"/>
                <a:ext cx="46483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730600" y="4114800"/>
                <a:ext cx="627372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ℜ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]</m:t>
                            </m:r>
                            <m:r>
                              <m:t xml:space="preserve">∗</m:t>
                            </m:r>
                            <m:r>
                              <m:t xml:space="preserve">x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]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ℜ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]</m:t>
                            </m:r>
                            <m:r>
                              <m:t xml:space="preserve">∗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n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]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533520" y="5638680"/>
                <a:ext cx="68799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6FC5-DBD0-4642-B6B4-667DA8EC295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465675-2783-4813-A45D-0575F2149774}" type="datetime1">
              <a:rPr lang="en-US"/>
              <a:t>07/30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NUSOID Starting at n=0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39840" y="1720800"/>
                <a:ext cx="627516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ℜ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πn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52440" y="2562120"/>
                <a:ext cx="73436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sup>
                        </m:sSup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33520" y="3857760"/>
                <a:ext cx="577512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j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sup>
                                </m:sSup>
                              </m:den>
                            </m:f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8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sup>
                                </m:sSup>
                              </m:den>
                            </m:f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7010280" y="4048200"/>
                <a:ext cx="178272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 flipH="1" flipV="1">
            <a:off x="5638680" y="4190760"/>
            <a:ext cx="1371600" cy="15228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8184-E06E-4A15-929C-A8B993FCAB5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5AEF44-5000-457F-B13F-79F0DE650BE4}" type="datetime1">
              <a:rPr lang="en-US"/>
              <a:t>07/30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NUSOID Starting at n=0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33520" y="1600200"/>
                <a:ext cx="577512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j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sup>
                                </m:sSup>
                              </m:den>
                            </m:f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8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sup>
                                </m:sSup>
                              </m:den>
                            </m:f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7010280" y="1790640"/>
                <a:ext cx="17827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 flipH="1" flipV="1">
            <a:off x="5638680" y="1933200"/>
            <a:ext cx="1371600" cy="15228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355680" y="4267080"/>
                <a:ext cx="848340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ℜ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πn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414360" y="5140440"/>
                <a:ext cx="812016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1797840" y="5791320"/>
            <a:ext cx="140148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Transien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88800" y="5791320"/>
            <a:ext cx="174132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Steady-Stat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485D-F81E-498D-9A8C-A12A2CB1F82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945DD2-404F-47E3-A344-EF458DB19754}" type="datetime1">
              <a:rPr lang="en-US"/>
              <a:t>07/30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tep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145280" cy="10684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68400" y="3124080"/>
            <a:ext cx="9007200" cy="13924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685800" y="4724280"/>
            <a:ext cx="7837560" cy="5428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2405160" y="5291280"/>
            <a:ext cx="4470480" cy="10191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70920" y="2716200"/>
            <a:ext cx="299844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Partial Fraction Expansio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4FBE-77DA-4BFF-8451-B753C72DD45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08D99C-AC84-4380-9AF3-37CF4EACB5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tep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311560" y="1905120"/>
            <a:ext cx="4470120" cy="15364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1943280" y="3733920"/>
            <a:ext cx="5295600" cy="9856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2397240" y="4876920"/>
            <a:ext cx="4308480" cy="98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B36D-A17D-4266-B177-5EC1B630A7C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7BA948-00B1-4E1D-957E-65C34EF665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tabili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ec. &amp; suff. conditio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2984400" cy="13035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801720" y="3124080"/>
            <a:ext cx="7539120" cy="11908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458640" y="4724280"/>
            <a:ext cx="5081760" cy="13226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6023880" y="4921200"/>
            <a:ext cx="2812680" cy="947160"/>
          </a:xfrm>
          <a:prstGeom prst="rect">
            <a:avLst/>
          </a:prstGeom>
          <a:solidFill>
            <a:srgbClr val="ffcc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Pole must be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Inside unit circle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965C-5B82-4D4B-A82C-3E28D203DDC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75A5FD-157A-454E-9739-19DBECA9E5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ADING ASSIGNMEN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s Lectur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apter 8, al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ther Reading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citation: Ch. 8, al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OLES &amp; ZERO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xt Lecture: Chapter 9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B514-2C5F-43D6-875D-704C4CB932F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B7D2E2-887B-486D-95B3-BFC1D96E42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NUSOID starting at n=0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95600"/>
            <a:ext cx="84582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e’ll look at an example in MATLAB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s(0.2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ole at –0.8, so a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(–0.8) 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re are two components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RANSIEN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tart-up region just after n=0;   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(–0.8) </a:t>
            </a:r>
            <a:r>
              <a:rPr b="1" lang="en-US" sz="2400" spc="-1" strike="noStrike" baseline="30000">
                <a:solidFill>
                  <a:srgbClr val="ff66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EADY-STAT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ventually, y[n] looks sinusoidal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Magnitude &amp; Phase from Frequency Respons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F35A-E3B8-4668-B425-C46B549875E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FB08B0-E620-40B7-ACAF-FE6AC3A913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558720" y="30240"/>
            <a:ext cx="7747200" cy="682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3" name=""/>
          <p:cNvGraphicFramePr/>
          <p:nvPr/>
        </p:nvGraphicFramePr>
        <p:xfrm>
          <a:off x="7543800" y="4448160"/>
          <a:ext cx="1438200" cy="80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43800" y="4448160"/>
                    <a:ext cx="1438200" cy="80964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151920" y="1295280"/>
            <a:ext cx="187236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sine inpu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7238880" y="2529000"/>
          <a:ext cx="1143000" cy="50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238880" y="2529000"/>
                    <a:ext cx="1143000" cy="50940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0" y="1814400"/>
          <a:ext cx="2484360" cy="471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1814400"/>
                    <a:ext cx="2484360" cy="47160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7CAC-CB8A-4C64-8631-645A236C4621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62973E-B198-4901-8B1B-F425BE72BB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TABILI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hen Does the TRANSIENT DIE OUT 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2590920"/>
            <a:ext cx="9144000" cy="356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3" name=""/>
          <p:cNvGraphicFramePr/>
          <p:nvPr/>
        </p:nvGraphicFramePr>
        <p:xfrm>
          <a:off x="6095880" y="5486400"/>
          <a:ext cx="2697120" cy="76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5880" y="5486400"/>
                    <a:ext cx="2697120" cy="76500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2DB3-F706-4340-BE5B-D9CB8F70DCC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BEF993-684B-445D-8CFE-04E55FE669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TABILITY CONDI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LL POLES INSIDE the UNIT CIRCL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UNSTABLE EXAMPL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9144000" cy="31464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296760" y="2514600"/>
            <a:ext cx="222732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OLE @ z=1.1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848720" y="2895480"/>
            <a:ext cx="228600" cy="381240"/>
          </a:xfrm>
          <a:prstGeom prst="upArrow">
            <a:avLst>
              <a:gd name="adj1" fmla="val 50000"/>
              <a:gd name="adj2" fmla="val 41693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708120" y="3809880"/>
          <a:ext cx="3178080" cy="42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120" y="3809880"/>
                    <a:ext cx="3178080" cy="42084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9487-1A31-4CD8-97C5-19392C43C74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517E95-94D0-4526-9EED-33FFCD0056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BONUS QUES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input i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n find y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2438280" y="1676520"/>
          <a:ext cx="4038840" cy="13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676520"/>
                    <a:ext cx="4038840" cy="134784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132000" y="3371760"/>
                <a:ext cx="54784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πn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π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3733920" y="4800600"/>
                <a:ext cx="20574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C372-CA52-4E5E-864A-520927F482B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6FBC8B-14C8-46FA-BA21-DB77CD5E8D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ransient-SteadyState" descr=""/>
          <p:cNvPicPr/>
          <p:nvPr/>
        </p:nvPicPr>
        <p:blipFill>
          <a:blip r:embed="rId1"/>
          <a:stretch/>
        </p:blipFill>
        <p:spPr>
          <a:xfrm>
            <a:off x="685800" y="1128600"/>
            <a:ext cx="7858080" cy="55771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ransient &amp; Steady Stat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4581360" y="3200400"/>
          <a:ext cx="1133640" cy="63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81360" y="3200400"/>
                    <a:ext cx="1133640" cy="63828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8153280" y="2590920"/>
                <a:ext cx="8510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13F0-E3FD-4CB7-80CE-A8933619B359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287209-7032-4FBA-A8C5-B9D3023485A4}" type="datetime1">
              <a:rPr lang="en-US"/>
              <a:t>07/30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ALCULATE the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65240" y="1695600"/>
            <a:ext cx="8813520" cy="3466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 flipH="1">
            <a:off x="5028840" y="2590920"/>
            <a:ext cx="1676520" cy="13716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6095880" y="2209680"/>
                <a:ext cx="129708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1749600" y="5289480"/>
            <a:ext cx="409572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se the Z-Transform Metho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 PARTIAL FRACTION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DBE2-9F5D-47BE-8FFE-55931A4B1E51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C8CBC7-071D-4E61-89FF-70FBC9C21A3B}" type="datetime1">
              <a:rPr lang="en-US"/>
              <a:t>07/30/2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GENERAL INVERSE Z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0" y="1825560"/>
            <a:ext cx="9144000" cy="42703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4876920" y="5715000"/>
            <a:ext cx="304560" cy="685800"/>
          </a:xfrm>
          <a:prstGeom prst="upArrow">
            <a:avLst>
              <a:gd name="adj1" fmla="val 50000"/>
              <a:gd name="adj2" fmla="val 56294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355440" y="5486400"/>
            <a:ext cx="1741320" cy="70344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(pole)</a:t>
            </a:r>
            <a:r>
              <a:rPr b="1" lang="en-US" sz="4000" spc="-1" strike="noStrike" baseline="30000">
                <a:solidFill>
                  <a:srgbClr val="333399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AED9-2DC6-4097-B9F5-D4821375C978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DE510B-95AC-4D95-A5D2-07207DD3B513}" type="datetime1">
              <a:rPr lang="en-US"/>
              <a:t>07/30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PLIT  Y(z) to INVER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3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eed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UM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of Terms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133200" y="2362320"/>
            <a:ext cx="8877600" cy="39369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581280" y="5334120"/>
            <a:ext cx="457200" cy="685800"/>
          </a:xfrm>
          <a:prstGeom prst="ellipse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590920" y="2209680"/>
            <a:ext cx="1143000" cy="30481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AB1B-1A3C-4F70-9C25-2D3A009F956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A0825-6E2B-4821-8038-3DEF8E8644E7}" type="datetime1">
              <a:rPr lang="en-US"/>
              <a:t>07/30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NVERT Y(z) to y[n]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Use the Z-Transform Tabl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0" y="4923000"/>
            <a:ext cx="9144000" cy="109692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1454040" y="2514600"/>
            <a:ext cx="6235920" cy="1536840"/>
          </a:xfrm>
          <a:prstGeom prst="rect">
            <a:avLst/>
          </a:prstGeom>
          <a:ln w="0">
            <a:noFill/>
          </a:ln>
        </p:spPr>
      </p:pic>
      <p:grpSp>
        <p:nvGrpSpPr>
          <p:cNvPr id="331" name=""/>
          <p:cNvGrpSpPr/>
          <p:nvPr/>
        </p:nvGrpSpPr>
        <p:grpSpPr>
          <a:xfrm>
            <a:off x="6019920" y="3352680"/>
            <a:ext cx="1828800" cy="1981440"/>
            <a:chOff x="6019920" y="3352680"/>
            <a:chExt cx="1828800" cy="1981440"/>
          </a:xfrm>
        </p:grpSpPr>
        <p:sp>
          <p:nvSpPr>
            <p:cNvPr id="332" name=""/>
            <p:cNvSpPr/>
            <p:nvPr/>
          </p:nvSpPr>
          <p:spPr>
            <a:xfrm flipH="1">
              <a:off x="6019920" y="3352680"/>
              <a:ext cx="304560" cy="175284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81680" y="3809880"/>
              <a:ext cx="1067040" cy="152424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209680" y="3200400"/>
            <a:ext cx="1752480" cy="2133720"/>
            <a:chOff x="2209680" y="3200400"/>
            <a:chExt cx="1752480" cy="2133720"/>
          </a:xfrm>
        </p:grpSpPr>
        <p:sp>
          <p:nvSpPr>
            <p:cNvPr id="335" name=""/>
            <p:cNvSpPr/>
            <p:nvPr/>
          </p:nvSpPr>
          <p:spPr>
            <a:xfrm flipH="1">
              <a:off x="2209680" y="3200400"/>
              <a:ext cx="990720" cy="17524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3657240" y="3886200"/>
              <a:ext cx="304920" cy="144792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CAE6-FEB6-4632-A967-29132E6D577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14E4F-B093-426F-97B7-03723932AEED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ECTURE OBJECTIV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ECOND-ORDER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IR FILTER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WO FEEDBACK TERM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(z) can have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OMPLEX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OLE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&amp; ZERO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REE-DOMAIN APPROACH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PFs have POLES NEAR THE UNIT CIRCL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80880" y="2895480"/>
          <a:ext cx="8255160" cy="12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895480"/>
                    <a:ext cx="8255160" cy="1276560"/>
                  </a:xfrm>
                  <a:prstGeom prst="rect">
                    <a:avLst/>
                  </a:prstGeom>
                  <a:ln w="324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D543-5F02-400D-889B-6D7068A75C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608FF7-C75C-42D4-B464-7B54FADCB6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WO PARTS of y[n]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95600"/>
            <a:ext cx="6324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TRANSIEN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cts Like (pole)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es out 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F |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|&lt;1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4397400" y="2057400"/>
          <a:ext cx="4289400" cy="17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7400" y="2057400"/>
                    <a:ext cx="4289400" cy="179712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4307040" y="5084640"/>
          <a:ext cx="4721040" cy="162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07040" y="5084640"/>
                    <a:ext cx="4721040" cy="162108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431640" y="3886200"/>
            <a:ext cx="81788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STEADY-STATE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pends on the inpu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.g., Sinusoidal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6BE4-E229-4D92-9EF6-DD0063CE35A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FAD9AF-7725-42DB-8019-A576345358B2}" type="datetime1">
              <a:rPr lang="en-US"/>
              <a:t>07/30/26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TEADY STATE HAPPEN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hen Transient dies ou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imit as “n” approaches infinity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Use Frequency Response to get Magnitude &amp; Phase for sinusoid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52280" y="4419720"/>
          <a:ext cx="8915400" cy="163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419720"/>
                    <a:ext cx="8915400" cy="163188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6400800" y="4572000"/>
            <a:ext cx="1676520" cy="1371600"/>
          </a:xfrm>
          <a:prstGeom prst="ellipse">
            <a:avLst/>
          </a:prstGeom>
          <a:noFill/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CFC0-EEC8-4969-850A-2CC56DA9E42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7016EB-F28A-4DE9-966A-DBEE3A6DD2C5}" type="datetime1">
              <a:rPr lang="en-US"/>
              <a:t>07/30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NUMERICAL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8839440" cy="434844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2590920" y="5410080"/>
            <a:ext cx="609480" cy="838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5638680" y="6172200"/>
          <a:ext cx="2157480" cy="31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6172200"/>
                    <a:ext cx="2157480" cy="31608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431F-12C9-4795-98C6-95B4CC62C91E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A0B293-CD30-4884-B112-D9D40623F048}" type="datetime1">
              <a:rPr lang="en-US"/>
              <a:t>07/30/26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ALISTIC FIR BANDPAS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 = 24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=23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3 zero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6324840" cy="538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3219-8994-4B7A-A905-CF6C7AC5FE7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27E04E-94B6-4610-98DC-DAA3D9FA56C3}" type="datetime1">
              <a:rPr lang="en-US"/>
              <a:t>07/30/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IR BPF: 23 ZERO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828800" y="1434960"/>
            <a:ext cx="5931000" cy="53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52E0-B468-4071-A082-1816D1936BE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C1649B-CC10-4473-B6B9-AF3646312909}" type="datetime1">
              <a:rPr lang="en-US"/>
              <a:t>07/30/26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mplex POLE-ZERO PLO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914400" y="1380960"/>
            <a:ext cx="5791320" cy="547704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 flipH="1">
            <a:off x="6324480" y="5486400"/>
            <a:ext cx="1067040" cy="8380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6858000" y="4572000"/>
                <a:ext cx="198108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0A44-2639-4E50-B120-0018A3492AF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608455-1C57-45A1-BC13-FE9D4CE15FFA}" type="datetime1">
              <a:rPr lang="en-US"/>
              <a:t>07/30/26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OLES &amp; ZEROS of II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2057400" y="1390680"/>
            <a:ext cx="5222880" cy="53150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6867720" y="4267080"/>
            <a:ext cx="125352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 POL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F6F1-F2DE-4779-B638-35CAFBC29ED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64C31C-B88D-4CEE-98C5-D354BA9665C3}" type="datetime1">
              <a:rPr lang="en-US"/>
              <a:t>07/30/2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IR Elliptic LPF  (N=3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1066680" y="1395360"/>
            <a:ext cx="7353360" cy="5286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314640" y="3886200"/>
            <a:ext cx="125352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 POL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ADD0-455C-463A-AEBB-F97460F777D0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ADFD4-1B58-4686-A3DC-76F1D2BEF961}" type="datetime1">
              <a:rPr lang="en-US"/>
              <a:t>07/30/26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3-D VIEW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70" name=""/>
          <p:cNvSpPr/>
          <p:nvPr/>
        </p:nvSpPr>
        <p:spPr>
          <a:xfrm>
            <a:off x="-152280" y="531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1692360" y="1239840"/>
            <a:ext cx="5943600" cy="56181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 flipV="1">
            <a:off x="1387440" y="5410080"/>
            <a:ext cx="1523880" cy="60984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0480" y="5943600"/>
            <a:ext cx="179316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UNIT CIRCL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86200" y="1828800"/>
            <a:ext cx="3256200" cy="106884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VALUATE H(z)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VERYWHERE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6172200" y="2286000"/>
          <a:ext cx="2825640" cy="1266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2286000"/>
                    <a:ext cx="2825640" cy="126684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F1E5-C9F0-4F4B-A927-306ED4089993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219A7C-3FA4-461D-9BC9-7AC558187900}" type="datetime1">
              <a:rPr lang="en-US"/>
              <a:t>07/30/26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34080" cy="47703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LYING THRU Z-PLAN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79" name=""/>
          <p:cNvSpPr/>
          <p:nvPr/>
        </p:nvSpPr>
        <p:spPr>
          <a:xfrm>
            <a:off x="245160" y="5105520"/>
            <a:ext cx="1974600" cy="70380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LES CAUS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AKS in H(z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518240" y="2666880"/>
            <a:ext cx="71100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(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796840" y="3733920"/>
            <a:ext cx="66384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(z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3164-2163-485D-9301-8DDBDAF9F86F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1E7082-F7A3-437C-B266-29B1801948B9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HREE DOMAIN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147840" y="3587760"/>
          <a:ext cx="2490840" cy="121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7840" y="3587760"/>
                    <a:ext cx="24908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2514600" y="4800600"/>
            <a:ext cx="3962520" cy="0"/>
          </a:xfrm>
          <a:prstGeom prst="line">
            <a:avLst/>
          </a:prstGeom>
          <a:ln w="7632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514600" y="1676520"/>
            <a:ext cx="5888520" cy="3124080"/>
            <a:chOff x="2514600" y="1676520"/>
            <a:chExt cx="5888520" cy="3124080"/>
          </a:xfrm>
        </p:grpSpPr>
        <p:sp>
          <p:nvSpPr>
            <p:cNvPr id="99" name=""/>
            <p:cNvSpPr/>
            <p:nvPr/>
          </p:nvSpPr>
          <p:spPr>
            <a:xfrm>
              <a:off x="2669040" y="1676520"/>
              <a:ext cx="573408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Z-TRANSFORM-DOMAIN: poles &amp; zero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29200" y="2131920"/>
              <a:ext cx="312408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POLYNOMIALS: H(z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14600" y="2209680"/>
              <a:ext cx="3962520" cy="2590920"/>
            </a:xfrm>
            <a:custGeom>
              <a:avLst/>
              <a:gdLst/>
              <a:ahLst/>
              <a:rect l="l" t="t" r="r" b="b"/>
              <a:pathLst>
                <a:path w="2496" h="1632">
                  <a:moveTo>
                    <a:pt x="0" y="1632"/>
                  </a:moveTo>
                  <a:lnTo>
                    <a:pt x="1152" y="0"/>
                  </a:lnTo>
                  <a:lnTo>
                    <a:pt x="2496" y="1632"/>
                  </a:lnTo>
                </a:path>
              </a:pathLst>
            </a:custGeom>
            <a:noFill/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209680" y="2438280"/>
            <a:ext cx="4571640" cy="1523880"/>
            <a:chOff x="2209680" y="2438280"/>
            <a:chExt cx="4571640" cy="1523880"/>
          </a:xfrm>
        </p:grpSpPr>
        <p:sp>
          <p:nvSpPr>
            <p:cNvPr id="103" name=""/>
            <p:cNvSpPr/>
            <p:nvPr/>
          </p:nvSpPr>
          <p:spPr>
            <a:xfrm flipH="1">
              <a:off x="2209680" y="2438280"/>
              <a:ext cx="1067040" cy="14479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5790960" y="2742840"/>
              <a:ext cx="990360" cy="12193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59040" y="1752480"/>
            <a:ext cx="2090160" cy="703800"/>
          </a:xfrm>
          <a:prstGeom prst="rect">
            <a:avLst/>
          </a:prstGeom>
          <a:solidFill>
            <a:srgbClr val="ccecff"/>
          </a:solidFill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Use H(z) to ge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Freq. Respons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6858000" y="2819520"/>
                <a:ext cx="16765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80880" y="2590920"/>
                <a:ext cx="279252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l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8" name=""/>
          <p:cNvGrpSpPr/>
          <p:nvPr/>
        </p:nvGrpSpPr>
        <p:grpSpPr>
          <a:xfrm>
            <a:off x="5791320" y="4419720"/>
            <a:ext cx="3276360" cy="2415960"/>
            <a:chOff x="5791320" y="4419720"/>
            <a:chExt cx="3276360" cy="2415960"/>
          </a:xfrm>
        </p:grpSpPr>
        <p:sp>
          <p:nvSpPr>
            <p:cNvPr id="109" name=""/>
            <p:cNvSpPr/>
            <p:nvPr/>
          </p:nvSpPr>
          <p:spPr>
            <a:xfrm>
              <a:off x="6554160" y="4419720"/>
              <a:ext cx="234792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FREQ-DOMAIN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5791320" y="4910040"/>
                  <a:ext cx="3276360" cy="192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M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nary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ω</m:t>
                                  </m:r>
                                </m:e>
                              </m:acc>
                              <m:r>
                                <m:t xml:space="preserve"> </m:t>
                              </m:r>
                              <m:r>
                                <m:t xml:space="preserve">k</m:t>
                              </m:r>
                            </m:sup>
                          </m:sSup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ℓ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ℓ</m:t>
                                  </m:r>
                                </m:sub>
                              </m:sSub>
                            </m:e>
                          </m:nary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ω</m:t>
                                  </m:r>
                                </m:e>
                              </m:acc>
                              <m:r>
                                <m:t xml:space="preserve"> </m:t>
                              </m:r>
                              <m:r>
                                <m:t xml:space="preserve">ℓ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1" name=""/>
          <p:cNvSpPr/>
          <p:nvPr/>
        </p:nvSpPr>
        <p:spPr>
          <a:xfrm>
            <a:off x="229320" y="4479840"/>
            <a:ext cx="223056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IME-DOMAI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3360" y="5029200"/>
                <a:ext cx="504216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ℓ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ℓ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ℓ</m:t>
                        </m:r>
                        <m:r>
                          <m:t xml:space="preserve">]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E688-6B0B-4518-AE7E-77516026779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A59318-AC32-488E-BB9B-1B4E4E56C0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Z-TRANSFORM TABL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5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500E-340D-4FAA-A492-F8EDB168F4B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D53BC0-17F0-4F63-B9C0-18F95280D7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ECOND-ORDER FILTER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wo FEEDBACK TER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2606760"/>
            <a:ext cx="8381880" cy="1355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752480" y="4402080"/>
            <a:ext cx="5732640" cy="154152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2438280" y="2209680"/>
            <a:ext cx="0" cy="38124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52880" y="2209680"/>
            <a:ext cx="0" cy="38124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803D-02CE-4656-B869-8E7B7BD720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86F7D6-0C37-4CBE-A203-0FAD587A9A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MORE POL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nominator is QUADRATIC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 Poles: REA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r  COMPLEX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ONJUGAT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4064040"/>
            <a:ext cx="9144000" cy="2260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400800" y="2286000"/>
            <a:ext cx="2590920" cy="121608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graphicFrame>
        <p:nvGraphicFramePr>
          <p:cNvPr id="125" name=""/>
          <p:cNvGraphicFramePr/>
          <p:nvPr/>
        </p:nvGraphicFramePr>
        <p:xfrm>
          <a:off x="228600" y="3714840"/>
          <a:ext cx="7924680" cy="131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714840"/>
                    <a:ext cx="7924680" cy="1314360"/>
                  </a:xfrm>
                  <a:prstGeom prst="rect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D9D2-2231-46DF-B8BA-FDC9504CCA9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293BD4-91A3-4058-B3F3-D2BB9E32A1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WO </a:t>
            </a:r>
            <a:r>
              <a:rPr b="0" lang="en-US" sz="4000" spc="-1" strike="noStrike">
                <a:solidFill>
                  <a:srgbClr val="ff6600"/>
                </a:solidFill>
                <a:latin typeface="Arial Black"/>
              </a:rPr>
              <a:t>COMPLEX</a:t>
            </a: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 POL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d Impulse Response 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n OSCILLATE vs. 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SONANCE”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d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FREQUENCY RESPONS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pends on Pole Loca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ose to the Unit Circle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ke 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BANDPASS FILTE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962520" y="2990880"/>
                <a:ext cx="45939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</m:t>
                                </m:r>
                              </m:e>
                              <m:sup>
                                <m:r>
                                  <m:t xml:space="preserve">jq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r>
                          <m:t xml:space="preserve">q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4876920" y="2265480"/>
            <a:ext cx="3543120" cy="801720"/>
          </a:xfrm>
          <a:custGeom>
            <a:avLst/>
            <a:gdLst/>
            <a:ahLst/>
            <a:rect l="l" t="t" r="r" b="b"/>
            <a:pathLst>
              <a:path w="2328" h="505">
                <a:moveTo>
                  <a:pt x="0" y="217"/>
                </a:moveTo>
                <a:cubicBezTo>
                  <a:pt x="420" y="157"/>
                  <a:pt x="840" y="97"/>
                  <a:pt x="1200" y="73"/>
                </a:cubicBezTo>
                <a:cubicBezTo>
                  <a:pt x="1560" y="49"/>
                  <a:pt x="1991" y="0"/>
                  <a:pt x="2160" y="73"/>
                </a:cubicBezTo>
                <a:cubicBezTo>
                  <a:pt x="2328" y="145"/>
                  <a:pt x="2268" y="325"/>
                  <a:pt x="2208" y="50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257880" y="4681440"/>
          <a:ext cx="2276640" cy="14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7880" y="4681440"/>
                    <a:ext cx="2276640" cy="143352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3C91-C156-43F6-8BB7-AA42241876F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1D1F9D-7381-438A-881B-45F16AF32F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9T04:53:29Z</dcterms:created>
  <dc:creator>Jim McClellan</dc:creator>
  <dc:description/>
  <dc:language>en-US</dc:language>
  <cp:lastModifiedBy>Jim McClellan</cp:lastModifiedBy>
  <cp:lastPrinted>1998-11-30T13:48:12Z</cp:lastPrinted>
  <dcterms:modified xsi:type="dcterms:W3CDTF">2004-04-18T12:34:41Z</dcterms:modified>
  <cp:revision>376</cp:revision>
  <dc:subject/>
  <dc:title>SPFirst Lecture #1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users.ece.gatech.edu/mcclella</vt:lpwstr>
  </property>
  <property fmtid="{D5CDD505-2E9C-101B-9397-08002B2CF9AE}" pid="9" name="LinkColor">
    <vt:r8>16711782</vt:r8>
  </property>
  <property fmtid="{D5CDD505-2E9C-101B-9397-08002B2CF9AE}" pid="10" name="MailAddress">
    <vt:lpwstr>jim.mcclellan@ece.gatech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D: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