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14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1.wmf" ContentType="image/x-wmf"/>
  <Override PartName="/ppt/media/image19.wmf" ContentType="image/x-wmf"/>
  <Override PartName="/ppt/media/image61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72.wmf" ContentType="image/x-wmf"/>
  <Override PartName="/ppt/media/image2.png" ContentType="image/png"/>
  <Override PartName="/ppt/media/image16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69.wmf" ContentType="image/x-wmf"/>
  <Override PartName="/ppt/media/image32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66.wmf" ContentType="image/x-wmf"/>
  <Override PartName="/ppt/media/image26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7.png" ContentType="image/png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8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60.wmf" ContentType="image/x-wmf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FC1-7236-40BE-9B96-F2614316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46D-694B-410F-A9CA-6C0179DA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259-453B-4CB9-AB5E-EE27B4E2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144-5737-45F8-AF53-DC01B4FF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138A-6F62-4D09-BB96-071AE331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75C2-D91D-4682-9D62-F9E9D2B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6565-B918-43E4-8DCE-C6EC57A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04E-A05C-4C3B-9987-8FCB59B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92D2-8CB5-41AC-9A2A-2026B17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C91D-8943-44E7-8A7D-77F313A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D025-9888-4891-9BF7-83B5BE72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B83-14F8-4DDE-9394-073BDCC1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1A3-9EB3-4856-B3D0-19DAA71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E23-E5BD-48EC-B08B-5242729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4B53-D8E0-44C5-BB07-F41F8C0F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952-B1CD-4019-88AA-90D2A1B9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5ED-7161-46B1-A316-44511DC9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356-355F-4D90-86DA-0EFBA88B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677-4EBB-4DDB-ABFA-4E37497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B48-06DB-4060-8AA0-88A2E35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591-F687-42C5-B338-B70E1C2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A18-18F3-4BAB-B950-7E7D2BAE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C3A-047E-436B-852F-DD91837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35E-2C75-42E2-9424-9228879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DD7E-9AC5-4FB4-AD71-07FF4ADB353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269-F669-432C-861B-C6EE5C503B5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D45-6788-4C97-9096-6EDE9B4A21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C33-BAE2-4EE2-B8F6-BE90FF574C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erti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3157-172B-4DB6-A9C6-8A4D95E9B8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DA684D-5E36-4ADA-857F-264DA9B99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6" name="impulse_FT" descr=""/>
          <p:cNvPicPr/>
          <p:nvPr/>
        </p:nvPicPr>
        <p:blipFill>
          <a:blip r:embed="rId1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152280"/>
                <a:ext cx="86868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4920" y="1905120"/>
                <a:ext cx="1431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279-9BCD-4998-B98C-AB888FB4D3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5696-CC13-4395-834A-C881721354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16120" y="6008760"/>
                <a:ext cx="7665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38080" y="5029200"/>
                <a:ext cx="7620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38080" y="3449520"/>
                <a:ext cx="693432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073240"/>
                <a:ext cx="6477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890640"/>
                <a:ext cx="5975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329-7B87-49DF-BAFE-DCB892A2CD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10FCA-D18C-4528-92C3-008636056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26" name="cosine_FT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5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4440" y="304920"/>
                <a:ext cx="8766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0AC-C477-479B-B1AA-D1421B5973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083A3-EC59-4C92-A68D-39598E74D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of a General Periodic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periodic with perio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2438280"/>
                <a:ext cx="73990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4038480"/>
                <a:ext cx="7589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refore, since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28800" y="5029200"/>
                <a:ext cx="56642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09F-AC6B-4D5A-82B7-43CF863ACF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042F5-5DEB-466A-A74E-1A5320193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138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2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D3A-704B-4CA1-B52B-ECEE5CDC28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B5FA7-85E1-4E27-B543-9ABE0CB6E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1762200"/>
            <a:ext cx="8686800" cy="4867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3933720"/>
          <a:ext cx="38098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33720"/>
                    <a:ext cx="3809880" cy="852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457200" y="1828800"/>
            <a:ext cx="8203680" cy="1600200"/>
            <a:chOff x="457200" y="1828800"/>
            <a:chExt cx="8203680" cy="1600200"/>
          </a:xfrm>
        </p:grpSpPr>
        <p:graphicFrame>
          <p:nvGraphicFramePr>
            <p:cNvPr id="163" name=""/>
            <p:cNvGraphicFramePr/>
            <p:nvPr/>
          </p:nvGraphicFramePr>
          <p:xfrm>
            <a:off x="457200" y="1828800"/>
            <a:ext cx="21715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1828800"/>
                      <a:ext cx="2171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5943240" y="304812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43240" y="304812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723600" y="304812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3600" y="304812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2412720" y="3048120"/>
            <a:ext cx="55836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12720" y="3048120"/>
                      <a:ext cx="5583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7543440" y="3048120"/>
            <a:ext cx="5331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43440" y="3048120"/>
                      <a:ext cx="5331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4343040" y="307332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43040" y="307332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8534160" y="3048120"/>
            <a:ext cx="12672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34160" y="3048120"/>
                      <a:ext cx="12672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EE2-78A1-43C8-805B-D4FF4E6E9E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FE8A4-EB19-4B7B-A917-C4F1D12FF2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E40-6927-402C-B8E4-01C25B36B5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674A5-70D1-4AAA-9ED6-B3A27C9B76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82760" y="5505480"/>
                <a:ext cx="7951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hrinks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a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74720" y="2438280"/>
                <a:ext cx="721512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dλ</m:t>
                                </m:r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3800" y="1447920"/>
                <a:ext cx="3881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E6F-B5CB-41D7-85BB-1001B9E221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DDED2-8EBF-44F9-A762-C8323E999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2257560"/>
            <a:ext cx="7772400" cy="44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1219320"/>
                <a:ext cx="38811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4838760"/>
                <a:ext cx="259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A5B-F137-41D3-88FD-C22261F7EC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00B2E-2CC6-4948-8C2B-D83254FBCE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certainty Princi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t) shor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j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will get wid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rrow pulses have wide bandwid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j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 narrow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t) will have longer du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annot simultaneously reduce time duration and bandwid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6FD-C238-4725-8F1B-8C4BCC4B02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8043D-F263-4309-B1F4-054141E36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3A0-B49D-4AD3-90CD-EA2B49BC31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C7D63-4AA0-4167-ADB2-35C69F824427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ificant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76720" y="388620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09960" y="5008680"/>
            <a:ext cx="5405040" cy="1620720"/>
            <a:chOff x="309960" y="5008680"/>
            <a:chExt cx="5405040" cy="1620720"/>
          </a:xfrm>
        </p:grpSpPr>
        <p:graphicFrame>
          <p:nvGraphicFramePr>
            <p:cNvPr id="210" name=""/>
            <p:cNvGraphicFramePr/>
            <p:nvPr/>
          </p:nvGraphicFramePr>
          <p:xfrm>
            <a:off x="1523880" y="550872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50872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309960" y="5008680"/>
              <a:ext cx="3587040" cy="459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022-2573-4624-A9F1-785C208305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3B935-EAE0-48A8-AE68-70CE37618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5040" y="152388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981080" y="4267080"/>
          <a:ext cx="4953240" cy="9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267080"/>
                    <a:ext cx="4953240" cy="959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724280" y="5972040"/>
          <a:ext cx="396252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5972040"/>
                    <a:ext cx="3962520" cy="42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323040" y="1981080"/>
          <a:ext cx="25160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3040" y="1981080"/>
                    <a:ext cx="2516040" cy="390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838080" y="1981080"/>
          <a:ext cx="6098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81080"/>
                    <a:ext cx="609840" cy="352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4120" y="3124080"/>
          <a:ext cx="350496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124080"/>
                    <a:ext cx="3504960" cy="3780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838080" y="312408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12408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E68-7248-4310-B484-B0D9CF3620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DC62B-6CC1-4898-BC2C-4F8493CB89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dlimited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nc” fun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l LPF (Lowpass Filter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a “sinc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Bandlimit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ve “sinc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10A-5EC9-4310-BD8D-F1F46A011C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54F24-B8A3-4CED-9755-732EF1AF8D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ly Bandlimited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1066680"/>
                <a:ext cx="72388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2" name="pulse_trans" descr=""/>
          <p:cNvPicPr/>
          <p:nvPr/>
        </p:nvPicPr>
        <p:blipFill>
          <a:blip r:embed="rId1"/>
          <a:stretch/>
        </p:blipFill>
        <p:spPr>
          <a:xfrm>
            <a:off x="1447920" y="2519280"/>
            <a:ext cx="6172200" cy="426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33520" y="3124080"/>
                <a:ext cx="1622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AB2-BA95-4536-A520-5BCD4415A1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7451E-6718-432D-BE94-FB2C8BED9E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4064040"/>
            <a:ext cx="8686800" cy="27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990720" y="2684520"/>
          <a:ext cx="514656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684520"/>
                    <a:ext cx="5146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676520" y="1693800"/>
          <a:ext cx="553248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693800"/>
                    <a:ext cx="5532480" cy="515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364440" y="2684520"/>
          <a:ext cx="217008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64440" y="2684520"/>
                    <a:ext cx="21700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0A7-531A-43F9-878A-D15FDAA620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0F795-08D0-401F-A0F4-6E4833B610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CA5-0AEB-4ECD-AFF7-A9FE79D711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5D829-D623-47F8-BD25-BFBD22D12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252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6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0A2-6465-443A-947D-79340DF28A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B3EEF-66B1-444C-8BB9-72080A79A5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274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278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C3A-7453-4636-B2E1-0421273DEC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9BE56-8583-4792-9376-A27767B153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C58-FF2F-4B64-B282-9FC339AE5D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05952-D1B4-4B02-B8C4-DCFB7C12C59C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89000" y="5486400"/>
          <a:ext cx="8574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548640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04920" y="2610000"/>
                <a:ext cx="8305560" cy="25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8D0-6459-478A-8322-BFB5CDB2C2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ECEB2-B84C-4102-993C-FA2102B6FF0E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5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bles in Section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11, Sects. 11-1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s: Chapter 12 (Application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164-15A2-4134-8DEF-F745A502C8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C62C0-63A0-41D0-AAF8-F28BBB875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025640" y="76320"/>
          <a:ext cx="7584840" cy="13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5640" y="76320"/>
                    <a:ext cx="7584840" cy="1326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310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117-1BA4-41E8-95FD-2D825DB425D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D8253-D60E-4A2C-9A2D-EFF05F85CCE8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09480" y="1752480"/>
          <a:ext cx="62485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6248520" cy="257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04920" y="4495680"/>
          <a:ext cx="609588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95680"/>
                    <a:ext cx="6095880" cy="1687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6858000" y="3200400"/>
            <a:ext cx="2057400" cy="2790720"/>
            <a:chOff x="6858000" y="3200400"/>
            <a:chExt cx="2057400" cy="2790720"/>
          </a:xfrm>
        </p:grpSpPr>
        <p:graphicFrame>
          <p:nvGraphicFramePr>
            <p:cNvPr id="322" name=""/>
            <p:cNvGraphicFramePr/>
            <p:nvPr/>
          </p:nvGraphicFramePr>
          <p:xfrm>
            <a:off x="6858000" y="4800600"/>
            <a:ext cx="2057400" cy="11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4800600"/>
                      <a:ext cx="2057400" cy="1190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7772400" y="3200400"/>
              <a:ext cx="457200" cy="1676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961680" y="2685960"/>
            <a:ext cx="198504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ltiply by j</a:t>
            </a:r>
            <a:r>
              <a:rPr b="1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2806560"/>
            <a:ext cx="3353040" cy="622440"/>
          </a:xfrm>
          <a:custGeom>
            <a:avLst/>
            <a:gdLst/>
            <a:ahLst/>
            <a:rect l="l" t="t" r="r" b="b"/>
            <a:pathLst>
              <a:path w="2112" h="392">
                <a:moveTo>
                  <a:pt x="2112" y="104"/>
                </a:moveTo>
                <a:cubicBezTo>
                  <a:pt x="1736" y="84"/>
                  <a:pt x="1360" y="64"/>
                  <a:pt x="1056" y="56"/>
                </a:cubicBezTo>
                <a:cubicBezTo>
                  <a:pt x="752" y="48"/>
                  <a:pt x="464" y="0"/>
                  <a:pt x="288" y="56"/>
                </a:cubicBezTo>
                <a:cubicBezTo>
                  <a:pt x="112" y="112"/>
                  <a:pt x="56" y="252"/>
                  <a:pt x="0" y="392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46C-DCFD-445A-957F-6C2CADF914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67554-107D-4478-84D9-D83B5CCA6FCE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304920" y="167652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852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57200" y="3014640"/>
          <a:ext cx="817884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14640"/>
                    <a:ext cx="81788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380880"/>
          <a:ext cx="849312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880"/>
                    <a:ext cx="8493120" cy="83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44520" y="4278240"/>
          <a:ext cx="8723160" cy="14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520" y="4278240"/>
                    <a:ext cx="87231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066680" y="5867280"/>
          <a:ext cx="75009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867280"/>
                    <a:ext cx="7500960" cy="790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668-6651-466F-B427-7930684F1B7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026FA-6088-402E-9427-59407C6812A2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7120" y="1600200"/>
          <a:ext cx="55944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1600200"/>
                    <a:ext cx="5594400" cy="77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28600" y="2790720"/>
          <a:ext cx="861048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790720"/>
                    <a:ext cx="86104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09480" y="5335560"/>
          <a:ext cx="79250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335560"/>
                    <a:ext cx="79250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B5E-9D20-4325-9869-B919325BC3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9620C-90C7-4C1F-9A07-CD1905E33D75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rategy for using the F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known Fourier transform pai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“theorems” or properties of the Fourier transform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skill in formulating the problem in either the time-domain or the frequency-domain,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hich ever leads to the simplest s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B5A-6BF0-421C-9EF9-4A2C034615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FE386-AF51-4FAB-A1A5-85551D014326}" type="datetime1">
              <a:rPr lang="en-US"/>
              <a:t>07/30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eriodic impulse train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43000" y="2362320"/>
          <a:ext cx="6388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6388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914400" y="3805200"/>
          <a:ext cx="76201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805200"/>
                    <a:ext cx="76201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227240" y="5348160"/>
          <a:ext cx="6773760" cy="13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7240" y="5348160"/>
                    <a:ext cx="6773760" cy="1357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669000" y="3276720"/>
          <a:ext cx="247500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9000" y="3276720"/>
                    <a:ext cx="2475000" cy="527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0C3-6750-41E4-9A18-35083D31BE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92D1-59B9-4F1C-8B95-085E503F158B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 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51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5181480" y="1600200"/>
          <a:ext cx="3149640" cy="9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600200"/>
                    <a:ext cx="3149640" cy="939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172200" y="3429000"/>
          <a:ext cx="228600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3429000"/>
                    <a:ext cx="2286000" cy="35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838080" y="1752480"/>
          <a:ext cx="317520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1752480"/>
                    <a:ext cx="317520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93F-88B3-47E4-ABAE-D27C3BBC8EA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D218E-2C38-4FDE-9DD3-D65AB1F6B5DF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Fourier trans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examples of  Fourier transform pai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ic properties of Fourier transfor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76360" y="2211480"/>
                <a:ext cx="558324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7A5-9660-4436-A4AB-CB6CF571E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A2F19-63AD-4524-B2F3-88572691D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3400560"/>
            <a:ext cx="7985880" cy="1577880"/>
            <a:chOff x="609480" y="3400560"/>
            <a:chExt cx="7985880" cy="1577880"/>
          </a:xfrm>
        </p:grpSpPr>
        <p:sp>
          <p:nvSpPr>
            <p:cNvPr id="96" name=""/>
            <p:cNvSpPr/>
            <p:nvPr/>
          </p:nvSpPr>
          <p:spPr>
            <a:xfrm>
              <a:off x="5415480" y="3587760"/>
              <a:ext cx="31798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3400560"/>
                  <a:ext cx="4419720" cy="15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609480" y="1752480"/>
            <a:ext cx="8308440" cy="1476360"/>
            <a:chOff x="609480" y="1752480"/>
            <a:chExt cx="8308440" cy="1476360"/>
          </a:xfrm>
        </p:grpSpPr>
        <p:sp>
          <p:nvSpPr>
            <p:cNvPr id="99" name=""/>
            <p:cNvSpPr/>
            <p:nvPr/>
          </p:nvSpPr>
          <p:spPr>
            <a:xfrm>
              <a:off x="5873760" y="1911240"/>
              <a:ext cx="304416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609480" y="1752480"/>
                  <a:ext cx="4800600" cy="14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0760" y="5210280"/>
                <a:ext cx="844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me-Domain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requency-Domai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706-01AF-488E-B0C8-EA97215D79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BB8D8-CEC4-4176-B07E-0BAB52A2B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WHY use the Fourier transform?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ipulate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“Frequency Spectrum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Communication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: Amplitude Modulation;  F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are the “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uilding Block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bstract Lay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 implement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al Filters: mostly BPF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hif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ka Modulators, Mixers or Multipliers:   x(t)p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9DC-ECD2-4DE8-845C-673729AAF6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E0F2-95DA-4D60-B7D2-D430DFC44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7E3-A6AD-4ED0-A612-571D8502CA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DFA62-C78F-4EDC-BAC4-A3C64991D7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0" name="pulse_FT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6934320" cy="522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49320"/>
                <a:ext cx="7467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154-1F46-493C-8C9F-6F95B97ADE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F9E43-1F5C-4F1E-BA56-25D68B754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3" name="pulse_trans" descr=""/>
          <p:cNvPicPr/>
          <p:nvPr/>
        </p:nvPicPr>
        <p:blipFill>
          <a:blip r:embed="rId1"/>
          <a:stretch/>
        </p:blipFill>
        <p:spPr>
          <a:xfrm>
            <a:off x="1219320" y="1701720"/>
            <a:ext cx="6629400" cy="507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62120" y="76320"/>
                <a:ext cx="73911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769-33FB-4B3B-AB24-9665C93CDA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3DD6C-CDEB-4217-94D9-60F4F2EDA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56Z</dcterms:modified>
  <cp:revision>450</cp:revision>
  <dc:subject/>
  <dc:title>SPFirst Lecture #2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